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6A5-DE94-439B-BB34-9CCB58C1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C1CF-AD27-489A-95B7-15823D8C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12079440" cy="7937640"/>
            <a:chOff x="54000" y="54000"/>
            <a:chExt cx="12079440" cy="7937640"/>
          </a:xfrm>
        </p:grpSpPr>
        <p:grpSp>
          <p:nvGrpSpPr>
            <p:cNvPr id="16" name=""/>
            <p:cNvGrpSpPr/>
            <p:nvPr/>
          </p:nvGrpSpPr>
          <p:grpSpPr>
            <a:xfrm>
              <a:off x="54000" y="54000"/>
              <a:ext cx="12079440" cy="7937640"/>
              <a:chOff x="54000" y="54000"/>
              <a:chExt cx="12079440" cy="7937640"/>
            </a:xfrm>
          </p:grpSpPr>
          <p:grpSp>
            <p:nvGrpSpPr>
              <p:cNvPr id="17" name="Group 103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8" name="Line 104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Text Box 105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118"/>
              <p:cNvGrpSpPr/>
              <p:nvPr/>
            </p:nvGrpSpPr>
            <p:grpSpPr>
              <a:xfrm>
                <a:off x="61920" y="1314360"/>
                <a:ext cx="10628280" cy="6677280"/>
                <a:chOff x="61920" y="1314360"/>
                <a:chExt cx="10628280" cy="6677280"/>
              </a:xfrm>
            </p:grpSpPr>
            <p:sp>
              <p:nvSpPr>
                <p:cNvPr id="21" name="Rectangle 57"/>
                <p:cNvSpPr/>
                <p:nvPr/>
              </p:nvSpPr>
              <p:spPr>
                <a:xfrm>
                  <a:off x="1438200" y="1440000"/>
                  <a:ext cx="9252000" cy="65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" name="Group 108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23" name="Line 109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Text Box 110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" name="Group 117"/>
              <p:cNvGrpSpPr/>
              <p:nvPr/>
            </p:nvGrpSpPr>
            <p:grpSpPr>
              <a:xfrm>
                <a:off x="61920" y="1547640"/>
                <a:ext cx="10522080" cy="6336000"/>
                <a:chOff x="61920" y="1547640"/>
                <a:chExt cx="10522080" cy="6336000"/>
              </a:xfrm>
            </p:grpSpPr>
            <p:sp>
              <p:nvSpPr>
                <p:cNvPr id="26" name="Rectangle 49"/>
                <p:cNvSpPr/>
                <p:nvPr/>
              </p:nvSpPr>
              <p:spPr>
                <a:xfrm>
                  <a:off x="1547640" y="1547640"/>
                  <a:ext cx="9036360" cy="6336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" name="Group 11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28" name="Line 11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Text Box 11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0" name="Picture 11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11113920" y="1403280"/>
                <a:ext cx="1019520" cy="281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7×1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" name=""/>
            <p:cNvSpPr/>
            <p:nvPr/>
          </p:nvSpPr>
          <p:spPr>
            <a:xfrm>
              <a:off x="2158920" y="3057480"/>
              <a:ext cx="3240000" cy="216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【</a:t>
              </a:r>
              <a:r>
                <a:rPr b="1" lang="ja-JP" sz="2500" spc="-1" strike="noStrike">
                  <a:solidFill>
                    <a:srgbClr val="ff0000"/>
                  </a:solidFill>
                  <a:latin typeface="ＭＳ Ｐゴシック"/>
                </a:rPr>
                <a:t>非印字部分（宛名）</a:t>
              </a: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1-12-06T09:20:24Z</dcterms:modified>
  <cp:revision>19</cp:revision>
  <dc:subject/>
  <dc:title>スライド 1</dc:title>
</cp:coreProperties>
</file>