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431338" cy="12131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2095560" y="685440"/>
            <a:ext cx="2666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74BA-75D2-4917-9E0B-A49BE3DBC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720D-9A46-497D-9593-926753C48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2095560" y="685800"/>
            <a:ext cx="266688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600" y="651384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82112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34188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1180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160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34188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21180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71600" y="2838600"/>
            <a:ext cx="8488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8488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71600" y="483840"/>
            <a:ext cx="848844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2112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9640" y="1079640"/>
            <a:ext cx="7273800" cy="9974160"/>
            <a:chOff x="1079640" y="1079640"/>
            <a:chExt cx="7273800" cy="997416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606276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1068696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1079676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471312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79884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80964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6766200" cy="9466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Oval 92"/>
          <p:cNvSpPr/>
          <p:nvPr/>
        </p:nvSpPr>
        <p:spPr>
          <a:xfrm>
            <a:off x="8145360" y="10382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93"/>
          <p:cNvSpPr/>
          <p:nvPr/>
        </p:nvSpPr>
        <p:spPr>
          <a:xfrm>
            <a:off x="8143920" y="1084572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54000" y="54000"/>
            <a:ext cx="9379080" cy="10637640"/>
            <a:chOff x="54000" y="54000"/>
            <a:chExt cx="9379080" cy="10637640"/>
          </a:xfrm>
        </p:grpSpPr>
        <p:grpSp>
          <p:nvGrpSpPr>
            <p:cNvPr id="16" name=""/>
            <p:cNvGrpSpPr/>
            <p:nvPr/>
          </p:nvGrpSpPr>
          <p:grpSpPr>
            <a:xfrm>
              <a:off x="54000" y="54000"/>
              <a:ext cx="9379080" cy="10637640"/>
              <a:chOff x="54000" y="54000"/>
              <a:chExt cx="9379080" cy="10637640"/>
            </a:xfrm>
          </p:grpSpPr>
          <p:grpSp>
            <p:nvGrpSpPr>
              <p:cNvPr id="17" name="Group 78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18" name="Line 79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Text Box 80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Group 88"/>
              <p:cNvGrpSpPr/>
              <p:nvPr/>
            </p:nvGrpSpPr>
            <p:grpSpPr>
              <a:xfrm>
                <a:off x="61920" y="1314360"/>
                <a:ext cx="7929720" cy="9377280"/>
                <a:chOff x="61920" y="1314360"/>
                <a:chExt cx="7929720" cy="9377280"/>
              </a:xfrm>
            </p:grpSpPr>
            <p:sp>
              <p:nvSpPr>
                <p:cNvPr id="21" name="Rectangle 51"/>
                <p:cNvSpPr/>
                <p:nvPr/>
              </p:nvSpPr>
              <p:spPr>
                <a:xfrm>
                  <a:off x="1440000" y="1440000"/>
                  <a:ext cx="6551640" cy="92516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" name="Group 83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23" name="Line 84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Text Box 85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" name="Group 87"/>
              <p:cNvGrpSpPr/>
              <p:nvPr/>
            </p:nvGrpSpPr>
            <p:grpSpPr>
              <a:xfrm>
                <a:off x="61920" y="1547640"/>
                <a:ext cx="7821720" cy="9036360"/>
                <a:chOff x="61920" y="1547640"/>
                <a:chExt cx="7821720" cy="9036360"/>
              </a:xfrm>
            </p:grpSpPr>
            <p:sp>
              <p:nvSpPr>
                <p:cNvPr id="26" name="Rectangle 56"/>
                <p:cNvSpPr/>
                <p:nvPr/>
              </p:nvSpPr>
              <p:spPr>
                <a:xfrm>
                  <a:off x="1547640" y="1547640"/>
                  <a:ext cx="6336000" cy="90363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" name="Group 75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28" name="Line 76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Text Box 77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30" name="Picture 86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8413920" y="1459080"/>
                <a:ext cx="1019160" cy="2811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" name="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32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B5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82×257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5" name=""/>
            <p:cNvSpPr/>
            <p:nvPr/>
          </p:nvSpPr>
          <p:spPr>
            <a:xfrm>
              <a:off x="3094200" y="3417840"/>
              <a:ext cx="3240000" cy="2160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684000" bIns="684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38080"/>
                  <a:tab algn="l" pos="1676520"/>
                  <a:tab algn="l" pos="2514600"/>
                  <a:tab algn="l" pos="3352680"/>
                  <a:tab algn="l" pos="4191120"/>
                  <a:tab algn="l" pos="5029200"/>
                  <a:tab algn="l" pos="5867280"/>
                  <a:tab algn="l" pos="6705720"/>
                  <a:tab algn="l" pos="7543800"/>
                  <a:tab algn="l" pos="8381880"/>
                  <a:tab algn="l" pos="9220320"/>
                  <a:tab algn="l" pos="10058400"/>
                  <a:tab algn="l" pos="1089648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ＭＳ Ｐゴシック"/>
                </a:rPr>
                <a:t>【</a:t>
              </a:r>
              <a:r>
                <a:rPr b="1" lang="ja-JP" sz="2500" spc="-1" strike="noStrike">
                  <a:solidFill>
                    <a:srgbClr val="ff0000"/>
                  </a:solidFill>
                  <a:latin typeface="ＭＳ Ｐゴシック"/>
                </a:rPr>
                <a:t>非印字部分（宛名）</a:t>
              </a:r>
              <a:r>
                <a:rPr b="1" lang="en-US" sz="2500" spc="-1" strike="noStrike">
                  <a:solidFill>
                    <a:srgbClr val="ff0000"/>
                  </a:solidFill>
                  <a:latin typeface="ＭＳ Ｐゴシック"/>
                </a:rPr>
                <a:t>】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838080"/>
                  <a:tab algn="l" pos="1676520"/>
                  <a:tab algn="l" pos="2514600"/>
                  <a:tab algn="l" pos="3352680"/>
                  <a:tab algn="l" pos="4191120"/>
                  <a:tab algn="l" pos="5029200"/>
                  <a:tab algn="l" pos="5867280"/>
                  <a:tab algn="l" pos="6705720"/>
                  <a:tab algn="l" pos="7543800"/>
                  <a:tab algn="l" pos="8381880"/>
                  <a:tab algn="l" pos="9220320"/>
                  <a:tab algn="l" pos="10058400"/>
                  <a:tab algn="l" pos="1089648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宛名データが印字されるエリアとなります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838080"/>
                  <a:tab algn="l" pos="1676520"/>
                  <a:tab algn="l" pos="2514600"/>
                  <a:tab algn="l" pos="3352680"/>
                  <a:tab algn="l" pos="4191120"/>
                  <a:tab algn="l" pos="5029200"/>
                  <a:tab algn="l" pos="5867280"/>
                  <a:tab algn="l" pos="6705720"/>
                  <a:tab algn="l" pos="7543800"/>
                  <a:tab algn="l" pos="8381880"/>
                  <a:tab algn="l" pos="9220320"/>
                  <a:tab algn="l" pos="10058400"/>
                  <a:tab algn="l" pos="1089648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この枠内を避けてデータを作成してください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ser</cp:lastModifiedBy>
  <dcterms:modified xsi:type="dcterms:W3CDTF">2011-12-06T09:19:37Z</dcterms:modified>
  <cp:revision>19</cp:revision>
  <dc:subject/>
  <dc:title>スライド 1</dc:title>
</cp:coreProperties>
</file>