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97C-5D8B-433D-9843-4F030983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6E13-CED2-4160-A28F-2F120BDE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54000" y="54000"/>
            <a:ext cx="12079440" cy="7937640"/>
            <a:chOff x="54000" y="54000"/>
            <a:chExt cx="12079440" cy="7937640"/>
          </a:xfrm>
        </p:grpSpPr>
        <p:grpSp>
          <p:nvGrpSpPr>
            <p:cNvPr id="13" name="Group 103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14" name="Line 104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105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18"/>
            <p:cNvGrpSpPr/>
            <p:nvPr/>
          </p:nvGrpSpPr>
          <p:grpSpPr>
            <a:xfrm>
              <a:off x="61920" y="1314360"/>
              <a:ext cx="10628280" cy="6677280"/>
              <a:chOff x="61920" y="1314360"/>
              <a:chExt cx="10628280" cy="6677280"/>
            </a:xfrm>
          </p:grpSpPr>
          <p:sp>
            <p:nvSpPr>
              <p:cNvPr id="17" name="Rectangle 57"/>
              <p:cNvSpPr/>
              <p:nvPr/>
            </p:nvSpPr>
            <p:spPr>
              <a:xfrm>
                <a:off x="1438200" y="1440000"/>
                <a:ext cx="9252000" cy="6551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" name="Group 108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19" name="Line 109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Text Box 110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Group 117"/>
            <p:cNvGrpSpPr/>
            <p:nvPr/>
          </p:nvGrpSpPr>
          <p:grpSpPr>
            <a:xfrm>
              <a:off x="61920" y="1547640"/>
              <a:ext cx="10522080" cy="6336000"/>
              <a:chOff x="61920" y="1547640"/>
              <a:chExt cx="10522080" cy="6336000"/>
            </a:xfrm>
          </p:grpSpPr>
          <p:sp>
            <p:nvSpPr>
              <p:cNvPr id="22" name="Rectangle 49"/>
              <p:cNvSpPr/>
              <p:nvPr/>
            </p:nvSpPr>
            <p:spPr>
              <a:xfrm>
                <a:off x="1547640" y="1547640"/>
                <a:ext cx="9036360" cy="6336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Group 113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24" name="Line 114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Text Box 115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" name="Picture 116" descr="ぬりたし説明"/>
            <p:cNvPicPr/>
            <p:nvPr/>
          </p:nvPicPr>
          <p:blipFill>
            <a:blip r:embed="rId2"/>
            <a:stretch/>
          </p:blipFill>
          <p:spPr>
            <a:xfrm>
              <a:off x="11113920" y="1476360"/>
              <a:ext cx="1019520" cy="281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28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5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サイズ　横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7×182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" name="Oval 12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Oval 121"/>
          <p:cNvSpPr/>
          <p:nvPr/>
        </p:nvSpPr>
        <p:spPr>
          <a:xfrm>
            <a:off x="10863360" y="81532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0-06-02T09:58:07Z</dcterms:modified>
  <cp:revision>17</cp:revision>
  <dc:subject/>
  <dc:title>スライド 1</dc:title>
</cp:coreProperties>
</file>