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431338" cy="121316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sldImg"/>
          </p:nvPr>
        </p:nvSpPr>
        <p:spPr>
          <a:xfrm>
            <a:off x="2095560" y="685440"/>
            <a:ext cx="2666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r>
              <a:rPr b="0" lang="en-US" sz="3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9C73A-269E-4C7C-8B2C-5921B59136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72E6C-03C6-43CB-909E-B0A2A94673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2095560" y="685800"/>
            <a:ext cx="266688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71600" y="483840"/>
            <a:ext cx="84884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71600" y="2838600"/>
            <a:ext cx="84884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1600" y="6513840"/>
            <a:ext cx="84884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1600" y="483840"/>
            <a:ext cx="84884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1600" y="2838600"/>
            <a:ext cx="414216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21120" y="2838600"/>
            <a:ext cx="414216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1600" y="6513840"/>
            <a:ext cx="414216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821120" y="6513840"/>
            <a:ext cx="414216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71600" y="483840"/>
            <a:ext cx="84884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71600" y="2838600"/>
            <a:ext cx="273312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341880" y="2838600"/>
            <a:ext cx="273312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11800" y="2838600"/>
            <a:ext cx="273312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71600" y="6513840"/>
            <a:ext cx="273312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/>
          </p:nvPr>
        </p:nvSpPr>
        <p:spPr>
          <a:xfrm>
            <a:off x="3341880" y="6513840"/>
            <a:ext cx="273312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7"/>
          <p:cNvSpPr>
            <a:spLocks noGrp="1"/>
          </p:cNvSpPr>
          <p:nvPr>
            <p:ph/>
          </p:nvPr>
        </p:nvSpPr>
        <p:spPr>
          <a:xfrm>
            <a:off x="6211800" y="6513840"/>
            <a:ext cx="273312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71600" y="483840"/>
            <a:ext cx="84884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 type="subTitle"/>
          </p:nvPr>
        </p:nvSpPr>
        <p:spPr>
          <a:xfrm>
            <a:off x="471600" y="2838600"/>
            <a:ext cx="8488440" cy="703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71600" y="483840"/>
            <a:ext cx="84884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71600" y="2838600"/>
            <a:ext cx="8488440" cy="703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71600" y="483840"/>
            <a:ext cx="84884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71600" y="2838600"/>
            <a:ext cx="4142160" cy="703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21120" y="2838600"/>
            <a:ext cx="4142160" cy="703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1600" y="483840"/>
            <a:ext cx="84884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471600" y="483840"/>
            <a:ext cx="8488440" cy="938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74"/>
              </a:spcBef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1600" y="483840"/>
            <a:ext cx="84884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1600" y="2838600"/>
            <a:ext cx="414216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21120" y="2838600"/>
            <a:ext cx="4142160" cy="703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71600" y="6513840"/>
            <a:ext cx="414216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71600" y="483840"/>
            <a:ext cx="84884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71600" y="2838600"/>
            <a:ext cx="4142160" cy="703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21120" y="2838600"/>
            <a:ext cx="414216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821120" y="6513840"/>
            <a:ext cx="414216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71600" y="483840"/>
            <a:ext cx="84884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71600" y="2838600"/>
            <a:ext cx="414216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821120" y="2838600"/>
            <a:ext cx="414216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71600" y="6513840"/>
            <a:ext cx="84884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9640" y="1079640"/>
            <a:ext cx="7273800" cy="9974160"/>
            <a:chOff x="1079640" y="1079640"/>
            <a:chExt cx="7273800" cy="9974160"/>
          </a:xfrm>
        </p:grpSpPr>
        <p:sp>
          <p:nvSpPr>
            <p:cNvPr id="1" name="Line 24"/>
            <p:cNvSpPr/>
            <p:nvPr/>
          </p:nvSpPr>
          <p:spPr>
            <a:xfrm>
              <a:off x="1079640" y="1330200"/>
              <a:ext cx="7273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Line 25"/>
            <p:cNvSpPr/>
            <p:nvPr/>
          </p:nvSpPr>
          <p:spPr>
            <a:xfrm>
              <a:off x="1079640" y="1438200"/>
              <a:ext cx="7273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26"/>
            <p:cNvSpPr/>
            <p:nvPr/>
          </p:nvSpPr>
          <p:spPr>
            <a:xfrm>
              <a:off x="1079640" y="6062760"/>
              <a:ext cx="7273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Line 27"/>
            <p:cNvSpPr/>
            <p:nvPr/>
          </p:nvSpPr>
          <p:spPr>
            <a:xfrm>
              <a:off x="1079640" y="10686960"/>
              <a:ext cx="7273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Line 28"/>
            <p:cNvSpPr/>
            <p:nvPr/>
          </p:nvSpPr>
          <p:spPr>
            <a:xfrm>
              <a:off x="1079640" y="10796760"/>
              <a:ext cx="7273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Line 29"/>
            <p:cNvSpPr/>
            <p:nvPr/>
          </p:nvSpPr>
          <p:spPr>
            <a:xfrm>
              <a:off x="1330200" y="1079640"/>
              <a:ext cx="0" cy="9974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30"/>
            <p:cNvSpPr/>
            <p:nvPr/>
          </p:nvSpPr>
          <p:spPr>
            <a:xfrm>
              <a:off x="1438200" y="1079640"/>
              <a:ext cx="0" cy="9974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31"/>
            <p:cNvSpPr/>
            <p:nvPr/>
          </p:nvSpPr>
          <p:spPr>
            <a:xfrm>
              <a:off x="4713120" y="1079640"/>
              <a:ext cx="0" cy="9974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Line 32"/>
            <p:cNvSpPr/>
            <p:nvPr/>
          </p:nvSpPr>
          <p:spPr>
            <a:xfrm>
              <a:off x="7988400" y="1079640"/>
              <a:ext cx="0" cy="9974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Line 33"/>
            <p:cNvSpPr/>
            <p:nvPr/>
          </p:nvSpPr>
          <p:spPr>
            <a:xfrm>
              <a:off x="8096400" y="1079640"/>
              <a:ext cx="0" cy="9974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34"/>
            <p:cNvSpPr/>
            <p:nvPr/>
          </p:nvSpPr>
          <p:spPr>
            <a:xfrm>
              <a:off x="1330200" y="1330200"/>
              <a:ext cx="6766200" cy="94665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" name=""/>
          <p:cNvGrpSpPr/>
          <p:nvPr/>
        </p:nvGrpSpPr>
        <p:grpSpPr>
          <a:xfrm>
            <a:off x="54000" y="54000"/>
            <a:ext cx="9379080" cy="10637640"/>
            <a:chOff x="54000" y="54000"/>
            <a:chExt cx="9379080" cy="10637640"/>
          </a:xfrm>
        </p:grpSpPr>
        <p:grpSp>
          <p:nvGrpSpPr>
            <p:cNvPr id="13" name="Group 78"/>
            <p:cNvGrpSpPr/>
            <p:nvPr/>
          </p:nvGrpSpPr>
          <p:grpSpPr>
            <a:xfrm>
              <a:off x="61920" y="2800440"/>
              <a:ext cx="1260360" cy="539640"/>
              <a:chOff x="61920" y="2800440"/>
              <a:chExt cx="1260360" cy="539640"/>
            </a:xfrm>
          </p:grpSpPr>
          <p:sp>
            <p:nvSpPr>
              <p:cNvPr id="14" name="Line 79"/>
              <p:cNvSpPr/>
              <p:nvPr/>
            </p:nvSpPr>
            <p:spPr>
              <a:xfrm>
                <a:off x="871560" y="3070440"/>
                <a:ext cx="45072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Text Box 80"/>
              <p:cNvSpPr/>
              <p:nvPr/>
            </p:nvSpPr>
            <p:spPr>
              <a:xfrm>
                <a:off x="61920" y="2800440"/>
                <a:ext cx="936360" cy="539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696960"/>
                    <a:tab algn="l" pos="1393920"/>
                    <a:tab algn="l" pos="2090880"/>
                    <a:tab algn="l" pos="2787480"/>
                    <a:tab algn="l" pos="3484440"/>
                    <a:tab algn="l" pos="4181400"/>
                    <a:tab algn="l" pos="4878360"/>
                    <a:tab algn="l" pos="5575320"/>
                    <a:tab algn="l" pos="6272280"/>
                    <a:tab algn="l" pos="6969240"/>
                    <a:tab algn="l" pos="7666200"/>
                    <a:tab algn="l" pos="8362800"/>
                    <a:tab algn="l" pos="9059760"/>
                    <a:tab algn="l" pos="9756720"/>
                    <a:tab algn="l" pos="10453680"/>
                  </a:tabLst>
                </a:pPr>
                <a:r>
                  <a:rPr b="1" lang="ja-JP" sz="1000" spc="-1" strike="noStrike">
                    <a:solidFill>
                      <a:srgbClr val="ff0000"/>
                    </a:solidFill>
                    <a:latin typeface="Century"/>
                    <a:ea typeface="ＭＳ 明朝"/>
                  </a:rPr>
                  <a:t>フチ無印刷</a:t>
                </a:r>
                <a:r>
                  <a:rPr b="0" lang="ja-JP" sz="1000" spc="-1" strike="noStrike">
                    <a:solidFill>
                      <a:srgbClr val="000000"/>
                    </a:solidFill>
                    <a:latin typeface="Century"/>
                    <a:ea typeface="ＭＳ 明朝"/>
                  </a:rPr>
                  <a:t>は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696960"/>
                    <a:tab algn="l" pos="1393920"/>
                    <a:tab algn="l" pos="2090880"/>
                    <a:tab algn="l" pos="2787480"/>
                    <a:tab algn="l" pos="3484440"/>
                    <a:tab algn="l" pos="4181400"/>
                    <a:tab algn="l" pos="4878360"/>
                    <a:tab algn="l" pos="5575320"/>
                    <a:tab algn="l" pos="6272280"/>
                    <a:tab algn="l" pos="6969240"/>
                    <a:tab algn="l" pos="7666200"/>
                    <a:tab algn="l" pos="8362800"/>
                    <a:tab algn="l" pos="9059760"/>
                    <a:tab algn="l" pos="9756720"/>
                    <a:tab algn="l" pos="10453680"/>
                  </a:tabLst>
                </a:pPr>
                <a:r>
                  <a:rPr b="0" lang="ja-JP" sz="1000" spc="-1" strike="noStrike">
                    <a:solidFill>
                      <a:srgbClr val="000000"/>
                    </a:solidFill>
                    <a:latin typeface="Century"/>
                    <a:ea typeface="ＭＳ 明朝"/>
                  </a:rPr>
                  <a:t>この</a:t>
                </a:r>
                <a:r>
                  <a:rPr b="1" lang="ja-JP" sz="1000" spc="-1" strike="noStrike">
                    <a:solidFill>
                      <a:srgbClr val="ff0000"/>
                    </a:solidFill>
                    <a:latin typeface="Century"/>
                    <a:ea typeface="ＭＳ 明朝"/>
                  </a:rPr>
                  <a:t>黒</a:t>
                </a:r>
                <a:r>
                  <a:rPr b="0" lang="ja-JP" sz="1000" spc="-1" strike="noStrike">
                    <a:solidFill>
                      <a:srgbClr val="000000"/>
                    </a:solidFill>
                    <a:latin typeface="Century"/>
                    <a:ea typeface="ＭＳ 明朝"/>
                  </a:rPr>
                  <a:t>い線まで伸ばす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" name="Group 88"/>
            <p:cNvGrpSpPr/>
            <p:nvPr/>
          </p:nvGrpSpPr>
          <p:grpSpPr>
            <a:xfrm>
              <a:off x="61920" y="1314360"/>
              <a:ext cx="7929720" cy="9377280"/>
              <a:chOff x="61920" y="1314360"/>
              <a:chExt cx="7929720" cy="9377280"/>
            </a:xfrm>
          </p:grpSpPr>
          <p:sp>
            <p:nvSpPr>
              <p:cNvPr id="17" name="Rectangle 51"/>
              <p:cNvSpPr/>
              <p:nvPr/>
            </p:nvSpPr>
            <p:spPr>
              <a:xfrm>
                <a:off x="1440000" y="1440000"/>
                <a:ext cx="6551640" cy="925164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160" rIns="74160" tIns="9000" bIns="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" name="Group 83"/>
              <p:cNvGrpSpPr/>
              <p:nvPr/>
            </p:nvGrpSpPr>
            <p:grpSpPr>
              <a:xfrm>
                <a:off x="61920" y="1314360"/>
                <a:ext cx="1368360" cy="544680"/>
                <a:chOff x="61920" y="1314360"/>
                <a:chExt cx="1368360" cy="544680"/>
              </a:xfrm>
            </p:grpSpPr>
            <p:sp>
              <p:nvSpPr>
                <p:cNvPr id="19" name="Line 84"/>
                <p:cNvSpPr/>
                <p:nvPr/>
              </p:nvSpPr>
              <p:spPr>
                <a:xfrm>
                  <a:off x="871560" y="1587600"/>
                  <a:ext cx="558720" cy="0"/>
                </a:xfrm>
                <a:prstGeom prst="line">
                  <a:avLst/>
                </a:prstGeom>
                <a:ln w="9360">
                  <a:solidFill>
                    <a:srgbClr val="0000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" name="Text Box 85"/>
                <p:cNvSpPr/>
                <p:nvPr/>
              </p:nvSpPr>
              <p:spPr>
                <a:xfrm>
                  <a:off x="61920" y="1314360"/>
                  <a:ext cx="936360" cy="5446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仕上がり位置。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この</a:t>
                  </a:r>
                  <a:r>
                    <a:rPr b="1" lang="ja-JP" sz="1000" spc="-1" strike="noStrike">
                      <a:solidFill>
                        <a:srgbClr val="ff0000"/>
                      </a:solidFill>
                      <a:latin typeface="Century"/>
                      <a:ea typeface="ＭＳ 明朝"/>
                    </a:rPr>
                    <a:t>青</a:t>
                  </a:r>
                  <a:r>
                    <a:rPr b="0" lang="ja-JP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い線でカットします。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" name="Group 87"/>
            <p:cNvGrpSpPr/>
            <p:nvPr/>
          </p:nvGrpSpPr>
          <p:grpSpPr>
            <a:xfrm>
              <a:off x="61920" y="1547640"/>
              <a:ext cx="7821720" cy="9036360"/>
              <a:chOff x="61920" y="1547640"/>
              <a:chExt cx="7821720" cy="9036360"/>
            </a:xfrm>
          </p:grpSpPr>
          <p:sp>
            <p:nvSpPr>
              <p:cNvPr id="22" name="Rectangle 56"/>
              <p:cNvSpPr/>
              <p:nvPr/>
            </p:nvSpPr>
            <p:spPr>
              <a:xfrm>
                <a:off x="1547640" y="1547640"/>
                <a:ext cx="6336000" cy="903636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160" rIns="74160" tIns="9000" bIns="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" name="Group 75"/>
              <p:cNvGrpSpPr/>
              <p:nvPr/>
            </p:nvGrpSpPr>
            <p:grpSpPr>
              <a:xfrm>
                <a:off x="61920" y="1987560"/>
                <a:ext cx="1476360" cy="684360"/>
                <a:chOff x="61920" y="1987560"/>
                <a:chExt cx="1476360" cy="684360"/>
              </a:xfrm>
            </p:grpSpPr>
            <p:sp>
              <p:nvSpPr>
                <p:cNvPr id="24" name="Line 76"/>
                <p:cNvSpPr/>
                <p:nvPr/>
              </p:nvSpPr>
              <p:spPr>
                <a:xfrm>
                  <a:off x="871560" y="2328480"/>
                  <a:ext cx="666720" cy="0"/>
                </a:xfrm>
                <a:prstGeom prst="line">
                  <a:avLst/>
                </a:prstGeom>
                <a:ln w="9360">
                  <a:solidFill>
                    <a:srgbClr val="00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" name="Text Box 77"/>
                <p:cNvSpPr/>
                <p:nvPr/>
              </p:nvSpPr>
              <p:spPr>
                <a:xfrm>
                  <a:off x="61920" y="1987560"/>
                  <a:ext cx="936360" cy="6843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ja-JP" sz="1000" spc="-1" strike="noStrike">
                      <a:solidFill>
                        <a:srgbClr val="ff0000"/>
                      </a:solidFill>
                      <a:latin typeface="Century"/>
                      <a:ea typeface="ＭＳ 明朝"/>
                    </a:rPr>
                    <a:t>切れては困る物</a:t>
                  </a:r>
                  <a:r>
                    <a:rPr b="0" lang="ja-JP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はこの</a:t>
                  </a:r>
                  <a:r>
                    <a:rPr b="1" lang="ja-JP" sz="1000" spc="-1" strike="noStrike">
                      <a:solidFill>
                        <a:srgbClr val="ff0000"/>
                      </a:solidFill>
                      <a:latin typeface="Century"/>
                      <a:ea typeface="ＭＳ 明朝"/>
                    </a:rPr>
                    <a:t>水色</a:t>
                  </a:r>
                  <a:r>
                    <a:rPr b="0" lang="ja-JP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の線の内側に配置。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26" name="Picture 86" descr="ぬりたし説明"/>
            <p:cNvPicPr/>
            <p:nvPr/>
          </p:nvPicPr>
          <p:blipFill>
            <a:blip r:embed="rId2"/>
            <a:stretch/>
          </p:blipFill>
          <p:spPr>
            <a:xfrm>
              <a:off x="8413920" y="1459080"/>
              <a:ext cx="1019160" cy="2811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7" name=""/>
            <p:cNvGrpSpPr/>
            <p:nvPr/>
          </p:nvGrpSpPr>
          <p:grpSpPr>
            <a:xfrm>
              <a:off x="54000" y="54000"/>
              <a:ext cx="5065560" cy="900000"/>
              <a:chOff x="54000" y="54000"/>
              <a:chExt cx="5065560" cy="900000"/>
            </a:xfrm>
          </p:grpSpPr>
          <p:sp>
            <p:nvSpPr>
              <p:cNvPr id="28" name="Rectangle 65"/>
              <p:cNvSpPr/>
              <p:nvPr/>
            </p:nvSpPr>
            <p:spPr>
              <a:xfrm>
                <a:off x="54000" y="54000"/>
                <a:ext cx="1332000" cy="900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36000" bIns="36000" anchor="t">
                <a:noAutofit/>
              </a:bodyPr>
              <a:p>
                <a:pPr>
                  <a:tabLst>
                    <a:tab algn="l" pos="0"/>
                    <a:tab algn="l" pos="1803240"/>
                    <a:tab algn="l" pos="3606840"/>
                    <a:tab algn="l" pos="5410080"/>
                    <a:tab algn="l" pos="7213680"/>
                    <a:tab algn="l" pos="9016920"/>
                    <a:tab algn="l" pos="1082052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B5</a:t>
                </a:r>
                <a:r>
                  <a:rPr b="1" lang="ja-JP" sz="1600" spc="-1" strike="noStrike">
                    <a:solidFill>
                      <a:srgbClr val="000000"/>
                    </a:solidFill>
                    <a:latin typeface="Arial"/>
                  </a:rPr>
                  <a:t>サイズ　縦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1803240"/>
                    <a:tab algn="l" pos="3606840"/>
                    <a:tab algn="l" pos="5410080"/>
                    <a:tab algn="l" pos="7213680"/>
                    <a:tab algn="l" pos="9016920"/>
                    <a:tab algn="l" pos="1082052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82×257mm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Text Box 67"/>
              <p:cNvSpPr/>
              <p:nvPr/>
            </p:nvSpPr>
            <p:spPr>
              <a:xfrm>
                <a:off x="1384200" y="54000"/>
                <a:ext cx="3735360" cy="9000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t">
                <a:noAutofit/>
              </a:bodyPr>
              <a:p>
                <a:pPr marL="114480" indent="-114480">
                  <a:buClr>
                    <a:srgbClr val="000000"/>
                  </a:buClr>
                  <a:buFont typeface="Arial"/>
                  <a:buChar char="※"/>
                  <a:tabLst>
                    <a:tab algn="l" pos="696960"/>
                    <a:tab algn="l" pos="1393920"/>
                    <a:tab algn="l" pos="2090880"/>
                    <a:tab algn="l" pos="2787480"/>
                    <a:tab algn="l" pos="3484440"/>
                    <a:tab algn="l" pos="4181400"/>
                    <a:tab algn="l" pos="4878360"/>
                    <a:tab algn="l" pos="5575320"/>
                    <a:tab algn="l" pos="6272280"/>
                    <a:tab algn="l" pos="6969240"/>
                    <a:tab algn="l" pos="7666200"/>
                    <a:tab algn="l" pos="8362800"/>
                    <a:tab algn="l" pos="9059760"/>
                    <a:tab algn="l" pos="9756720"/>
                    <a:tab algn="l" pos="10453680"/>
                  </a:tabLst>
                </a:pPr>
                <a:r>
                  <a:rPr b="1" lang="ja-JP" sz="700" spc="-1" strike="noStrike">
                    <a:solidFill>
                      <a:srgbClr val="ff0000"/>
                    </a:solidFill>
                    <a:latin typeface="Arial"/>
                  </a:rPr>
                  <a:t>フチ無印刷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Arial"/>
                  </a:rPr>
                  <a:t>をご希望の場合、外側の黒い線まで背景や画像を伸ばして下さい。（右下図参照）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114480" indent="-114480">
                  <a:buClr>
                    <a:srgbClr val="000000"/>
                  </a:buClr>
                  <a:buFont typeface="Arial"/>
                  <a:buChar char="※"/>
                  <a:tabLst>
                    <a:tab algn="l" pos="696960"/>
                    <a:tab algn="l" pos="1393920"/>
                    <a:tab algn="l" pos="2090880"/>
                    <a:tab algn="l" pos="2787480"/>
                    <a:tab algn="l" pos="3484440"/>
                    <a:tab algn="l" pos="4181400"/>
                    <a:tab algn="l" pos="4878360"/>
                    <a:tab algn="l" pos="5575320"/>
                    <a:tab algn="l" pos="6272280"/>
                    <a:tab algn="l" pos="6969240"/>
                    <a:tab algn="l" pos="7666200"/>
                    <a:tab algn="l" pos="8362800"/>
                    <a:tab algn="l" pos="9059760"/>
                    <a:tab algn="l" pos="9756720"/>
                    <a:tab algn="l" pos="10453680"/>
                  </a:tabLst>
                </a:pPr>
                <a:r>
                  <a:rPr b="0" lang="ja-JP" sz="700" spc="-1" strike="noStrike">
                    <a:solidFill>
                      <a:srgbClr val="ff0000"/>
                    </a:solidFill>
                    <a:latin typeface="Arial"/>
                  </a:rPr>
                  <a:t>切れては困る絵柄や文字等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Arial"/>
                  </a:rPr>
                  <a:t>は</a:t>
                </a:r>
                <a:r>
                  <a:rPr b="0" lang="ja-JP" sz="700" spc="-1" strike="noStrike">
                    <a:solidFill>
                      <a:srgbClr val="ff0000"/>
                    </a:solidFill>
                    <a:latin typeface="Arial"/>
                  </a:rPr>
                  <a:t>、仕上り（青い四角）より</a:t>
                </a:r>
                <a:r>
                  <a:rPr b="1" lang="en-US" sz="700" spc="-1" strike="noStrike">
                    <a:solidFill>
                      <a:srgbClr val="ff0000"/>
                    </a:solidFill>
                    <a:latin typeface="Arial"/>
                  </a:rPr>
                  <a:t>2</a:t>
                </a:r>
                <a:r>
                  <a:rPr b="1" lang="ja-JP" sz="700" spc="-1" strike="noStrike">
                    <a:solidFill>
                      <a:srgbClr val="ff0000"/>
                    </a:solidFill>
                    <a:latin typeface="Arial"/>
                  </a:rPr>
                  <a:t>～</a:t>
                </a:r>
                <a:r>
                  <a:rPr b="1" lang="en-US" sz="700" spc="-1" strike="noStrike">
                    <a:solidFill>
                      <a:srgbClr val="ff0000"/>
                    </a:solidFill>
                    <a:latin typeface="Arial"/>
                  </a:rPr>
                  <a:t>3mm</a:t>
                </a:r>
                <a:r>
                  <a:rPr b="1" lang="ja-JP" sz="700" spc="-1" strike="noStrike">
                    <a:solidFill>
                      <a:srgbClr val="ff0000"/>
                    </a:solidFill>
                    <a:latin typeface="Arial"/>
                  </a:rPr>
                  <a:t>以上内側</a:t>
                </a:r>
                <a:r>
                  <a:rPr b="0" lang="ja-JP" sz="700" spc="-1" strike="noStrike">
                    <a:solidFill>
                      <a:srgbClr val="ff0000"/>
                    </a:solidFill>
                    <a:latin typeface="Arial"/>
                  </a:rPr>
                  <a:t>（水色の四角の中）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Arial"/>
                  </a:rPr>
                  <a:t>に入れて作成してください。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114480" indent="-114480">
                  <a:buClr>
                    <a:srgbClr val="000000"/>
                  </a:buClr>
                  <a:buFont typeface="Arial"/>
                  <a:buChar char="※"/>
                  <a:tabLst>
                    <a:tab algn="l" pos="696960"/>
                    <a:tab algn="l" pos="1393920"/>
                    <a:tab algn="l" pos="2090880"/>
                    <a:tab algn="l" pos="2787480"/>
                    <a:tab algn="l" pos="3484440"/>
                    <a:tab algn="l" pos="4181400"/>
                    <a:tab algn="l" pos="4878360"/>
                    <a:tab algn="l" pos="5575320"/>
                    <a:tab algn="l" pos="6272280"/>
                    <a:tab algn="l" pos="6969240"/>
                    <a:tab algn="l" pos="7666200"/>
                    <a:tab algn="l" pos="8362800"/>
                    <a:tab algn="l" pos="9059760"/>
                    <a:tab algn="l" pos="9756720"/>
                    <a:tab algn="l" pos="10453680"/>
                  </a:tabLst>
                </a:pPr>
                <a:r>
                  <a:rPr b="1" lang="ja-JP" sz="700" spc="-1" strike="noStrike">
                    <a:solidFill>
                      <a:srgbClr val="ff0000"/>
                    </a:solidFill>
                    <a:latin typeface="Arial"/>
                  </a:rPr>
                  <a:t>透過性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Arial"/>
                  </a:rPr>
                  <a:t>や</a:t>
                </a:r>
                <a:r>
                  <a:rPr b="1" lang="ja-JP" sz="700" spc="-1" strike="noStrike">
                    <a:solidFill>
                      <a:srgbClr val="ff0000"/>
                    </a:solidFill>
                    <a:latin typeface="Arial"/>
                  </a:rPr>
                  <a:t>半透明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Arial"/>
                  </a:rPr>
                  <a:t>、</a:t>
                </a:r>
                <a:r>
                  <a:rPr b="1" lang="ja-JP" sz="700" spc="-1" strike="noStrike">
                    <a:solidFill>
                      <a:srgbClr val="ff0000"/>
                    </a:solidFill>
                    <a:latin typeface="Arial"/>
                  </a:rPr>
                  <a:t>パターン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Arial"/>
                  </a:rPr>
                  <a:t>など</a:t>
                </a:r>
                <a:r>
                  <a:rPr b="0" lang="ja-JP" sz="700" spc="-1" strike="noStrike">
                    <a:solidFill>
                      <a:srgbClr val="ff0000"/>
                    </a:solidFill>
                    <a:latin typeface="Arial"/>
                  </a:rPr>
                  <a:t>変換が正常に出来ない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Arial"/>
                  </a:rPr>
                  <a:t>場合があります。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114480" indent="-114480">
                  <a:buClr>
                    <a:srgbClr val="000000"/>
                  </a:buClr>
                  <a:buFont typeface="Arial"/>
                  <a:buChar char="※"/>
                  <a:tabLst>
                    <a:tab algn="l" pos="696960"/>
                    <a:tab algn="l" pos="1393920"/>
                    <a:tab algn="l" pos="2090880"/>
                    <a:tab algn="l" pos="2787480"/>
                    <a:tab algn="l" pos="3484440"/>
                    <a:tab algn="l" pos="4181400"/>
                    <a:tab algn="l" pos="4878360"/>
                    <a:tab algn="l" pos="5575320"/>
                    <a:tab algn="l" pos="6272280"/>
                    <a:tab algn="l" pos="6969240"/>
                    <a:tab algn="l" pos="7666200"/>
                    <a:tab algn="l" pos="8362800"/>
                    <a:tab algn="l" pos="9059760"/>
                    <a:tab algn="l" pos="9756720"/>
                    <a:tab algn="l" pos="10453680"/>
                  </a:tabLst>
                </a:pPr>
                <a:r>
                  <a:rPr b="0" lang="ja-JP" sz="700" spc="-1" strike="noStrike">
                    <a:solidFill>
                      <a:srgbClr val="ff0000"/>
                    </a:solidFill>
                    <a:latin typeface="Arial"/>
                  </a:rPr>
                  <a:t>用紙サイズの変更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Arial"/>
                  </a:rPr>
                  <a:t>や、</a:t>
                </a:r>
                <a:r>
                  <a:rPr b="0" lang="ja-JP" sz="700" spc="-1" strike="noStrike">
                    <a:solidFill>
                      <a:srgbClr val="ff0000"/>
                    </a:solidFill>
                    <a:latin typeface="Arial"/>
                  </a:rPr>
                  <a:t>トンボの移動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Arial"/>
                  </a:rPr>
                  <a:t>、</a:t>
                </a:r>
                <a:r>
                  <a:rPr b="0" lang="ja-JP" sz="700" spc="-1" strike="noStrike">
                    <a:solidFill>
                      <a:srgbClr val="ff0000"/>
                    </a:solidFill>
                    <a:latin typeface="Arial"/>
                  </a:rPr>
                  <a:t>変形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Arial"/>
                  </a:rPr>
                  <a:t>など</a:t>
                </a:r>
                <a:r>
                  <a:rPr b="0" lang="ja-JP" sz="700" spc="-1" strike="noStrike">
                    <a:solidFill>
                      <a:srgbClr val="ff0000"/>
                    </a:solidFill>
                    <a:latin typeface="Arial"/>
                  </a:rPr>
                  <a:t>なさらない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Arial"/>
                  </a:rPr>
                  <a:t>ようお願いします。　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114480" indent="-114480">
                  <a:buClr>
                    <a:srgbClr val="000000"/>
                  </a:buClr>
                  <a:buFont typeface="Arial"/>
                  <a:buChar char="※"/>
                  <a:tabLst>
                    <a:tab algn="l" pos="696960"/>
                    <a:tab algn="l" pos="1393920"/>
                    <a:tab algn="l" pos="2090880"/>
                    <a:tab algn="l" pos="2787480"/>
                    <a:tab algn="l" pos="3484440"/>
                    <a:tab algn="l" pos="4181400"/>
                    <a:tab algn="l" pos="4878360"/>
                    <a:tab algn="l" pos="5575320"/>
                    <a:tab algn="l" pos="6272280"/>
                    <a:tab algn="l" pos="6969240"/>
                    <a:tab algn="l" pos="7666200"/>
                    <a:tab algn="l" pos="8362800"/>
                    <a:tab algn="l" pos="9059760"/>
                    <a:tab algn="l" pos="9756720"/>
                    <a:tab algn="l" pos="10453680"/>
                  </a:tabLst>
                </a:pPr>
                <a:r>
                  <a:rPr b="0" lang="ja-JP" sz="700" spc="-1" strike="noStrike">
                    <a:solidFill>
                      <a:srgbClr val="000000"/>
                    </a:solidFill>
                    <a:latin typeface="Arial"/>
                  </a:rPr>
                  <a:t>テンプレートを使用して</a:t>
                </a: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PDF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Arial"/>
                  </a:rPr>
                  <a:t>を作成する際は、説明部分を削除してください。また、テンプレートと同じサイズかどうか確認してください。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0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71280" y="557280"/>
                <a:ext cx="543240" cy="342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31" name="Oval 92"/>
          <p:cNvSpPr/>
          <p:nvPr/>
        </p:nvSpPr>
        <p:spPr>
          <a:xfrm>
            <a:off x="8145360" y="1038240"/>
            <a:ext cx="243000" cy="2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Oval 93"/>
          <p:cNvSpPr/>
          <p:nvPr/>
        </p:nvSpPr>
        <p:spPr>
          <a:xfrm>
            <a:off x="8143920" y="10845720"/>
            <a:ext cx="243000" cy="2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Text Box 12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>suprint</dc:creator>
  <dc:description/>
  <dc:language>en-US</dc:language>
  <cp:lastModifiedBy>User</cp:lastModifiedBy>
  <dcterms:modified xsi:type="dcterms:W3CDTF">2010-06-02T09:57:56Z</dcterms:modified>
  <cp:revision>17</cp:revision>
  <dc:subject/>
  <dc:title>スライド 1</dc:title>
</cp:coreProperties>
</file>