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5227560" y="996840"/>
            <a:ext cx="244440" cy="6204240"/>
            <a:chOff x="5227560" y="996840"/>
            <a:chExt cx="244440" cy="6204240"/>
          </a:xfrm>
        </p:grpSpPr>
        <p:sp>
          <p:nvSpPr>
            <p:cNvPr id="15" name="Oval 95"/>
            <p:cNvSpPr/>
            <p:nvPr/>
          </p:nvSpPr>
          <p:spPr>
            <a:xfrm>
              <a:off x="5229360" y="996840"/>
              <a:ext cx="24264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96"/>
            <p:cNvSpPr/>
            <p:nvPr/>
          </p:nvSpPr>
          <p:spPr>
            <a:xfrm>
              <a:off x="5227560" y="695808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54000" y="54000"/>
            <a:ext cx="6426000" cy="6715080"/>
            <a:chOff x="54000" y="54000"/>
            <a:chExt cx="6426000" cy="6715080"/>
          </a:xfrm>
        </p:grpSpPr>
        <p:grpSp>
          <p:nvGrpSpPr>
            <p:cNvPr id="18" name=""/>
            <p:cNvGrpSpPr/>
            <p:nvPr/>
          </p:nvGrpSpPr>
          <p:grpSpPr>
            <a:xfrm>
              <a:off x="54000" y="54000"/>
              <a:ext cx="6426000" cy="6715080"/>
              <a:chOff x="54000" y="54000"/>
              <a:chExt cx="6426000" cy="671508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61920" y="1547640"/>
                <a:ext cx="4870440" cy="5113440"/>
                <a:chOff x="61920" y="1547640"/>
                <a:chExt cx="4870440" cy="51134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1547640" y="1547640"/>
                  <a:ext cx="338472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2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25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"/>
              <p:cNvGrpSpPr/>
              <p:nvPr/>
            </p:nvGrpSpPr>
            <p:grpSpPr>
              <a:xfrm>
                <a:off x="61920" y="1314360"/>
                <a:ext cx="4978440" cy="5454720"/>
                <a:chOff x="61920" y="1314360"/>
                <a:chExt cx="4978440" cy="5454720"/>
              </a:xfrm>
            </p:grpSpPr>
            <p:sp>
              <p:nvSpPr>
                <p:cNvPr id="28" name=""/>
                <p:cNvSpPr/>
                <p:nvPr/>
              </p:nvSpPr>
              <p:spPr>
                <a:xfrm>
                  <a:off x="1440000" y="1440000"/>
                  <a:ext cx="360036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3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zh-CN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" name="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3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zh-CN" sz="1500" spc="-1" strike="noStrike">
                      <a:solidFill>
                        <a:srgbClr val="000000"/>
                      </a:solidFill>
                      <a:latin typeface="Arial"/>
                    </a:rPr>
                    <a:t>ポストカード 縦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zh-CN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zh-CN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6" name="Picture 77" descr="ぬりたし説明"/>
              <p:cNvPicPr/>
              <p:nvPr/>
            </p:nvPicPr>
            <p:blipFill>
              <a:blip r:embed="rId3"/>
              <a:stretch/>
            </p:blipFill>
            <p:spPr>
              <a:xfrm>
                <a:off x="5462640" y="1440000"/>
                <a:ext cx="1017360" cy="280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" name=""/>
            <p:cNvSpPr/>
            <p:nvPr/>
          </p:nvSpPr>
          <p:spPr>
            <a:xfrm>
              <a:off x="1619280" y="2625840"/>
              <a:ext cx="3240000" cy="2160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684000" bIns="684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1" lang="zh-CN" sz="2500" spc="-1" strike="noStrike">
                  <a:solidFill>
                    <a:srgbClr val="ff0000"/>
                  </a:solidFill>
                  <a:latin typeface="ＭＳ Ｐゴシック"/>
                </a:rPr>
                <a:t>【非印字部分（宛名）】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宛名データが印字されるエリアとな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この枠内を避けてデータを作成してください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1-12-06T09:18:33Z</dcterms:modified>
  <cp:revision>17</cp:revision>
  <dc:subject/>
  <dc:title>スライド 1</dc:title>
</cp:coreProperties>
</file>