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54000" y="54000"/>
            <a:ext cx="6426000" cy="6715080"/>
            <a:chOff x="54000" y="54000"/>
            <a:chExt cx="6426000" cy="6715080"/>
          </a:xfrm>
        </p:grpSpPr>
        <p:grpSp>
          <p:nvGrpSpPr>
            <p:cNvPr id="14" name=""/>
            <p:cNvGrpSpPr/>
            <p:nvPr/>
          </p:nvGrpSpPr>
          <p:grpSpPr>
            <a:xfrm>
              <a:off x="61920" y="1547640"/>
              <a:ext cx="4870440" cy="5113440"/>
              <a:chOff x="61920" y="1547640"/>
              <a:chExt cx="4870440" cy="5113440"/>
            </a:xfrm>
          </p:grpSpPr>
          <p:sp>
            <p:nvSpPr>
              <p:cNvPr id="15" name=""/>
              <p:cNvSpPr/>
              <p:nvPr/>
            </p:nvSpPr>
            <p:spPr>
              <a:xfrm>
                <a:off x="1547640" y="1547640"/>
                <a:ext cx="3384720" cy="5113440"/>
              </a:xfrm>
              <a:prstGeom prst="rect">
                <a:avLst/>
              </a:prstGeom>
              <a:noFill/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" name="Group 68"/>
              <p:cNvGrpSpPr/>
              <p:nvPr/>
            </p:nvGrpSpPr>
            <p:grpSpPr>
              <a:xfrm>
                <a:off x="61920" y="1987560"/>
                <a:ext cx="1476360" cy="684360"/>
                <a:chOff x="61920" y="1987560"/>
                <a:chExt cx="1476360" cy="684360"/>
              </a:xfrm>
            </p:grpSpPr>
            <p:sp>
              <p:nvSpPr>
                <p:cNvPr id="17" name="Line 69"/>
                <p:cNvSpPr/>
                <p:nvPr/>
              </p:nvSpPr>
              <p:spPr>
                <a:xfrm>
                  <a:off x="871560" y="2328480"/>
                  <a:ext cx="6667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Text Box 70"/>
                <p:cNvSpPr/>
                <p:nvPr/>
              </p:nvSpPr>
              <p:spPr>
                <a:xfrm>
                  <a:off x="61920" y="1987560"/>
                  <a:ext cx="936360" cy="684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zh-CN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切れては困る物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この</a:t>
                  </a:r>
                  <a:r>
                    <a:rPr b="1" lang="zh-CN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水色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の線の内側に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" name="Group 71"/>
            <p:cNvGrpSpPr/>
            <p:nvPr/>
          </p:nvGrpSpPr>
          <p:grpSpPr>
            <a:xfrm>
              <a:off x="61920" y="2800440"/>
              <a:ext cx="1260360" cy="539640"/>
              <a:chOff x="61920" y="2800440"/>
              <a:chExt cx="1260360" cy="539640"/>
            </a:xfrm>
          </p:grpSpPr>
          <p:sp>
            <p:nvSpPr>
              <p:cNvPr id="20" name="Line 72"/>
              <p:cNvSpPr/>
              <p:nvPr/>
            </p:nvSpPr>
            <p:spPr>
              <a:xfrm>
                <a:off x="871560" y="307044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Text Box 73"/>
              <p:cNvSpPr/>
              <p:nvPr/>
            </p:nvSpPr>
            <p:spPr>
              <a:xfrm>
                <a:off x="61920" y="280044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zh-CN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フチ無印刷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この</a:t>
                </a:r>
                <a:r>
                  <a:rPr b="1" lang="zh-CN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黒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61920" y="1314360"/>
              <a:ext cx="4978440" cy="5454720"/>
              <a:chOff x="61920" y="1314360"/>
              <a:chExt cx="4978440" cy="5454720"/>
            </a:xfrm>
          </p:grpSpPr>
          <p:sp>
            <p:nvSpPr>
              <p:cNvPr id="23" name=""/>
              <p:cNvSpPr/>
              <p:nvPr/>
            </p:nvSpPr>
            <p:spPr>
              <a:xfrm>
                <a:off x="1440000" y="1440000"/>
                <a:ext cx="3600360" cy="532908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" name="Group 74"/>
              <p:cNvGrpSpPr/>
              <p:nvPr/>
            </p:nvGrpSpPr>
            <p:grpSpPr>
              <a:xfrm>
                <a:off x="61920" y="1314360"/>
                <a:ext cx="1368360" cy="544680"/>
                <a:chOff x="61920" y="1314360"/>
                <a:chExt cx="1368360" cy="544680"/>
              </a:xfrm>
            </p:grpSpPr>
            <p:sp>
              <p:nvSpPr>
                <p:cNvPr id="25" name="Line 75"/>
                <p:cNvSpPr/>
                <p:nvPr/>
              </p:nvSpPr>
              <p:spPr>
                <a:xfrm>
                  <a:off x="871560" y="158760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Text Box 76"/>
                <p:cNvSpPr/>
                <p:nvPr/>
              </p:nvSpPr>
              <p:spPr>
                <a:xfrm>
                  <a:off x="61920" y="1314360"/>
                  <a:ext cx="936360" cy="54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仕上がり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zh-CN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青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でカット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" name=""/>
            <p:cNvGrpSpPr/>
            <p:nvPr/>
          </p:nvGrpSpPr>
          <p:grpSpPr>
            <a:xfrm>
              <a:off x="54000" y="54000"/>
              <a:ext cx="5065560" cy="900000"/>
              <a:chOff x="54000" y="54000"/>
              <a:chExt cx="5065560" cy="900000"/>
            </a:xfrm>
          </p:grpSpPr>
          <p:sp>
            <p:nvSpPr>
              <p:cNvPr id="28" name="Rectangle 65"/>
              <p:cNvSpPr/>
              <p:nvPr/>
            </p:nvSpPr>
            <p:spPr>
              <a:xfrm>
                <a:off x="54000" y="5400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ポストカード 縦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0×148m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67"/>
              <p:cNvSpPr/>
              <p:nvPr/>
            </p:nvSpPr>
            <p:spPr>
              <a:xfrm>
                <a:off x="1384200" y="5400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右下図参照）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557280"/>
                <a:ext cx="54324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" name="Picture 77" descr="ぬりたし説明"/>
            <p:cNvPicPr/>
            <p:nvPr/>
          </p:nvPicPr>
          <p:blipFill>
            <a:blip r:embed="rId3"/>
            <a:stretch/>
          </p:blipFill>
          <p:spPr>
            <a:xfrm>
              <a:off x="5462640" y="1440000"/>
              <a:ext cx="1017360" cy="280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5227560" y="996840"/>
            <a:ext cx="244440" cy="6204240"/>
            <a:chOff x="5227560" y="996840"/>
            <a:chExt cx="244440" cy="6204240"/>
          </a:xfrm>
        </p:grpSpPr>
        <p:sp>
          <p:nvSpPr>
            <p:cNvPr id="34" name="Oval 95"/>
            <p:cNvSpPr/>
            <p:nvPr/>
          </p:nvSpPr>
          <p:spPr>
            <a:xfrm>
              <a:off x="5229360" y="996840"/>
              <a:ext cx="24264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96"/>
            <p:cNvSpPr/>
            <p:nvPr/>
          </p:nvSpPr>
          <p:spPr>
            <a:xfrm>
              <a:off x="5227560" y="6958080"/>
              <a:ext cx="24300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61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10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09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ser</cp:lastModifiedBy>
  <dcterms:modified xsi:type="dcterms:W3CDTF">2010-06-03T00:56:57Z</dcterms:modified>
  <cp:revision>15</cp:revision>
  <dc:subject/>
  <dc:title>スライド 1</dc:title>
</cp:coreProperties>
</file>