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7199313" cy="113395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60000" y="452160"/>
            <a:ext cx="6479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60000" y="2653560"/>
            <a:ext cx="647964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60000" y="6089040"/>
            <a:ext cx="647964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60000" y="452160"/>
            <a:ext cx="6479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60000" y="2653560"/>
            <a:ext cx="316188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3680280" y="2653560"/>
            <a:ext cx="316188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60000" y="6089040"/>
            <a:ext cx="316188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/>
          </p:nvPr>
        </p:nvSpPr>
        <p:spPr>
          <a:xfrm>
            <a:off x="3680280" y="6089040"/>
            <a:ext cx="316188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60000" y="452160"/>
            <a:ext cx="6479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60000" y="2653560"/>
            <a:ext cx="208620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2550960" y="2653560"/>
            <a:ext cx="208620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41920" y="2653560"/>
            <a:ext cx="208620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360000" y="6089040"/>
            <a:ext cx="208620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6"/>
          <p:cNvSpPr>
            <a:spLocks noGrp="1"/>
          </p:cNvSpPr>
          <p:nvPr>
            <p:ph/>
          </p:nvPr>
        </p:nvSpPr>
        <p:spPr>
          <a:xfrm>
            <a:off x="2550960" y="6089040"/>
            <a:ext cx="208620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7"/>
          <p:cNvSpPr>
            <a:spLocks noGrp="1"/>
          </p:cNvSpPr>
          <p:nvPr>
            <p:ph/>
          </p:nvPr>
        </p:nvSpPr>
        <p:spPr>
          <a:xfrm>
            <a:off x="4741920" y="6089040"/>
            <a:ext cx="208620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60000" y="452160"/>
            <a:ext cx="6479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subTitle"/>
          </p:nvPr>
        </p:nvSpPr>
        <p:spPr>
          <a:xfrm>
            <a:off x="360000" y="2653560"/>
            <a:ext cx="6479640" cy="65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60000" y="452160"/>
            <a:ext cx="6479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60000" y="2653560"/>
            <a:ext cx="6479640" cy="65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60000" y="452160"/>
            <a:ext cx="6479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60000" y="2653560"/>
            <a:ext cx="3161880" cy="65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80280" y="2653560"/>
            <a:ext cx="3161880" cy="65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60000" y="452160"/>
            <a:ext cx="6479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360000" y="452160"/>
            <a:ext cx="6479640" cy="877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60000" y="452160"/>
            <a:ext cx="6479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60000" y="2653560"/>
            <a:ext cx="316188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680280" y="2653560"/>
            <a:ext cx="3161880" cy="65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360000" y="6089040"/>
            <a:ext cx="316188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60000" y="452160"/>
            <a:ext cx="6479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60000" y="2653560"/>
            <a:ext cx="3161880" cy="65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680280" y="2653560"/>
            <a:ext cx="316188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3680280" y="6089040"/>
            <a:ext cx="316188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60000" y="452160"/>
            <a:ext cx="6479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60000" y="2653560"/>
            <a:ext cx="316188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680280" y="2653560"/>
            <a:ext cx="316188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60000" y="6089040"/>
            <a:ext cx="647964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9640" y="1079640"/>
            <a:ext cx="5041800" cy="9181800"/>
            <a:chOff x="1079640" y="1079640"/>
            <a:chExt cx="5041800" cy="9181800"/>
          </a:xfrm>
        </p:grpSpPr>
        <p:sp>
          <p:nvSpPr>
            <p:cNvPr id="1" name=""/>
            <p:cNvSpPr/>
            <p:nvPr/>
          </p:nvSpPr>
          <p:spPr>
            <a:xfrm>
              <a:off x="1079640" y="1332000"/>
              <a:ext cx="5041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079640" y="1440000"/>
              <a:ext cx="5041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079640" y="10004400"/>
              <a:ext cx="5041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1079640" y="9896400"/>
              <a:ext cx="5041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079640" y="5667480"/>
              <a:ext cx="5041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1332000" y="1079640"/>
              <a:ext cx="0" cy="918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440000" y="1079640"/>
              <a:ext cx="0" cy="918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865840" y="1079640"/>
              <a:ext cx="0" cy="918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757840" y="1079640"/>
              <a:ext cx="0" cy="918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600360" y="1079640"/>
              <a:ext cx="0" cy="918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332000" y="1332000"/>
              <a:ext cx="4533840" cy="86724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"/>
          <p:cNvSpPr/>
          <p:nvPr/>
        </p:nvSpPr>
        <p:spPr>
          <a:xfrm>
            <a:off x="1079640" y="1079640"/>
            <a:ext cx="190440" cy="1904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"/>
          <p:cNvSpPr/>
          <p:nvPr/>
        </p:nvSpPr>
        <p:spPr>
          <a:xfrm>
            <a:off x="5905440" y="1079640"/>
            <a:ext cx="216000" cy="215640"/>
          </a:xfrm>
          <a:prstGeom prst="ellipse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5905440" y="10045800"/>
            <a:ext cx="216000" cy="215640"/>
          </a:xfrm>
          <a:prstGeom prst="ellipse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" name=""/>
          <p:cNvGrpSpPr/>
          <p:nvPr/>
        </p:nvGrpSpPr>
        <p:grpSpPr>
          <a:xfrm>
            <a:off x="54000" y="54000"/>
            <a:ext cx="7147080" cy="9842400"/>
            <a:chOff x="54000" y="54000"/>
            <a:chExt cx="7147080" cy="9842400"/>
          </a:xfrm>
        </p:grpSpPr>
        <p:grpSp>
          <p:nvGrpSpPr>
            <p:cNvPr id="16" name=""/>
            <p:cNvGrpSpPr/>
            <p:nvPr/>
          </p:nvGrpSpPr>
          <p:grpSpPr>
            <a:xfrm>
              <a:off x="61920" y="1547640"/>
              <a:ext cx="5587920" cy="8240760"/>
              <a:chOff x="61920" y="1547640"/>
              <a:chExt cx="5587920" cy="8240760"/>
            </a:xfrm>
          </p:grpSpPr>
          <p:sp>
            <p:nvSpPr>
              <p:cNvPr id="17" name=""/>
              <p:cNvSpPr/>
              <p:nvPr/>
            </p:nvSpPr>
            <p:spPr>
              <a:xfrm>
                <a:off x="1547640" y="1547640"/>
                <a:ext cx="4102200" cy="8240760"/>
              </a:xfrm>
              <a:prstGeom prst="rect">
                <a:avLst/>
              </a:prstGeom>
              <a:noFill/>
              <a:ln w="32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" name="Group 68"/>
              <p:cNvGrpSpPr/>
              <p:nvPr/>
            </p:nvGrpSpPr>
            <p:grpSpPr>
              <a:xfrm>
                <a:off x="61920" y="1987560"/>
                <a:ext cx="1476360" cy="684360"/>
                <a:chOff x="61920" y="1987560"/>
                <a:chExt cx="1476360" cy="684360"/>
              </a:xfrm>
            </p:grpSpPr>
            <p:sp>
              <p:nvSpPr>
                <p:cNvPr id="19" name="Line 69"/>
                <p:cNvSpPr/>
                <p:nvPr/>
              </p:nvSpPr>
              <p:spPr>
                <a:xfrm>
                  <a:off x="871560" y="2328480"/>
                  <a:ext cx="666720" cy="0"/>
                </a:xfrm>
                <a:prstGeom prst="line">
                  <a:avLst/>
                </a:prstGeom>
                <a:ln w="9360">
                  <a:solidFill>
                    <a:srgbClr val="00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" name="Text Box 70"/>
                <p:cNvSpPr/>
                <p:nvPr/>
              </p:nvSpPr>
              <p:spPr>
                <a:xfrm>
                  <a:off x="61920" y="1987560"/>
                  <a:ext cx="936360" cy="6843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1" lang="zh-CN" sz="1000" spc="-1" strike="noStrike">
                      <a:solidFill>
                        <a:srgbClr val="ff0000"/>
                      </a:solidFill>
                      <a:latin typeface="Century"/>
                      <a:ea typeface="ＭＳ 明朝"/>
                    </a:rPr>
                    <a:t>切れては困る物</a:t>
                  </a:r>
                  <a:r>
                    <a:rPr b="0" lang="zh-CN" sz="1000" spc="-1" strike="noStrike">
                      <a:solidFill>
                        <a:srgbClr val="000000"/>
                      </a:solidFill>
                      <a:latin typeface="Century"/>
                      <a:ea typeface="ＭＳ 明朝"/>
                    </a:rPr>
                    <a:t>はこの</a:t>
                  </a:r>
                  <a:r>
                    <a:rPr b="1" lang="zh-CN" sz="1000" spc="-1" strike="noStrike">
                      <a:solidFill>
                        <a:srgbClr val="ff0000"/>
                      </a:solidFill>
                      <a:latin typeface="Century"/>
                      <a:ea typeface="ＭＳ 明朝"/>
                    </a:rPr>
                    <a:t>水色</a:t>
                  </a:r>
                  <a:r>
                    <a:rPr b="0" lang="zh-CN" sz="1000" spc="-1" strike="noStrike">
                      <a:solidFill>
                        <a:srgbClr val="000000"/>
                      </a:solidFill>
                      <a:latin typeface="Century"/>
                      <a:ea typeface="ＭＳ 明朝"/>
                    </a:rPr>
                    <a:t>の線の内側に配置。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" name="Group 71"/>
            <p:cNvGrpSpPr/>
            <p:nvPr/>
          </p:nvGrpSpPr>
          <p:grpSpPr>
            <a:xfrm>
              <a:off x="61920" y="2800440"/>
              <a:ext cx="1260360" cy="539640"/>
              <a:chOff x="61920" y="2800440"/>
              <a:chExt cx="1260360" cy="539640"/>
            </a:xfrm>
          </p:grpSpPr>
          <p:sp>
            <p:nvSpPr>
              <p:cNvPr id="22" name="Line 72"/>
              <p:cNvSpPr/>
              <p:nvPr/>
            </p:nvSpPr>
            <p:spPr>
              <a:xfrm>
                <a:off x="871560" y="3070440"/>
                <a:ext cx="45072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Text Box 73"/>
              <p:cNvSpPr/>
              <p:nvPr/>
            </p:nvSpPr>
            <p:spPr>
              <a:xfrm>
                <a:off x="61920" y="2800440"/>
                <a:ext cx="936360" cy="539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8000" bIns="180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696960"/>
                    <a:tab algn="l" pos="1393920"/>
                    <a:tab algn="l" pos="2090880"/>
                    <a:tab algn="l" pos="2787480"/>
                    <a:tab algn="l" pos="3484440"/>
                    <a:tab algn="l" pos="4181400"/>
                    <a:tab algn="l" pos="4878360"/>
                    <a:tab algn="l" pos="5575320"/>
                    <a:tab algn="l" pos="6272280"/>
                    <a:tab algn="l" pos="6969240"/>
                    <a:tab algn="l" pos="7666200"/>
                    <a:tab algn="l" pos="8362800"/>
                    <a:tab algn="l" pos="9059760"/>
                    <a:tab algn="l" pos="9756720"/>
                    <a:tab algn="l" pos="10453680"/>
                  </a:tabLst>
                </a:pPr>
                <a:r>
                  <a:rPr b="1" lang="zh-CN" sz="1000" spc="-1" strike="noStrike">
                    <a:solidFill>
                      <a:srgbClr val="ff0000"/>
                    </a:solidFill>
                    <a:latin typeface="Century"/>
                    <a:ea typeface="ＭＳ 明朝"/>
                  </a:rPr>
                  <a:t>フチ無印刷</a:t>
                </a:r>
                <a:r>
                  <a:rPr b="0" lang="zh-CN" sz="1000" spc="-1" strike="noStrike">
                    <a:solidFill>
                      <a:srgbClr val="000000"/>
                    </a:solidFill>
                    <a:latin typeface="Century"/>
                    <a:ea typeface="ＭＳ 明朝"/>
                  </a:rPr>
                  <a:t>は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696960"/>
                    <a:tab algn="l" pos="1393920"/>
                    <a:tab algn="l" pos="2090880"/>
                    <a:tab algn="l" pos="2787480"/>
                    <a:tab algn="l" pos="3484440"/>
                    <a:tab algn="l" pos="4181400"/>
                    <a:tab algn="l" pos="4878360"/>
                    <a:tab algn="l" pos="5575320"/>
                    <a:tab algn="l" pos="6272280"/>
                    <a:tab algn="l" pos="6969240"/>
                    <a:tab algn="l" pos="7666200"/>
                    <a:tab algn="l" pos="8362800"/>
                    <a:tab algn="l" pos="9059760"/>
                    <a:tab algn="l" pos="9756720"/>
                    <a:tab algn="l" pos="10453680"/>
                  </a:tabLst>
                </a:pPr>
                <a:r>
                  <a:rPr b="0" lang="zh-CN" sz="1000" spc="-1" strike="noStrike">
                    <a:solidFill>
                      <a:srgbClr val="000000"/>
                    </a:solidFill>
                    <a:latin typeface="Century"/>
                    <a:ea typeface="ＭＳ 明朝"/>
                  </a:rPr>
                  <a:t>この</a:t>
                </a:r>
                <a:r>
                  <a:rPr b="1" lang="zh-CN" sz="1000" spc="-1" strike="noStrike">
                    <a:solidFill>
                      <a:srgbClr val="ff0000"/>
                    </a:solidFill>
                    <a:latin typeface="Century"/>
                    <a:ea typeface="ＭＳ 明朝"/>
                  </a:rPr>
                  <a:t>黒</a:t>
                </a:r>
                <a:r>
                  <a:rPr b="0" lang="zh-CN" sz="1000" spc="-1" strike="noStrike">
                    <a:solidFill>
                      <a:srgbClr val="000000"/>
                    </a:solidFill>
                    <a:latin typeface="Century"/>
                    <a:ea typeface="ＭＳ 明朝"/>
                  </a:rPr>
                  <a:t>い線まで伸ばす。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" name=""/>
            <p:cNvGrpSpPr/>
            <p:nvPr/>
          </p:nvGrpSpPr>
          <p:grpSpPr>
            <a:xfrm>
              <a:off x="61920" y="1314360"/>
              <a:ext cx="5695920" cy="8582040"/>
              <a:chOff x="61920" y="1314360"/>
              <a:chExt cx="5695920" cy="8582040"/>
            </a:xfrm>
          </p:grpSpPr>
          <p:sp>
            <p:nvSpPr>
              <p:cNvPr id="25" name=""/>
              <p:cNvSpPr/>
              <p:nvPr/>
            </p:nvSpPr>
            <p:spPr>
              <a:xfrm>
                <a:off x="1440000" y="1440000"/>
                <a:ext cx="4317840" cy="8456400"/>
              </a:xfrm>
              <a:prstGeom prst="rect">
                <a:avLst/>
              </a:prstGeom>
              <a:noFill/>
              <a:ln w="3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Group 74"/>
              <p:cNvGrpSpPr/>
              <p:nvPr/>
            </p:nvGrpSpPr>
            <p:grpSpPr>
              <a:xfrm>
                <a:off x="61920" y="1314360"/>
                <a:ext cx="1368360" cy="544680"/>
                <a:chOff x="61920" y="1314360"/>
                <a:chExt cx="1368360" cy="544680"/>
              </a:xfrm>
            </p:grpSpPr>
            <p:sp>
              <p:nvSpPr>
                <p:cNvPr id="27" name="Line 75"/>
                <p:cNvSpPr/>
                <p:nvPr/>
              </p:nvSpPr>
              <p:spPr>
                <a:xfrm>
                  <a:off x="871560" y="1587600"/>
                  <a:ext cx="558720" cy="0"/>
                </a:xfrm>
                <a:prstGeom prst="line">
                  <a:avLst/>
                </a:prstGeom>
                <a:ln w="9360">
                  <a:solidFill>
                    <a:srgbClr val="0000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Text Box 76"/>
                <p:cNvSpPr/>
                <p:nvPr/>
              </p:nvSpPr>
              <p:spPr>
                <a:xfrm>
                  <a:off x="61920" y="1314360"/>
                  <a:ext cx="936360" cy="5446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zh-CN" sz="1000" spc="-1" strike="noStrike">
                      <a:solidFill>
                        <a:srgbClr val="000000"/>
                      </a:solidFill>
                      <a:latin typeface="Century"/>
                      <a:ea typeface="ＭＳ 明朝"/>
                    </a:rPr>
                    <a:t>仕上がり位置。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zh-CN" sz="1000" spc="-1" strike="noStrike">
                      <a:solidFill>
                        <a:srgbClr val="000000"/>
                      </a:solidFill>
                      <a:latin typeface="Century"/>
                      <a:ea typeface="ＭＳ 明朝"/>
                    </a:rPr>
                    <a:t>この</a:t>
                  </a:r>
                  <a:r>
                    <a:rPr b="1" lang="zh-CN" sz="1000" spc="-1" strike="noStrike">
                      <a:solidFill>
                        <a:srgbClr val="ff0000"/>
                      </a:solidFill>
                      <a:latin typeface="Century"/>
                      <a:ea typeface="ＭＳ 明朝"/>
                    </a:rPr>
                    <a:t>青</a:t>
                  </a:r>
                  <a:r>
                    <a:rPr b="0" lang="zh-CN" sz="1000" spc="-1" strike="noStrike">
                      <a:solidFill>
                        <a:srgbClr val="000000"/>
                      </a:solidFill>
                      <a:latin typeface="Century"/>
                      <a:ea typeface="ＭＳ 明朝"/>
                    </a:rPr>
                    <a:t>い線でカットします。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29" name="Picture 77" descr="ぬりたし説明"/>
            <p:cNvPicPr/>
            <p:nvPr/>
          </p:nvPicPr>
          <p:blipFill>
            <a:blip r:embed="rId2"/>
            <a:stretch/>
          </p:blipFill>
          <p:spPr>
            <a:xfrm>
              <a:off x="6183360" y="1422360"/>
              <a:ext cx="1017720" cy="2808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0" name=""/>
            <p:cNvGrpSpPr/>
            <p:nvPr/>
          </p:nvGrpSpPr>
          <p:grpSpPr>
            <a:xfrm>
              <a:off x="54000" y="54000"/>
              <a:ext cx="5065560" cy="900000"/>
              <a:chOff x="54000" y="54000"/>
              <a:chExt cx="5065560" cy="900000"/>
            </a:xfrm>
          </p:grpSpPr>
          <p:sp>
            <p:nvSpPr>
              <p:cNvPr id="31" name="Rectangle 65"/>
              <p:cNvSpPr/>
              <p:nvPr/>
            </p:nvSpPr>
            <p:spPr>
              <a:xfrm>
                <a:off x="54000" y="54000"/>
                <a:ext cx="1332000" cy="900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36000" bIns="36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803240"/>
                    <a:tab algn="l" pos="3606840"/>
                    <a:tab algn="l" pos="5410080"/>
                    <a:tab algn="l" pos="7213680"/>
                    <a:tab algn="l" pos="9016920"/>
                    <a:tab algn="l" pos="10820520"/>
                  </a:tabLst>
                </a:pPr>
                <a:r>
                  <a:rPr b="1" lang="zh-CN" sz="1300" spc="-1" strike="noStrike">
                    <a:solidFill>
                      <a:srgbClr val="000000"/>
                    </a:solidFill>
                    <a:latin typeface="ＭＳ Ｐゴシック"/>
                  </a:rPr>
                  <a:t>大判はがき</a:t>
                </a:r>
                <a:r>
                  <a:rPr b="1" lang="en-US" sz="1300" spc="-1" strike="noStrike">
                    <a:solidFill>
                      <a:srgbClr val="000000"/>
                    </a:solidFill>
                    <a:latin typeface="ＭＳ Ｐゴシック"/>
                  </a:rPr>
                  <a:t>A</a:t>
                </a:r>
                <a:r>
                  <a:rPr b="1" lang="zh-CN" sz="1300" spc="-1" strike="noStrike">
                    <a:solidFill>
                      <a:srgbClr val="000000"/>
                    </a:solidFill>
                    <a:latin typeface="ＭＳ Ｐゴシック"/>
                  </a:rPr>
                  <a:t>　縦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1803240"/>
                    <a:tab algn="l" pos="3606840"/>
                    <a:tab algn="l" pos="5410080"/>
                    <a:tab algn="l" pos="7213680"/>
                    <a:tab algn="l" pos="9016920"/>
                    <a:tab algn="l" pos="1082052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ＭＳ Ｐゴシック"/>
                  </a:rPr>
                  <a:t>120×235mm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" name="Text Box 67"/>
              <p:cNvSpPr/>
              <p:nvPr/>
            </p:nvSpPr>
            <p:spPr>
              <a:xfrm>
                <a:off x="1384200" y="54000"/>
                <a:ext cx="3735360" cy="9000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36000" bIns="36000" anchor="t">
                <a:noAutofit/>
              </a:bodyPr>
              <a:p>
                <a:pPr marL="114480" indent="-114480">
                  <a:buClr>
                    <a:srgbClr val="000000"/>
                  </a:buClr>
                  <a:buFont typeface="Arial"/>
                  <a:buChar char="※"/>
                  <a:tabLst>
                    <a:tab algn="l" pos="696960"/>
                    <a:tab algn="l" pos="1393920"/>
                    <a:tab algn="l" pos="2090880"/>
                    <a:tab algn="l" pos="2787480"/>
                    <a:tab algn="l" pos="3484440"/>
                    <a:tab algn="l" pos="4181400"/>
                    <a:tab algn="l" pos="4878360"/>
                    <a:tab algn="l" pos="5575320"/>
                    <a:tab algn="l" pos="6272280"/>
                    <a:tab algn="l" pos="6969240"/>
                    <a:tab algn="l" pos="7666200"/>
                    <a:tab algn="l" pos="8362800"/>
                    <a:tab algn="l" pos="9059760"/>
                    <a:tab algn="l" pos="9756720"/>
                    <a:tab algn="l" pos="10453680"/>
                  </a:tabLst>
                </a:pPr>
                <a:r>
                  <a:rPr b="1" lang="zh-CN" sz="700" spc="-1" strike="noStrike">
                    <a:solidFill>
                      <a:srgbClr val="ff0000"/>
                    </a:solidFill>
                    <a:latin typeface="Arial"/>
                  </a:rPr>
                  <a:t>フチ無印刷</a:t>
                </a:r>
                <a:r>
                  <a:rPr b="0" lang="zh-CN" sz="700" spc="-1" strike="noStrike">
                    <a:solidFill>
                      <a:srgbClr val="000000"/>
                    </a:solidFill>
                    <a:latin typeface="Arial"/>
                  </a:rPr>
                  <a:t>をご希望の場合、外側の黒い線まで背景や画像を伸ばして下さい。（右下図参照）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114480" indent="-114480">
                  <a:buClr>
                    <a:srgbClr val="000000"/>
                  </a:buClr>
                  <a:buFont typeface="Arial"/>
                  <a:buChar char="※"/>
                  <a:tabLst>
                    <a:tab algn="l" pos="696960"/>
                    <a:tab algn="l" pos="1393920"/>
                    <a:tab algn="l" pos="2090880"/>
                    <a:tab algn="l" pos="2787480"/>
                    <a:tab algn="l" pos="3484440"/>
                    <a:tab algn="l" pos="4181400"/>
                    <a:tab algn="l" pos="4878360"/>
                    <a:tab algn="l" pos="5575320"/>
                    <a:tab algn="l" pos="6272280"/>
                    <a:tab algn="l" pos="6969240"/>
                    <a:tab algn="l" pos="7666200"/>
                    <a:tab algn="l" pos="8362800"/>
                    <a:tab algn="l" pos="9059760"/>
                    <a:tab algn="l" pos="9756720"/>
                    <a:tab algn="l" pos="10453680"/>
                  </a:tabLst>
                </a:pPr>
                <a:r>
                  <a:rPr b="0" lang="zh-CN" sz="700" spc="-1" strike="noStrike">
                    <a:solidFill>
                      <a:srgbClr val="ff0000"/>
                    </a:solidFill>
                    <a:latin typeface="Arial"/>
                  </a:rPr>
                  <a:t>切れては困る絵柄や文字等</a:t>
                </a:r>
                <a:r>
                  <a:rPr b="0" lang="zh-CN" sz="700" spc="-1" strike="noStrike">
                    <a:solidFill>
                      <a:srgbClr val="000000"/>
                    </a:solidFill>
                    <a:latin typeface="Arial"/>
                  </a:rPr>
                  <a:t>は</a:t>
                </a:r>
                <a:r>
                  <a:rPr b="0" lang="zh-CN" sz="700" spc="-1" strike="noStrike">
                    <a:solidFill>
                      <a:srgbClr val="ff0000"/>
                    </a:solidFill>
                    <a:latin typeface="Arial"/>
                  </a:rPr>
                  <a:t>、仕上り（青い四角）より</a:t>
                </a:r>
                <a:r>
                  <a:rPr b="1" lang="en-US" sz="700" spc="-1" strike="noStrike">
                    <a:solidFill>
                      <a:srgbClr val="ff0000"/>
                    </a:solidFill>
                    <a:latin typeface="Arial"/>
                  </a:rPr>
                  <a:t>2</a:t>
                </a:r>
                <a:r>
                  <a:rPr b="1" lang="zh-CN" sz="700" spc="-1" strike="noStrike">
                    <a:solidFill>
                      <a:srgbClr val="ff0000"/>
                    </a:solidFill>
                    <a:latin typeface="Arial"/>
                  </a:rPr>
                  <a:t>～</a:t>
                </a:r>
                <a:r>
                  <a:rPr b="1" lang="en-US" sz="700" spc="-1" strike="noStrike">
                    <a:solidFill>
                      <a:srgbClr val="ff0000"/>
                    </a:solidFill>
                    <a:latin typeface="Arial"/>
                  </a:rPr>
                  <a:t>3mm</a:t>
                </a:r>
                <a:r>
                  <a:rPr b="1" lang="zh-CN" sz="700" spc="-1" strike="noStrike">
                    <a:solidFill>
                      <a:srgbClr val="ff0000"/>
                    </a:solidFill>
                    <a:latin typeface="Arial"/>
                  </a:rPr>
                  <a:t>以上内側</a:t>
                </a:r>
                <a:r>
                  <a:rPr b="0" lang="zh-CN" sz="700" spc="-1" strike="noStrike">
                    <a:solidFill>
                      <a:srgbClr val="ff0000"/>
                    </a:solidFill>
                    <a:latin typeface="Arial"/>
                  </a:rPr>
                  <a:t>（水色の四角の中）</a:t>
                </a:r>
                <a:r>
                  <a:rPr b="0" lang="zh-CN" sz="700" spc="-1" strike="noStrike">
                    <a:solidFill>
                      <a:srgbClr val="000000"/>
                    </a:solidFill>
                    <a:latin typeface="Arial"/>
                  </a:rPr>
                  <a:t>に入れて作成してください。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114480" indent="-114480">
                  <a:buClr>
                    <a:srgbClr val="000000"/>
                  </a:buClr>
                  <a:buFont typeface="Arial"/>
                  <a:buChar char="※"/>
                  <a:tabLst>
                    <a:tab algn="l" pos="696960"/>
                    <a:tab algn="l" pos="1393920"/>
                    <a:tab algn="l" pos="2090880"/>
                    <a:tab algn="l" pos="2787480"/>
                    <a:tab algn="l" pos="3484440"/>
                    <a:tab algn="l" pos="4181400"/>
                    <a:tab algn="l" pos="4878360"/>
                    <a:tab algn="l" pos="5575320"/>
                    <a:tab algn="l" pos="6272280"/>
                    <a:tab algn="l" pos="6969240"/>
                    <a:tab algn="l" pos="7666200"/>
                    <a:tab algn="l" pos="8362800"/>
                    <a:tab algn="l" pos="9059760"/>
                    <a:tab algn="l" pos="9756720"/>
                    <a:tab algn="l" pos="10453680"/>
                  </a:tabLst>
                </a:pPr>
                <a:r>
                  <a:rPr b="1" lang="zh-CN" sz="700" spc="-1" strike="noStrike">
                    <a:solidFill>
                      <a:srgbClr val="ff0000"/>
                    </a:solidFill>
                    <a:latin typeface="Arial"/>
                  </a:rPr>
                  <a:t>透過性</a:t>
                </a:r>
                <a:r>
                  <a:rPr b="0" lang="zh-CN" sz="700" spc="-1" strike="noStrike">
                    <a:solidFill>
                      <a:srgbClr val="000000"/>
                    </a:solidFill>
                    <a:latin typeface="Arial"/>
                  </a:rPr>
                  <a:t>や</a:t>
                </a:r>
                <a:r>
                  <a:rPr b="1" lang="zh-CN" sz="700" spc="-1" strike="noStrike">
                    <a:solidFill>
                      <a:srgbClr val="ff0000"/>
                    </a:solidFill>
                    <a:latin typeface="Arial"/>
                  </a:rPr>
                  <a:t>半透明</a:t>
                </a:r>
                <a:r>
                  <a:rPr b="0" lang="zh-CN" sz="700" spc="-1" strike="noStrike">
                    <a:solidFill>
                      <a:srgbClr val="000000"/>
                    </a:solidFill>
                    <a:latin typeface="Arial"/>
                  </a:rPr>
                  <a:t>、</a:t>
                </a:r>
                <a:r>
                  <a:rPr b="1" lang="zh-CN" sz="700" spc="-1" strike="noStrike">
                    <a:solidFill>
                      <a:srgbClr val="ff0000"/>
                    </a:solidFill>
                    <a:latin typeface="Arial"/>
                  </a:rPr>
                  <a:t>パターン</a:t>
                </a:r>
                <a:r>
                  <a:rPr b="0" lang="zh-CN" sz="700" spc="-1" strike="noStrike">
                    <a:solidFill>
                      <a:srgbClr val="000000"/>
                    </a:solidFill>
                    <a:latin typeface="Arial"/>
                  </a:rPr>
                  <a:t>など</a:t>
                </a:r>
                <a:r>
                  <a:rPr b="0" lang="zh-CN" sz="700" spc="-1" strike="noStrike">
                    <a:solidFill>
                      <a:srgbClr val="ff0000"/>
                    </a:solidFill>
                    <a:latin typeface="Arial"/>
                  </a:rPr>
                  <a:t>変換が正常に出来ない</a:t>
                </a:r>
                <a:r>
                  <a:rPr b="0" lang="zh-CN" sz="700" spc="-1" strike="noStrike">
                    <a:solidFill>
                      <a:srgbClr val="000000"/>
                    </a:solidFill>
                    <a:latin typeface="Arial"/>
                  </a:rPr>
                  <a:t>場合があります。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114480" indent="-114480">
                  <a:buClr>
                    <a:srgbClr val="000000"/>
                  </a:buClr>
                  <a:buFont typeface="Arial"/>
                  <a:buChar char="※"/>
                  <a:tabLst>
                    <a:tab algn="l" pos="696960"/>
                    <a:tab algn="l" pos="1393920"/>
                    <a:tab algn="l" pos="2090880"/>
                    <a:tab algn="l" pos="2787480"/>
                    <a:tab algn="l" pos="3484440"/>
                    <a:tab algn="l" pos="4181400"/>
                    <a:tab algn="l" pos="4878360"/>
                    <a:tab algn="l" pos="5575320"/>
                    <a:tab algn="l" pos="6272280"/>
                    <a:tab algn="l" pos="6969240"/>
                    <a:tab algn="l" pos="7666200"/>
                    <a:tab algn="l" pos="8362800"/>
                    <a:tab algn="l" pos="9059760"/>
                    <a:tab algn="l" pos="9756720"/>
                    <a:tab algn="l" pos="10453680"/>
                  </a:tabLst>
                </a:pPr>
                <a:r>
                  <a:rPr b="0" lang="zh-CN" sz="700" spc="-1" strike="noStrike">
                    <a:solidFill>
                      <a:srgbClr val="ff0000"/>
                    </a:solidFill>
                    <a:latin typeface="Arial"/>
                  </a:rPr>
                  <a:t>用紙サイズの変更</a:t>
                </a:r>
                <a:r>
                  <a:rPr b="0" lang="zh-CN" sz="700" spc="-1" strike="noStrike">
                    <a:solidFill>
                      <a:srgbClr val="000000"/>
                    </a:solidFill>
                    <a:latin typeface="Arial"/>
                  </a:rPr>
                  <a:t>や、</a:t>
                </a:r>
                <a:r>
                  <a:rPr b="0" lang="zh-CN" sz="700" spc="-1" strike="noStrike">
                    <a:solidFill>
                      <a:srgbClr val="ff0000"/>
                    </a:solidFill>
                    <a:latin typeface="Arial"/>
                  </a:rPr>
                  <a:t>トンボの移動</a:t>
                </a:r>
                <a:r>
                  <a:rPr b="0" lang="zh-CN" sz="700" spc="-1" strike="noStrike">
                    <a:solidFill>
                      <a:srgbClr val="000000"/>
                    </a:solidFill>
                    <a:latin typeface="Arial"/>
                  </a:rPr>
                  <a:t>、</a:t>
                </a:r>
                <a:r>
                  <a:rPr b="0" lang="zh-CN" sz="700" spc="-1" strike="noStrike">
                    <a:solidFill>
                      <a:srgbClr val="ff0000"/>
                    </a:solidFill>
                    <a:latin typeface="Arial"/>
                  </a:rPr>
                  <a:t>変形</a:t>
                </a:r>
                <a:r>
                  <a:rPr b="0" lang="zh-CN" sz="700" spc="-1" strike="noStrike">
                    <a:solidFill>
                      <a:srgbClr val="000000"/>
                    </a:solidFill>
                    <a:latin typeface="Arial"/>
                  </a:rPr>
                  <a:t>など</a:t>
                </a:r>
                <a:r>
                  <a:rPr b="0" lang="zh-CN" sz="700" spc="-1" strike="noStrike">
                    <a:solidFill>
                      <a:srgbClr val="ff0000"/>
                    </a:solidFill>
                    <a:latin typeface="Arial"/>
                  </a:rPr>
                  <a:t>なさらない</a:t>
                </a:r>
                <a:r>
                  <a:rPr b="0" lang="zh-CN" sz="700" spc="-1" strike="noStrike">
                    <a:solidFill>
                      <a:srgbClr val="000000"/>
                    </a:solidFill>
                    <a:latin typeface="Arial"/>
                  </a:rPr>
                  <a:t>ようお願いします。　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114480" indent="-114480">
                  <a:buClr>
                    <a:srgbClr val="000000"/>
                  </a:buClr>
                  <a:buFont typeface="Arial"/>
                  <a:buChar char="※"/>
                  <a:tabLst>
                    <a:tab algn="l" pos="696960"/>
                    <a:tab algn="l" pos="1393920"/>
                    <a:tab algn="l" pos="2090880"/>
                    <a:tab algn="l" pos="2787480"/>
                    <a:tab algn="l" pos="3484440"/>
                    <a:tab algn="l" pos="4181400"/>
                    <a:tab algn="l" pos="4878360"/>
                    <a:tab algn="l" pos="5575320"/>
                    <a:tab algn="l" pos="6272280"/>
                    <a:tab algn="l" pos="6969240"/>
                    <a:tab algn="l" pos="7666200"/>
                    <a:tab algn="l" pos="8362800"/>
                    <a:tab algn="l" pos="9059760"/>
                    <a:tab algn="l" pos="9756720"/>
                    <a:tab algn="l" pos="10453680"/>
                  </a:tabLst>
                </a:pPr>
                <a:r>
                  <a:rPr b="0" lang="zh-CN" sz="700" spc="-1" strike="noStrike">
                    <a:solidFill>
                      <a:srgbClr val="000000"/>
                    </a:solidFill>
                    <a:latin typeface="Arial"/>
                  </a:rPr>
                  <a:t>テンプレートを使用して</a:t>
                </a: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PDF</a:t>
                </a:r>
                <a:r>
                  <a:rPr b="0" lang="zh-CN" sz="700" spc="-1" strike="noStrike">
                    <a:solidFill>
                      <a:srgbClr val="000000"/>
                    </a:solidFill>
                    <a:latin typeface="Arial"/>
                  </a:rPr>
                  <a:t>を作成する際は、説明部分を削除してください。また、テンプレートと同じサイズかどうか確認してください。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71280" y="557280"/>
                <a:ext cx="543240" cy="3427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60000" y="452160"/>
            <a:ext cx="6479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 type="body"/>
          </p:nvPr>
        </p:nvSpPr>
        <p:spPr>
          <a:xfrm>
            <a:off x="360000" y="2653560"/>
            <a:ext cx="6479640" cy="65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31T08:55:39Z</dcterms:created>
  <dc:creator>User</dc:creator>
  <dc:description/>
  <dc:language>en-US</dc:language>
  <cp:lastModifiedBy>User</cp:lastModifiedBy>
  <dcterms:modified xsi:type="dcterms:W3CDTF">2010-06-03T01:46:25Z</dcterms:modified>
  <cp:revision>4</cp:revision>
  <dc:subject/>
  <dc:title>スライド 1</dc:title>
</cp:coreProperties>
</file>