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0544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905440" y="1004580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7147080" cy="9842400"/>
            <a:chOff x="54000" y="54000"/>
            <a:chExt cx="7147080" cy="9842400"/>
          </a:xfrm>
        </p:grpSpPr>
        <p:grpSp>
          <p:nvGrpSpPr>
            <p:cNvPr id="16" name=""/>
            <p:cNvGrpSpPr/>
            <p:nvPr/>
          </p:nvGrpSpPr>
          <p:grpSpPr>
            <a:xfrm>
              <a:off x="54000" y="54000"/>
              <a:ext cx="7147080" cy="9842400"/>
              <a:chOff x="54000" y="54000"/>
              <a:chExt cx="7147080" cy="984240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61920" y="1547640"/>
                <a:ext cx="5587920" cy="8240760"/>
                <a:chOff x="61920" y="1547640"/>
                <a:chExt cx="5587920" cy="824076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1547640" y="1547640"/>
                  <a:ext cx="4102200" cy="824076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20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23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61920" y="1314360"/>
                <a:ext cx="5695920" cy="8582040"/>
                <a:chOff x="61920" y="1314360"/>
                <a:chExt cx="5695920" cy="858204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1440000" y="1440000"/>
                  <a:ext cx="4317840" cy="845640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28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0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618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CN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大判はがき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A</a:t>
                  </a:r>
                  <a:r>
                    <a:rPr b="1" lang="zh-CN" sz="1300" spc="-1" strike="noStrike">
                      <a:solidFill>
                        <a:srgbClr val="000000"/>
                      </a:solidFill>
                      <a:latin typeface="ＭＳ Ｐゴシック"/>
                    </a:rPr>
                    <a:t>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ＭＳ Ｐゴシック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" name=""/>
            <p:cNvSpPr/>
            <p:nvPr/>
          </p:nvSpPr>
          <p:spPr>
            <a:xfrm>
              <a:off x="1978200" y="3057480"/>
              <a:ext cx="3240000" cy="216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zh-CN" sz="2500" spc="-1" strike="noStrike">
                  <a:solidFill>
                    <a:srgbClr val="ff0000"/>
                  </a:solidFill>
                  <a:latin typeface="ＭＳ Ｐゴシック"/>
                </a:rPr>
                <a:t>【非印字部分（宛名）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User</dc:creator>
  <dc:description/>
  <dc:language>en-US</dc:language>
  <cp:lastModifiedBy>User</cp:lastModifiedBy>
  <dcterms:modified xsi:type="dcterms:W3CDTF">2011-12-06T09:16:33Z</dcterms:modified>
  <cp:revision>5</cp:revision>
  <dc:subject/>
  <dc:title>スライド 1</dc:title>
</cp:coreProperties>
</file>