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571538" cy="10439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sldImg"/>
          </p:nvPr>
        </p:nvSpPr>
        <p:spPr>
          <a:xfrm>
            <a:off x="1200240" y="685440"/>
            <a:ext cx="44575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66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9F1D3-A1EF-446B-BC56-21B63E6FA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ED0CB-41B6-455E-A6DF-4934D72FA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200240" y="685800"/>
            <a:ext cx="445752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0816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93808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7860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480816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893808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678600" y="416520"/>
            <a:ext cx="12214440" cy="80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9640" y="1079640"/>
            <a:ext cx="11414160" cy="8281800"/>
            <a:chOff x="1079640" y="1079640"/>
            <a:chExt cx="11414160" cy="8281800"/>
          </a:xfrm>
        </p:grpSpPr>
        <p:sp>
          <p:nvSpPr>
            <p:cNvPr id="1" name="Line 22"/>
            <p:cNvSpPr/>
            <p:nvPr/>
          </p:nvSpPr>
          <p:spPr>
            <a:xfrm>
              <a:off x="1079640" y="1330200"/>
              <a:ext cx="1141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23"/>
            <p:cNvSpPr/>
            <p:nvPr/>
          </p:nvSpPr>
          <p:spPr>
            <a:xfrm>
              <a:off x="1079640" y="1438200"/>
              <a:ext cx="1141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24"/>
            <p:cNvSpPr/>
            <p:nvPr/>
          </p:nvSpPr>
          <p:spPr>
            <a:xfrm>
              <a:off x="1079640" y="5218200"/>
              <a:ext cx="1141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25"/>
            <p:cNvSpPr/>
            <p:nvPr/>
          </p:nvSpPr>
          <p:spPr>
            <a:xfrm>
              <a:off x="1079640" y="8996400"/>
              <a:ext cx="1141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26"/>
            <p:cNvSpPr/>
            <p:nvPr/>
          </p:nvSpPr>
          <p:spPr>
            <a:xfrm>
              <a:off x="1079640" y="9104400"/>
              <a:ext cx="1141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27"/>
            <p:cNvSpPr/>
            <p:nvPr/>
          </p:nvSpPr>
          <p:spPr>
            <a:xfrm>
              <a:off x="1330200" y="1079640"/>
              <a:ext cx="0" cy="82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28"/>
            <p:cNvSpPr/>
            <p:nvPr/>
          </p:nvSpPr>
          <p:spPr>
            <a:xfrm>
              <a:off x="1438200" y="1079640"/>
              <a:ext cx="0" cy="82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29"/>
            <p:cNvSpPr/>
            <p:nvPr/>
          </p:nvSpPr>
          <p:spPr>
            <a:xfrm>
              <a:off x="6783480" y="1079640"/>
              <a:ext cx="0" cy="82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30"/>
            <p:cNvSpPr/>
            <p:nvPr/>
          </p:nvSpPr>
          <p:spPr>
            <a:xfrm>
              <a:off x="12126960" y="1079640"/>
              <a:ext cx="0" cy="82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31"/>
            <p:cNvSpPr/>
            <p:nvPr/>
          </p:nvSpPr>
          <p:spPr>
            <a:xfrm>
              <a:off x="12234960" y="1079640"/>
              <a:ext cx="0" cy="82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32"/>
            <p:cNvSpPr/>
            <p:nvPr/>
          </p:nvSpPr>
          <p:spPr>
            <a:xfrm>
              <a:off x="1330200" y="1330200"/>
              <a:ext cx="10906200" cy="7774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Oval 62"/>
          <p:cNvSpPr/>
          <p:nvPr/>
        </p:nvSpPr>
        <p:spPr>
          <a:xfrm>
            <a:off x="12277800" y="1025640"/>
            <a:ext cx="242640" cy="24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Oval 63"/>
          <p:cNvSpPr/>
          <p:nvPr/>
        </p:nvSpPr>
        <p:spPr>
          <a:xfrm>
            <a:off x="12276000" y="912816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Text Box 21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" name=""/>
          <p:cNvGrpSpPr/>
          <p:nvPr/>
        </p:nvGrpSpPr>
        <p:grpSpPr>
          <a:xfrm>
            <a:off x="54000" y="54000"/>
            <a:ext cx="12077640" cy="8947080"/>
            <a:chOff x="54000" y="54000"/>
            <a:chExt cx="12077640" cy="8947080"/>
          </a:xfrm>
        </p:grpSpPr>
        <p:grpSp>
          <p:nvGrpSpPr>
            <p:cNvPr id="16" name=""/>
            <p:cNvGrpSpPr/>
            <p:nvPr/>
          </p:nvGrpSpPr>
          <p:grpSpPr>
            <a:xfrm>
              <a:off x="54000" y="54000"/>
              <a:ext cx="12077640" cy="8947080"/>
              <a:chOff x="54000" y="54000"/>
              <a:chExt cx="12077640" cy="8947080"/>
            </a:xfrm>
          </p:grpSpPr>
          <p:grpSp>
            <p:nvGrpSpPr>
              <p:cNvPr id="17" name="Group 64"/>
              <p:cNvGrpSpPr/>
              <p:nvPr/>
            </p:nvGrpSpPr>
            <p:grpSpPr>
              <a:xfrm>
                <a:off x="71280" y="2925720"/>
                <a:ext cx="1260720" cy="539640"/>
                <a:chOff x="71280" y="2925720"/>
                <a:chExt cx="1260720" cy="539640"/>
              </a:xfrm>
            </p:grpSpPr>
            <p:sp>
              <p:nvSpPr>
                <p:cNvPr id="18" name="Line 65"/>
                <p:cNvSpPr/>
                <p:nvPr/>
              </p:nvSpPr>
              <p:spPr>
                <a:xfrm>
                  <a:off x="881280" y="3195720"/>
                  <a:ext cx="450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" name="Text Box 66"/>
                <p:cNvSpPr/>
                <p:nvPr/>
              </p:nvSpPr>
              <p:spPr>
                <a:xfrm>
                  <a:off x="71280" y="2925720"/>
                  <a:ext cx="936720" cy="539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フチ無印刷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は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この</a:t>
                  </a: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黒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い線まで伸ばす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0" name="Picture 67" descr="ぬりたし説明"/>
              <p:cNvPicPr/>
              <p:nvPr/>
            </p:nvPicPr>
            <p:blipFill>
              <a:blip r:embed="rId2"/>
              <a:stretch/>
            </p:blipFill>
            <p:spPr>
              <a:xfrm>
                <a:off x="71280" y="3611520"/>
                <a:ext cx="1160640" cy="3200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1" name="Group 81"/>
              <p:cNvGrpSpPr/>
              <p:nvPr/>
            </p:nvGrpSpPr>
            <p:grpSpPr>
              <a:xfrm>
                <a:off x="71280" y="1547640"/>
                <a:ext cx="11952360" cy="7345440"/>
                <a:chOff x="71280" y="1547640"/>
                <a:chExt cx="11952360" cy="7345440"/>
              </a:xfrm>
            </p:grpSpPr>
            <p:sp>
              <p:nvSpPr>
                <p:cNvPr id="22" name="Rectangle 47"/>
                <p:cNvSpPr/>
                <p:nvPr/>
              </p:nvSpPr>
              <p:spPr>
                <a:xfrm>
                  <a:off x="1547640" y="1547640"/>
                  <a:ext cx="10476000" cy="7345440"/>
                </a:xfrm>
                <a:prstGeom prst="rect">
                  <a:avLst/>
                </a:prstGeom>
                <a:noFill/>
                <a:ln w="64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3" name="Group 68"/>
                <p:cNvGrpSpPr/>
                <p:nvPr/>
              </p:nvGrpSpPr>
              <p:grpSpPr>
                <a:xfrm>
                  <a:off x="71280" y="2112840"/>
                  <a:ext cx="1476360" cy="684360"/>
                  <a:chOff x="71280" y="2112840"/>
                  <a:chExt cx="1476360" cy="684360"/>
                </a:xfrm>
              </p:grpSpPr>
              <p:sp>
                <p:nvSpPr>
                  <p:cNvPr id="24" name="Line 69"/>
                  <p:cNvSpPr/>
                  <p:nvPr/>
                </p:nvSpPr>
                <p:spPr>
                  <a:xfrm>
                    <a:off x="880920" y="2453760"/>
                    <a:ext cx="666720" cy="0"/>
                  </a:xfrm>
                  <a:prstGeom prst="line">
                    <a:avLst/>
                  </a:prstGeom>
                  <a:ln w="936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" name="Text Box 70"/>
                  <p:cNvSpPr/>
                  <p:nvPr/>
                </p:nvSpPr>
                <p:spPr>
                  <a:xfrm>
                    <a:off x="71280" y="2112840"/>
                    <a:ext cx="936360" cy="68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切れては困る物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は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水色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の線の内側に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6" name="Group 80"/>
              <p:cNvGrpSpPr/>
              <p:nvPr/>
            </p:nvGrpSpPr>
            <p:grpSpPr>
              <a:xfrm>
                <a:off x="71280" y="1440000"/>
                <a:ext cx="12060360" cy="7561080"/>
                <a:chOff x="71280" y="1440000"/>
                <a:chExt cx="12060360" cy="7561080"/>
              </a:xfrm>
            </p:grpSpPr>
            <p:sp>
              <p:nvSpPr>
                <p:cNvPr id="27" name="Rectangle 55"/>
                <p:cNvSpPr/>
                <p:nvPr/>
              </p:nvSpPr>
              <p:spPr>
                <a:xfrm>
                  <a:off x="1440000" y="1440000"/>
                  <a:ext cx="10691640" cy="7561080"/>
                </a:xfrm>
                <a:prstGeom prst="rect">
                  <a:avLst/>
                </a:prstGeom>
                <a:noFill/>
                <a:ln w="64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" name="Group 71"/>
                <p:cNvGrpSpPr/>
                <p:nvPr/>
              </p:nvGrpSpPr>
              <p:grpSpPr>
                <a:xfrm>
                  <a:off x="71280" y="1440000"/>
                  <a:ext cx="1368720" cy="544320"/>
                  <a:chOff x="71280" y="1440000"/>
                  <a:chExt cx="1368720" cy="544320"/>
                </a:xfrm>
              </p:grpSpPr>
              <p:sp>
                <p:nvSpPr>
                  <p:cNvPr id="29" name="Line 72"/>
                  <p:cNvSpPr/>
                  <p:nvPr/>
                </p:nvSpPr>
                <p:spPr>
                  <a:xfrm>
                    <a:off x="881280" y="1712880"/>
                    <a:ext cx="558720" cy="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" name="Text Box 73"/>
                  <p:cNvSpPr/>
                  <p:nvPr/>
                </p:nvSpPr>
                <p:spPr>
                  <a:xfrm>
                    <a:off x="71280" y="1440000"/>
                    <a:ext cx="936720" cy="5443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仕上がり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でカットしま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" name=""/>
              <p:cNvGrpSpPr/>
              <p:nvPr/>
            </p:nvGrpSpPr>
            <p:grpSpPr>
              <a:xfrm>
                <a:off x="54000" y="54000"/>
                <a:ext cx="5065560" cy="900000"/>
                <a:chOff x="54000" y="54000"/>
                <a:chExt cx="5065560" cy="900000"/>
              </a:xfrm>
            </p:grpSpPr>
            <p:sp>
              <p:nvSpPr>
                <p:cNvPr id="32" name="Rectangle 65"/>
                <p:cNvSpPr/>
                <p:nvPr/>
              </p:nvSpPr>
              <p:spPr>
                <a:xfrm>
                  <a:off x="54000" y="54000"/>
                  <a:ext cx="133200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0" rIns="36000" tIns="36000" bIns="36000" anchor="t">
                  <a:noAutofit/>
                </a:bodyPr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A4</a:t>
                  </a:r>
                  <a:r>
                    <a:rPr b="1" lang="ja-JP" sz="1600" spc="-1" strike="noStrike">
                      <a:solidFill>
                        <a:srgbClr val="000000"/>
                      </a:solidFill>
                      <a:latin typeface="Arial"/>
                    </a:rPr>
                    <a:t>サイズ　横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297×210m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Text Box 67"/>
                <p:cNvSpPr/>
                <p:nvPr/>
              </p:nvSpPr>
              <p:spPr>
                <a:xfrm>
                  <a:off x="1384200" y="54000"/>
                  <a:ext cx="3735360" cy="900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noAutofit/>
                </a:bodyPr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フチ無印刷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ご希望の場合、外側の黒い線まで背景や画像を伸ばして下さい。（左下図参照）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切れては困る絵柄や文字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は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、仕上り（青い四角）より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2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～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3mm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以上内側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（水色の四角の中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に入れて作成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透過性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半透明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パターン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換が正常に出来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場合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用紙サイズの変更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トンボの移動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形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なさら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ようお願いします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テンプレートを使用して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作成する際は、説明部分を削除してください。また、テンプレートと同じサイズかどうか確認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1280" y="557280"/>
                  <a:ext cx="543240" cy="342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5" name=""/>
            <p:cNvSpPr/>
            <p:nvPr/>
          </p:nvSpPr>
          <p:spPr>
            <a:xfrm>
              <a:off x="2517840" y="3238560"/>
              <a:ext cx="3240000" cy="2160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684000" bIns="684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38080"/>
                  <a:tab algn="l" pos="1676520"/>
                  <a:tab algn="l" pos="2514600"/>
                  <a:tab algn="l" pos="3352680"/>
                  <a:tab algn="l" pos="4191120"/>
                  <a:tab algn="l" pos="5029200"/>
                  <a:tab algn="l" pos="5867280"/>
                  <a:tab algn="l" pos="6705720"/>
                  <a:tab algn="l" pos="7543800"/>
                  <a:tab algn="l" pos="8381880"/>
                  <a:tab algn="l" pos="9220320"/>
                  <a:tab algn="l" pos="10058400"/>
                  <a:tab algn="l" pos="10896480"/>
                </a:tabLst>
              </a:pPr>
              <a:r>
                <a:rPr b="1" lang="en-US" sz="2500" spc="-1" strike="noStrike">
                  <a:solidFill>
                    <a:srgbClr val="ff0000"/>
                  </a:solidFill>
                  <a:latin typeface="ＭＳ Ｐゴシック"/>
                </a:rPr>
                <a:t>【</a:t>
              </a:r>
              <a:r>
                <a:rPr b="1" lang="ja-JP" sz="2500" spc="-1" strike="noStrike">
                  <a:solidFill>
                    <a:srgbClr val="ff0000"/>
                  </a:solidFill>
                  <a:latin typeface="ＭＳ Ｐゴシック"/>
                </a:rPr>
                <a:t>非印字部分（宛名）</a:t>
              </a:r>
              <a:r>
                <a:rPr b="1" lang="en-US" sz="2500" spc="-1" strike="noStrike">
                  <a:solidFill>
                    <a:srgbClr val="ff0000"/>
                  </a:solidFill>
                  <a:latin typeface="ＭＳ Ｐゴシック"/>
                </a:rPr>
                <a:t>】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838080"/>
                  <a:tab algn="l" pos="1676520"/>
                  <a:tab algn="l" pos="2514600"/>
                  <a:tab algn="l" pos="3352680"/>
                  <a:tab algn="l" pos="4191120"/>
                  <a:tab algn="l" pos="5029200"/>
                  <a:tab algn="l" pos="5867280"/>
                  <a:tab algn="l" pos="6705720"/>
                  <a:tab algn="l" pos="7543800"/>
                  <a:tab algn="l" pos="8381880"/>
                  <a:tab algn="l" pos="9220320"/>
                  <a:tab algn="l" pos="10058400"/>
                  <a:tab algn="l" pos="1089648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宛名データが印字されるエリアとなります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838080"/>
                  <a:tab algn="l" pos="1676520"/>
                  <a:tab algn="l" pos="2514600"/>
                  <a:tab algn="l" pos="3352680"/>
                  <a:tab algn="l" pos="4191120"/>
                  <a:tab algn="l" pos="5029200"/>
                  <a:tab algn="l" pos="5867280"/>
                  <a:tab algn="l" pos="6705720"/>
                  <a:tab algn="l" pos="7543800"/>
                  <a:tab algn="l" pos="8381880"/>
                  <a:tab algn="l" pos="9220320"/>
                  <a:tab algn="l" pos="10058400"/>
                  <a:tab algn="l" pos="1089648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この枠内を避けてデータを作成してください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suprint</dc:creator>
  <dc:description/>
  <dc:language>en-US</dc:language>
  <cp:lastModifiedBy>User</cp:lastModifiedBy>
  <dcterms:modified xsi:type="dcterms:W3CDTF">2011-12-06T09:12:44Z</dcterms:modified>
  <cp:revision>17</cp:revision>
  <dc:subject/>
  <dc:title>スライド 1</dc:title>
</cp:coreProperties>
</file>