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C8F-EC18-4638-8D06-ED6EA6FF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27EF-D949-48BC-989B-28344DCF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47"/>
          <p:cNvSpPr/>
          <p:nvPr/>
        </p:nvSpPr>
        <p:spPr>
          <a:xfrm>
            <a:off x="91346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48"/>
          <p:cNvSpPr/>
          <p:nvPr/>
        </p:nvSpPr>
        <p:spPr>
          <a:xfrm>
            <a:off x="9132840" y="122698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54000" y="54000"/>
            <a:ext cx="8947080" cy="12077640"/>
            <a:chOff x="54000" y="54000"/>
            <a:chExt cx="8947080" cy="12077640"/>
          </a:xfrm>
        </p:grpSpPr>
        <p:grpSp>
          <p:nvGrpSpPr>
            <p:cNvPr id="15" name=""/>
            <p:cNvGrpSpPr/>
            <p:nvPr/>
          </p:nvGrpSpPr>
          <p:grpSpPr>
            <a:xfrm>
              <a:off x="54000" y="54000"/>
              <a:ext cx="8947080" cy="12077640"/>
              <a:chOff x="54000" y="54000"/>
              <a:chExt cx="8947080" cy="12077640"/>
            </a:xfrm>
          </p:grpSpPr>
          <p:grpSp>
            <p:nvGrpSpPr>
              <p:cNvPr id="16" name="Group 49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17" name="Line 50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Text Box 51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" name="Picture 5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" name="Group 65"/>
              <p:cNvGrpSpPr/>
              <p:nvPr/>
            </p:nvGrpSpPr>
            <p:grpSpPr>
              <a:xfrm>
                <a:off x="71280" y="1440000"/>
                <a:ext cx="8929800" cy="10691640"/>
                <a:chOff x="71280" y="1440000"/>
                <a:chExt cx="8929800" cy="10691640"/>
              </a:xfrm>
            </p:grpSpPr>
            <p:sp>
              <p:nvSpPr>
                <p:cNvPr id="21" name="Rectangle 40"/>
                <p:cNvSpPr/>
                <p:nvPr/>
              </p:nvSpPr>
              <p:spPr>
                <a:xfrm>
                  <a:off x="1440000" y="1440000"/>
                  <a:ext cx="7561080" cy="1069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" name="Group 56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23" name="Line 57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Text Box 58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" name="Group 66"/>
              <p:cNvGrpSpPr/>
              <p:nvPr/>
            </p:nvGrpSpPr>
            <p:grpSpPr>
              <a:xfrm>
                <a:off x="71280" y="1547640"/>
                <a:ext cx="8821800" cy="10476000"/>
                <a:chOff x="71280" y="1547640"/>
                <a:chExt cx="8821800" cy="10476000"/>
              </a:xfrm>
            </p:grpSpPr>
            <p:sp>
              <p:nvSpPr>
                <p:cNvPr id="26" name="Rectangle 32"/>
                <p:cNvSpPr/>
                <p:nvPr/>
              </p:nvSpPr>
              <p:spPr>
                <a:xfrm>
                  <a:off x="1547640" y="1547640"/>
                  <a:ext cx="7345440" cy="10476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" name="Group 5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28" name="Line 5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Text Box 5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3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0×29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" name=""/>
            <p:cNvSpPr/>
            <p:nvPr/>
          </p:nvSpPr>
          <p:spPr>
            <a:xfrm>
              <a:off x="3598920" y="3417840"/>
              <a:ext cx="3240000" cy="216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684000" bIns="684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【</a:t>
              </a:r>
              <a:r>
                <a:rPr b="1" lang="ja-JP" sz="2500" spc="-1" strike="noStrike">
                  <a:solidFill>
                    <a:srgbClr val="ff0000"/>
                  </a:solidFill>
                  <a:latin typeface="ＭＳ Ｐゴシック"/>
                </a:rPr>
                <a:t>非印字部分（宛名）</a:t>
              </a: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宛名データが印字されるエリアとな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この枠内を避けてデータを作成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1-12-06T09:21:45Z</dcterms:modified>
  <cp:revision>17</cp:revision>
  <dc:subject/>
  <dc:title>スライド 1</dc:title>
</cp:coreProperties>
</file>