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07488" cy="77406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400" y="308520"/>
            <a:ext cx="81968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5400" y="1811160"/>
            <a:ext cx="819684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5400" y="4155840"/>
            <a:ext cx="819684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308520"/>
            <a:ext cx="81968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5400" y="1811160"/>
            <a:ext cx="39999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5880" y="1811160"/>
            <a:ext cx="39999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5400" y="4155840"/>
            <a:ext cx="39999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55880" y="4155840"/>
            <a:ext cx="39999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308520"/>
            <a:ext cx="81968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400" y="1811160"/>
            <a:ext cx="26391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27040" y="1811160"/>
            <a:ext cx="26391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98320" y="1811160"/>
            <a:ext cx="26391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5400" y="4155840"/>
            <a:ext cx="26391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27040" y="4155840"/>
            <a:ext cx="26391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98320" y="4155840"/>
            <a:ext cx="26391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308520"/>
            <a:ext cx="81968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5400" y="1811160"/>
            <a:ext cx="8196840" cy="44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5400" y="308520"/>
            <a:ext cx="81968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5400" y="1811160"/>
            <a:ext cx="8196840" cy="44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400" y="308520"/>
            <a:ext cx="81968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5400" y="1811160"/>
            <a:ext cx="3999960" cy="44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5880" y="1811160"/>
            <a:ext cx="3999960" cy="44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400" y="308520"/>
            <a:ext cx="81968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5400" y="308520"/>
            <a:ext cx="8196840" cy="59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5400" y="308520"/>
            <a:ext cx="81968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5400" y="1811160"/>
            <a:ext cx="39999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55880" y="1811160"/>
            <a:ext cx="3999960" cy="44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5400" y="4155840"/>
            <a:ext cx="39999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308520"/>
            <a:ext cx="81968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5400" y="1811160"/>
            <a:ext cx="8196840" cy="44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5400" y="308520"/>
            <a:ext cx="81968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5400" y="1811160"/>
            <a:ext cx="3999960" cy="44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5880" y="1811160"/>
            <a:ext cx="39999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55880" y="4155840"/>
            <a:ext cx="39999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5400" y="308520"/>
            <a:ext cx="81968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5400" y="1811160"/>
            <a:ext cx="39999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5880" y="1811160"/>
            <a:ext cx="39999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5400" y="4155840"/>
            <a:ext cx="819684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5400" y="308520"/>
            <a:ext cx="81968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5400" y="1811160"/>
            <a:ext cx="819684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5400" y="4155840"/>
            <a:ext cx="819684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308520"/>
            <a:ext cx="81968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5400" y="1811160"/>
            <a:ext cx="39999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55880" y="1811160"/>
            <a:ext cx="39999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5400" y="4155840"/>
            <a:ext cx="39999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55880" y="4155840"/>
            <a:ext cx="39999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308520"/>
            <a:ext cx="81968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5400" y="1811160"/>
            <a:ext cx="26391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27040" y="1811160"/>
            <a:ext cx="26391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998320" y="1811160"/>
            <a:ext cx="26391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5400" y="4155840"/>
            <a:ext cx="26391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27040" y="4155840"/>
            <a:ext cx="26391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998320" y="4155840"/>
            <a:ext cx="26391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400" y="308520"/>
            <a:ext cx="81968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811160"/>
            <a:ext cx="8196840" cy="44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308520"/>
            <a:ext cx="81968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811160"/>
            <a:ext cx="3999960" cy="44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5880" y="1811160"/>
            <a:ext cx="3999960" cy="44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308520"/>
            <a:ext cx="81968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5400" y="308520"/>
            <a:ext cx="8196840" cy="59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400" y="308520"/>
            <a:ext cx="81968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811160"/>
            <a:ext cx="39999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5880" y="1811160"/>
            <a:ext cx="3999960" cy="44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4155840"/>
            <a:ext cx="39999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308520"/>
            <a:ext cx="81968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400" y="1811160"/>
            <a:ext cx="3999960" cy="44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5880" y="1811160"/>
            <a:ext cx="39999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55880" y="4155840"/>
            <a:ext cx="39999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5400" y="308520"/>
            <a:ext cx="81968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5400" y="1811160"/>
            <a:ext cx="39999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5880" y="1811160"/>
            <a:ext cx="39999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5400" y="4155840"/>
            <a:ext cx="819684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1"/>
          <p:cNvGrpSpPr/>
          <p:nvPr/>
        </p:nvGrpSpPr>
        <p:grpSpPr>
          <a:xfrm>
            <a:off x="36360" y="36360"/>
            <a:ext cx="5065920" cy="1008360"/>
            <a:chOff x="36360" y="36360"/>
            <a:chExt cx="5065920" cy="1008360"/>
          </a:xfrm>
        </p:grpSpPr>
        <p:sp>
          <p:nvSpPr>
            <p:cNvPr id="1" name="Rectangle 65"/>
            <p:cNvSpPr/>
            <p:nvPr/>
          </p:nvSpPr>
          <p:spPr>
            <a:xfrm>
              <a:off x="36360" y="36360"/>
              <a:ext cx="133200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Arial"/>
                </a:rPr>
                <a:t>柄付きポリうちわ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ミドルサイズ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◎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71×241mm</a:t>
              </a: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（うちわ本体）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　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67×129mm</a:t>
              </a: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（型抜きサイズ）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Text Box 67"/>
            <p:cNvSpPr/>
            <p:nvPr/>
          </p:nvSpPr>
          <p:spPr>
            <a:xfrm>
              <a:off x="1366560" y="36360"/>
              <a:ext cx="373572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じめに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「名前を付けて保存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から、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ファイルの種類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を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「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プレゼンテーション（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*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.pptx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）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で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保存し直し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てください。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無い場合（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2003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以下）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変更せず保存し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す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フチ無し印刷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（背景に絵柄がある場合）は、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外側の黒い四角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で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伸ばして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切れては困る絵柄や文字等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、</a:t>
              </a:r>
              <a:r>
                <a:rPr b="1" lang="ja-JP" sz="800" spc="-1" strike="noStrike">
                  <a:solidFill>
                    <a:srgbClr val="00b0f0"/>
                  </a:solidFill>
                  <a:latin typeface="ＭＳ Ｐゴシック"/>
                </a:rPr>
                <a:t>内側の水色の線の中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に入れて作成して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透過性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や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半透明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パターン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など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変換が正常に出来ない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場合があります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用紙サイズの変更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や、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トンボの移動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変形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など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なさらない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ようお願いします。　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このテンプレートから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を作成する際は、説明部分の線などを削除してください。</a:t>
              </a:r>
              <a:br>
                <a:rPr sz="800"/>
              </a:b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た、作成した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が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「</a:t>
              </a:r>
              <a:r>
                <a:rPr b="1" lang="en-US" sz="800" spc="-1" strike="noStrike">
                  <a:solidFill>
                    <a:srgbClr val="ff0000"/>
                  </a:solidFill>
                  <a:latin typeface="ＭＳ Ｐゴシック"/>
                </a:rPr>
                <a:t>253×215mm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かどうか確認して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" name="グループ化 24" descr=""/>
            <p:cNvPicPr/>
            <p:nvPr/>
          </p:nvPicPr>
          <p:blipFill>
            <a:blip r:embed="rId2"/>
            <a:stretch/>
          </p:blipFill>
          <p:spPr>
            <a:xfrm>
              <a:off x="60480" y="725400"/>
              <a:ext cx="463320" cy="29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Graphic 2"/>
          <p:cNvSpPr/>
          <p:nvPr/>
        </p:nvSpPr>
        <p:spPr>
          <a:xfrm>
            <a:off x="1325520" y="1335240"/>
            <a:ext cx="6445440" cy="5076720"/>
          </a:xfrm>
          <a:custGeom>
            <a:avLst/>
            <a:gdLst/>
            <a:ahLst/>
            <a:rect l="l" t="t" r="r" b="b"/>
            <a:pathLst>
              <a:path w="6444615" h="5076190">
                <a:moveTo>
                  <a:pt x="6444005" y="0"/>
                </a:moveTo>
                <a:lnTo>
                  <a:pt x="0" y="0"/>
                </a:lnTo>
                <a:lnTo>
                  <a:pt x="0" y="5075999"/>
                </a:lnTo>
                <a:lnTo>
                  <a:pt x="6444005" y="5075999"/>
                </a:lnTo>
                <a:lnTo>
                  <a:pt x="6444005" y="0"/>
                </a:lnTo>
                <a:close/>
              </a:path>
            </a:pathLst>
          </a:custGeom>
          <a:noFill/>
          <a:ln w="6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Graphic 5"/>
          <p:cNvSpPr/>
          <p:nvPr/>
        </p:nvSpPr>
        <p:spPr>
          <a:xfrm>
            <a:off x="1073160" y="6303960"/>
            <a:ext cx="252360" cy="360360"/>
          </a:xfrm>
          <a:custGeom>
            <a:avLst/>
            <a:gdLst/>
            <a:ahLst/>
            <a:rect l="l" t="t" r="r" b="b"/>
            <a:pathLst>
              <a:path w="252095" h="360045">
                <a:moveTo>
                  <a:pt x="0" y="0"/>
                </a:moveTo>
                <a:lnTo>
                  <a:pt x="252006" y="0"/>
                </a:lnTo>
                <a:lnTo>
                  <a:pt x="252006" y="359994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Graphic 6"/>
          <p:cNvSpPr/>
          <p:nvPr/>
        </p:nvSpPr>
        <p:spPr>
          <a:xfrm>
            <a:off x="1073160" y="6411960"/>
            <a:ext cx="360360" cy="252360"/>
          </a:xfrm>
          <a:custGeom>
            <a:avLst/>
            <a:gdLst/>
            <a:ahLst/>
            <a:rect l="l" t="t" r="r" b="b"/>
            <a:pathLst>
              <a:path w="360045" h="252095">
                <a:moveTo>
                  <a:pt x="359994" y="252006"/>
                </a:moveTo>
                <a:lnTo>
                  <a:pt x="359994" y="0"/>
                </a:ln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Graphic 7"/>
          <p:cNvSpPr/>
          <p:nvPr/>
        </p:nvSpPr>
        <p:spPr>
          <a:xfrm>
            <a:off x="1073160" y="1084320"/>
            <a:ext cx="252360" cy="360360"/>
          </a:xfrm>
          <a:custGeom>
            <a:avLst/>
            <a:gdLst/>
            <a:ahLst/>
            <a:rect l="l" t="t" r="r" b="b"/>
            <a:pathLst>
              <a:path w="252095" h="360045">
                <a:moveTo>
                  <a:pt x="0" y="359994"/>
                </a:moveTo>
                <a:lnTo>
                  <a:pt x="252006" y="359994"/>
                </a:lnTo>
                <a:lnTo>
                  <a:pt x="252006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Graphic 8"/>
          <p:cNvSpPr/>
          <p:nvPr/>
        </p:nvSpPr>
        <p:spPr>
          <a:xfrm>
            <a:off x="1073160" y="1084320"/>
            <a:ext cx="360360" cy="252360"/>
          </a:xfrm>
          <a:custGeom>
            <a:avLst/>
            <a:gdLst/>
            <a:ahLst/>
            <a:rect l="l" t="t" r="r" b="b"/>
            <a:pathLst>
              <a:path w="360045" h="252095">
                <a:moveTo>
                  <a:pt x="359994" y="0"/>
                </a:moveTo>
                <a:lnTo>
                  <a:pt x="359994" y="251993"/>
                </a:lnTo>
                <a:lnTo>
                  <a:pt x="0" y="251993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Graphic 9"/>
          <p:cNvSpPr/>
          <p:nvPr/>
        </p:nvSpPr>
        <p:spPr>
          <a:xfrm>
            <a:off x="7769160" y="1084320"/>
            <a:ext cx="252360" cy="360360"/>
          </a:xfrm>
          <a:custGeom>
            <a:avLst/>
            <a:gdLst/>
            <a:ahLst/>
            <a:rect l="l" t="t" r="r" b="b"/>
            <a:pathLst>
              <a:path w="252095" h="360045">
                <a:moveTo>
                  <a:pt x="252006" y="359994"/>
                </a:moveTo>
                <a:lnTo>
                  <a:pt x="0" y="359994"/>
                </a:ln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Graphic 10"/>
          <p:cNvSpPr/>
          <p:nvPr/>
        </p:nvSpPr>
        <p:spPr>
          <a:xfrm>
            <a:off x="7661160" y="1084320"/>
            <a:ext cx="360360" cy="252360"/>
          </a:xfrm>
          <a:custGeom>
            <a:avLst/>
            <a:gdLst/>
            <a:ahLst/>
            <a:rect l="l" t="t" r="r" b="b"/>
            <a:pathLst>
              <a:path w="360045" h="252095">
                <a:moveTo>
                  <a:pt x="0" y="0"/>
                </a:moveTo>
                <a:lnTo>
                  <a:pt x="0" y="251993"/>
                </a:lnTo>
                <a:lnTo>
                  <a:pt x="359994" y="251993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Graphic 11"/>
          <p:cNvSpPr/>
          <p:nvPr/>
        </p:nvSpPr>
        <p:spPr>
          <a:xfrm>
            <a:off x="7769160" y="6303960"/>
            <a:ext cx="252360" cy="360360"/>
          </a:xfrm>
          <a:custGeom>
            <a:avLst/>
            <a:gdLst/>
            <a:ahLst/>
            <a:rect l="l" t="t" r="r" b="b"/>
            <a:pathLst>
              <a:path w="252095" h="360045">
                <a:moveTo>
                  <a:pt x="252006" y="0"/>
                </a:moveTo>
                <a:lnTo>
                  <a:pt x="0" y="0"/>
                </a:lnTo>
                <a:lnTo>
                  <a:pt x="0" y="359994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Graphic 12"/>
          <p:cNvSpPr/>
          <p:nvPr/>
        </p:nvSpPr>
        <p:spPr>
          <a:xfrm>
            <a:off x="7661160" y="6411960"/>
            <a:ext cx="360360" cy="252360"/>
          </a:xfrm>
          <a:custGeom>
            <a:avLst/>
            <a:gdLst/>
            <a:ahLst/>
            <a:rect l="l" t="t" r="r" b="b"/>
            <a:pathLst>
              <a:path w="360045" h="252095">
                <a:moveTo>
                  <a:pt x="0" y="252006"/>
                </a:moveTo>
                <a:lnTo>
                  <a:pt x="0" y="0"/>
                </a:lnTo>
                <a:lnTo>
                  <a:pt x="359994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Graphic 13"/>
          <p:cNvSpPr/>
          <p:nvPr/>
        </p:nvSpPr>
        <p:spPr>
          <a:xfrm>
            <a:off x="1047600" y="3873600"/>
            <a:ext cx="233640" cy="1440"/>
          </a:xfrm>
          <a:custGeom>
            <a:avLst/>
            <a:gdLst/>
            <a:ahLst/>
            <a:rect l="l" t="t" r="r" b="b"/>
            <a:pathLst>
              <a:path w="233045" h="1270">
                <a:moveTo>
                  <a:pt x="0" y="0"/>
                </a:moveTo>
                <a:lnTo>
                  <a:pt x="232803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Graphic 14"/>
          <p:cNvSpPr/>
          <p:nvPr/>
        </p:nvSpPr>
        <p:spPr>
          <a:xfrm>
            <a:off x="1204920" y="3416400"/>
            <a:ext cx="1440" cy="914400"/>
          </a:xfrm>
          <a:custGeom>
            <a:avLst/>
            <a:gdLst/>
            <a:ahLst/>
            <a:rect l="l" t="t" r="r" b="b"/>
            <a:pathLst>
              <a:path w="127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Graphic 15"/>
          <p:cNvSpPr/>
          <p:nvPr/>
        </p:nvSpPr>
        <p:spPr>
          <a:xfrm>
            <a:off x="7813800" y="3873600"/>
            <a:ext cx="233280" cy="1440"/>
          </a:xfrm>
          <a:custGeom>
            <a:avLst/>
            <a:gdLst/>
            <a:ahLst/>
            <a:rect l="l" t="t" r="r" b="b"/>
            <a:pathLst>
              <a:path w="233045" h="1270">
                <a:moveTo>
                  <a:pt x="232803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Graphic 16"/>
          <p:cNvSpPr/>
          <p:nvPr/>
        </p:nvSpPr>
        <p:spPr>
          <a:xfrm>
            <a:off x="7889760" y="3416400"/>
            <a:ext cx="1800" cy="914400"/>
          </a:xfrm>
          <a:custGeom>
            <a:avLst/>
            <a:gdLst/>
            <a:ahLst/>
            <a:rect l="l" t="t" r="r" b="b"/>
            <a:pathLst>
              <a:path w="127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Graphic 17"/>
          <p:cNvSpPr/>
          <p:nvPr/>
        </p:nvSpPr>
        <p:spPr>
          <a:xfrm>
            <a:off x="4091040" y="1216080"/>
            <a:ext cx="914400" cy="360"/>
          </a:xfrm>
          <a:custGeom>
            <a:avLst/>
            <a:gdLst/>
            <a:ahLst/>
            <a:rect l="l" t="t" r="r" b="b"/>
            <a:pathLst>
              <a:path w="914400" h="127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Graphic 18"/>
          <p:cNvSpPr/>
          <p:nvPr/>
        </p:nvSpPr>
        <p:spPr>
          <a:xfrm>
            <a:off x="4548240" y="1058760"/>
            <a:ext cx="360" cy="233640"/>
          </a:xfrm>
          <a:custGeom>
            <a:avLst/>
            <a:gdLst/>
            <a:ahLst/>
            <a:rect l="l" t="t" r="r" b="b"/>
            <a:pathLst>
              <a:path w="1270" h="233045">
                <a:moveTo>
                  <a:pt x="0" y="0"/>
                </a:moveTo>
                <a:lnTo>
                  <a:pt x="0" y="232803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Graphic 19"/>
          <p:cNvSpPr/>
          <p:nvPr/>
        </p:nvSpPr>
        <p:spPr>
          <a:xfrm>
            <a:off x="4091040" y="6532560"/>
            <a:ext cx="914400" cy="1440"/>
          </a:xfrm>
          <a:custGeom>
            <a:avLst/>
            <a:gdLst/>
            <a:ahLst/>
            <a:rect l="l" t="t" r="r" b="b"/>
            <a:pathLst>
              <a:path w="914400" h="127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Graphic 20"/>
          <p:cNvSpPr/>
          <p:nvPr/>
        </p:nvSpPr>
        <p:spPr>
          <a:xfrm>
            <a:off x="4548240" y="6456240"/>
            <a:ext cx="360" cy="233640"/>
          </a:xfrm>
          <a:custGeom>
            <a:avLst/>
            <a:gdLst/>
            <a:ahLst/>
            <a:rect l="l" t="t" r="r" b="b"/>
            <a:pathLst>
              <a:path w="1270" h="233045">
                <a:moveTo>
                  <a:pt x="0" y="232803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グループ化 1"/>
          <p:cNvGrpSpPr/>
          <p:nvPr/>
        </p:nvGrpSpPr>
        <p:grpSpPr>
          <a:xfrm>
            <a:off x="36360" y="36360"/>
            <a:ext cx="5065920" cy="1008360"/>
            <a:chOff x="36360" y="36360"/>
            <a:chExt cx="5065920" cy="1008360"/>
          </a:xfrm>
        </p:grpSpPr>
        <p:sp>
          <p:nvSpPr>
            <p:cNvPr id="59" name="Rectangle 65"/>
            <p:cNvSpPr/>
            <p:nvPr/>
          </p:nvSpPr>
          <p:spPr>
            <a:xfrm>
              <a:off x="36360" y="36360"/>
              <a:ext cx="133200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Arial"/>
                </a:rPr>
                <a:t>柄付きポリうちわ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ミドルサイズ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◎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71×241mm</a:t>
              </a: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（うちわ本体）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　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67×129mm</a:t>
              </a: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（型抜きサイズ）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Text Box 67"/>
            <p:cNvSpPr/>
            <p:nvPr/>
          </p:nvSpPr>
          <p:spPr>
            <a:xfrm>
              <a:off x="1366560" y="36360"/>
              <a:ext cx="373572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じめに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「名前を付けて保存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から、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ファイルの種類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を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「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プレゼンテーション（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*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.pptx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）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で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保存し直し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てください。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無い場合（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2003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以下）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変更せず保存し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す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フチ無し印刷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（背景に絵柄がある場合）は、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外側の黒い四角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で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伸ばして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切れては困る絵柄や文字等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、</a:t>
              </a:r>
              <a:r>
                <a:rPr b="1" lang="ja-JP" sz="800" spc="-1" strike="noStrike">
                  <a:solidFill>
                    <a:srgbClr val="00b0f0"/>
                  </a:solidFill>
                  <a:latin typeface="ＭＳ Ｐゴシック"/>
                </a:rPr>
                <a:t>内側の水色の線の中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に入れて作成して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透過性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や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半透明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パターン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など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変換が正常に出来ない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場合があります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用紙サイズの変更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や、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トンボの移動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変形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など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なさらない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ようお願いします。　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このテンプレートから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を作成する際は、説明部分の線などを削除してください。</a:t>
              </a:r>
              <a:br>
                <a:rPr sz="800"/>
              </a:b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た、作成した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が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「</a:t>
              </a:r>
              <a:r>
                <a:rPr b="1" lang="en-US" sz="800" spc="-1" strike="noStrike">
                  <a:solidFill>
                    <a:srgbClr val="ff0000"/>
                  </a:solidFill>
                  <a:latin typeface="ＭＳ Ｐゴシック"/>
                </a:rPr>
                <a:t>253×215mm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かどうか確認して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1" name="グループ化 24" descr=""/>
            <p:cNvPicPr/>
            <p:nvPr/>
          </p:nvPicPr>
          <p:blipFill>
            <a:blip r:embed="rId2"/>
            <a:stretch/>
          </p:blipFill>
          <p:spPr>
            <a:xfrm>
              <a:off x="60480" y="725400"/>
              <a:ext cx="463320" cy="29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Graphic 2"/>
          <p:cNvSpPr/>
          <p:nvPr/>
        </p:nvSpPr>
        <p:spPr>
          <a:xfrm>
            <a:off x="1325520" y="1335240"/>
            <a:ext cx="6445440" cy="5076720"/>
          </a:xfrm>
          <a:custGeom>
            <a:avLst/>
            <a:gdLst/>
            <a:ahLst/>
            <a:rect l="l" t="t" r="r" b="b"/>
            <a:pathLst>
              <a:path w="6444615" h="5076190">
                <a:moveTo>
                  <a:pt x="6444005" y="0"/>
                </a:moveTo>
                <a:lnTo>
                  <a:pt x="0" y="0"/>
                </a:lnTo>
                <a:lnTo>
                  <a:pt x="0" y="5075999"/>
                </a:lnTo>
                <a:lnTo>
                  <a:pt x="6444005" y="5075999"/>
                </a:lnTo>
                <a:lnTo>
                  <a:pt x="6444005" y="0"/>
                </a:lnTo>
                <a:close/>
              </a:path>
            </a:pathLst>
          </a:custGeom>
          <a:noFill/>
          <a:ln w="6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Graphic 5"/>
          <p:cNvSpPr/>
          <p:nvPr/>
        </p:nvSpPr>
        <p:spPr>
          <a:xfrm>
            <a:off x="1073160" y="6303960"/>
            <a:ext cx="252360" cy="360360"/>
          </a:xfrm>
          <a:custGeom>
            <a:avLst/>
            <a:gdLst/>
            <a:ahLst/>
            <a:rect l="l" t="t" r="r" b="b"/>
            <a:pathLst>
              <a:path w="252095" h="360045">
                <a:moveTo>
                  <a:pt x="0" y="0"/>
                </a:moveTo>
                <a:lnTo>
                  <a:pt x="252006" y="0"/>
                </a:lnTo>
                <a:lnTo>
                  <a:pt x="252006" y="359994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Graphic 6"/>
          <p:cNvSpPr/>
          <p:nvPr/>
        </p:nvSpPr>
        <p:spPr>
          <a:xfrm>
            <a:off x="1073160" y="6411960"/>
            <a:ext cx="360360" cy="252360"/>
          </a:xfrm>
          <a:custGeom>
            <a:avLst/>
            <a:gdLst/>
            <a:ahLst/>
            <a:rect l="l" t="t" r="r" b="b"/>
            <a:pathLst>
              <a:path w="360045" h="252095">
                <a:moveTo>
                  <a:pt x="359994" y="252006"/>
                </a:moveTo>
                <a:lnTo>
                  <a:pt x="359994" y="0"/>
                </a:ln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Graphic 7"/>
          <p:cNvSpPr/>
          <p:nvPr/>
        </p:nvSpPr>
        <p:spPr>
          <a:xfrm>
            <a:off x="1073160" y="1084320"/>
            <a:ext cx="252360" cy="360360"/>
          </a:xfrm>
          <a:custGeom>
            <a:avLst/>
            <a:gdLst/>
            <a:ahLst/>
            <a:rect l="l" t="t" r="r" b="b"/>
            <a:pathLst>
              <a:path w="252095" h="360045">
                <a:moveTo>
                  <a:pt x="0" y="359994"/>
                </a:moveTo>
                <a:lnTo>
                  <a:pt x="252006" y="359994"/>
                </a:lnTo>
                <a:lnTo>
                  <a:pt x="252006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Graphic 8"/>
          <p:cNvSpPr/>
          <p:nvPr/>
        </p:nvSpPr>
        <p:spPr>
          <a:xfrm>
            <a:off x="1073160" y="1084320"/>
            <a:ext cx="360360" cy="252360"/>
          </a:xfrm>
          <a:custGeom>
            <a:avLst/>
            <a:gdLst/>
            <a:ahLst/>
            <a:rect l="l" t="t" r="r" b="b"/>
            <a:pathLst>
              <a:path w="360045" h="252095">
                <a:moveTo>
                  <a:pt x="359994" y="0"/>
                </a:moveTo>
                <a:lnTo>
                  <a:pt x="359994" y="251993"/>
                </a:lnTo>
                <a:lnTo>
                  <a:pt x="0" y="251993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Graphic 9"/>
          <p:cNvSpPr/>
          <p:nvPr/>
        </p:nvSpPr>
        <p:spPr>
          <a:xfrm>
            <a:off x="7769160" y="1084320"/>
            <a:ext cx="252360" cy="360360"/>
          </a:xfrm>
          <a:custGeom>
            <a:avLst/>
            <a:gdLst/>
            <a:ahLst/>
            <a:rect l="l" t="t" r="r" b="b"/>
            <a:pathLst>
              <a:path w="252095" h="360045">
                <a:moveTo>
                  <a:pt x="252006" y="359994"/>
                </a:moveTo>
                <a:lnTo>
                  <a:pt x="0" y="359994"/>
                </a:ln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Graphic 10"/>
          <p:cNvSpPr/>
          <p:nvPr/>
        </p:nvSpPr>
        <p:spPr>
          <a:xfrm>
            <a:off x="7661160" y="1084320"/>
            <a:ext cx="360360" cy="252360"/>
          </a:xfrm>
          <a:custGeom>
            <a:avLst/>
            <a:gdLst/>
            <a:ahLst/>
            <a:rect l="l" t="t" r="r" b="b"/>
            <a:pathLst>
              <a:path w="360045" h="252095">
                <a:moveTo>
                  <a:pt x="0" y="0"/>
                </a:moveTo>
                <a:lnTo>
                  <a:pt x="0" y="251993"/>
                </a:lnTo>
                <a:lnTo>
                  <a:pt x="359994" y="251993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Graphic 11"/>
          <p:cNvSpPr/>
          <p:nvPr/>
        </p:nvSpPr>
        <p:spPr>
          <a:xfrm>
            <a:off x="7769160" y="6303960"/>
            <a:ext cx="252360" cy="360360"/>
          </a:xfrm>
          <a:custGeom>
            <a:avLst/>
            <a:gdLst/>
            <a:ahLst/>
            <a:rect l="l" t="t" r="r" b="b"/>
            <a:pathLst>
              <a:path w="252095" h="360045">
                <a:moveTo>
                  <a:pt x="252006" y="0"/>
                </a:moveTo>
                <a:lnTo>
                  <a:pt x="0" y="0"/>
                </a:lnTo>
                <a:lnTo>
                  <a:pt x="0" y="359994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Graphic 12"/>
          <p:cNvSpPr/>
          <p:nvPr/>
        </p:nvSpPr>
        <p:spPr>
          <a:xfrm>
            <a:off x="7661160" y="6411960"/>
            <a:ext cx="360360" cy="252360"/>
          </a:xfrm>
          <a:custGeom>
            <a:avLst/>
            <a:gdLst/>
            <a:ahLst/>
            <a:rect l="l" t="t" r="r" b="b"/>
            <a:pathLst>
              <a:path w="360045" h="252095">
                <a:moveTo>
                  <a:pt x="0" y="252006"/>
                </a:moveTo>
                <a:lnTo>
                  <a:pt x="0" y="0"/>
                </a:lnTo>
                <a:lnTo>
                  <a:pt x="359994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Graphic 13"/>
          <p:cNvSpPr/>
          <p:nvPr/>
        </p:nvSpPr>
        <p:spPr>
          <a:xfrm>
            <a:off x="1047600" y="3873600"/>
            <a:ext cx="233640" cy="1440"/>
          </a:xfrm>
          <a:custGeom>
            <a:avLst/>
            <a:gdLst/>
            <a:ahLst/>
            <a:rect l="l" t="t" r="r" b="b"/>
            <a:pathLst>
              <a:path w="233045" h="1270">
                <a:moveTo>
                  <a:pt x="0" y="0"/>
                </a:moveTo>
                <a:lnTo>
                  <a:pt x="232803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Graphic 14"/>
          <p:cNvSpPr/>
          <p:nvPr/>
        </p:nvSpPr>
        <p:spPr>
          <a:xfrm>
            <a:off x="1204920" y="3416400"/>
            <a:ext cx="1440" cy="914400"/>
          </a:xfrm>
          <a:custGeom>
            <a:avLst/>
            <a:gdLst/>
            <a:ahLst/>
            <a:rect l="l" t="t" r="r" b="b"/>
            <a:pathLst>
              <a:path w="127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Graphic 15"/>
          <p:cNvSpPr/>
          <p:nvPr/>
        </p:nvSpPr>
        <p:spPr>
          <a:xfrm>
            <a:off x="7813800" y="3873600"/>
            <a:ext cx="233280" cy="1440"/>
          </a:xfrm>
          <a:custGeom>
            <a:avLst/>
            <a:gdLst/>
            <a:ahLst/>
            <a:rect l="l" t="t" r="r" b="b"/>
            <a:pathLst>
              <a:path w="233045" h="1270">
                <a:moveTo>
                  <a:pt x="232803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Graphic 16"/>
          <p:cNvSpPr/>
          <p:nvPr/>
        </p:nvSpPr>
        <p:spPr>
          <a:xfrm>
            <a:off x="7889760" y="3416400"/>
            <a:ext cx="1800" cy="914400"/>
          </a:xfrm>
          <a:custGeom>
            <a:avLst/>
            <a:gdLst/>
            <a:ahLst/>
            <a:rect l="l" t="t" r="r" b="b"/>
            <a:pathLst>
              <a:path w="127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Graphic 17"/>
          <p:cNvSpPr/>
          <p:nvPr/>
        </p:nvSpPr>
        <p:spPr>
          <a:xfrm>
            <a:off x="4091040" y="1216080"/>
            <a:ext cx="914400" cy="360"/>
          </a:xfrm>
          <a:custGeom>
            <a:avLst/>
            <a:gdLst/>
            <a:ahLst/>
            <a:rect l="l" t="t" r="r" b="b"/>
            <a:pathLst>
              <a:path w="914400" h="127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Graphic 18"/>
          <p:cNvSpPr/>
          <p:nvPr/>
        </p:nvSpPr>
        <p:spPr>
          <a:xfrm>
            <a:off x="4548240" y="1058760"/>
            <a:ext cx="360" cy="233640"/>
          </a:xfrm>
          <a:custGeom>
            <a:avLst/>
            <a:gdLst/>
            <a:ahLst/>
            <a:rect l="l" t="t" r="r" b="b"/>
            <a:pathLst>
              <a:path w="1270" h="233045">
                <a:moveTo>
                  <a:pt x="0" y="0"/>
                </a:moveTo>
                <a:lnTo>
                  <a:pt x="0" y="232803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Graphic 19"/>
          <p:cNvSpPr/>
          <p:nvPr/>
        </p:nvSpPr>
        <p:spPr>
          <a:xfrm>
            <a:off x="4091040" y="6532560"/>
            <a:ext cx="914400" cy="1440"/>
          </a:xfrm>
          <a:custGeom>
            <a:avLst/>
            <a:gdLst/>
            <a:ahLst/>
            <a:rect l="l" t="t" r="r" b="b"/>
            <a:pathLst>
              <a:path w="914400" h="127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Graphic 20"/>
          <p:cNvSpPr/>
          <p:nvPr/>
        </p:nvSpPr>
        <p:spPr>
          <a:xfrm>
            <a:off x="4548240" y="6456240"/>
            <a:ext cx="360" cy="233640"/>
          </a:xfrm>
          <a:custGeom>
            <a:avLst/>
            <a:gdLst/>
            <a:ahLst/>
            <a:rect l="l" t="t" r="r" b="b"/>
            <a:pathLst>
              <a:path w="1270" h="233045">
                <a:moveTo>
                  <a:pt x="0" y="232803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グループ化 1"/>
          <p:cNvGrpSpPr/>
          <p:nvPr/>
        </p:nvGrpSpPr>
        <p:grpSpPr>
          <a:xfrm>
            <a:off x="28440" y="1552680"/>
            <a:ext cx="7524720" cy="5246640"/>
            <a:chOff x="28440" y="1552680"/>
            <a:chExt cx="7524720" cy="5246640"/>
          </a:xfrm>
        </p:grpSpPr>
        <p:grpSp>
          <p:nvGrpSpPr>
            <p:cNvPr id="81" name="Group 113"/>
            <p:cNvGrpSpPr/>
            <p:nvPr/>
          </p:nvGrpSpPr>
          <p:grpSpPr>
            <a:xfrm>
              <a:off x="28440" y="4173840"/>
              <a:ext cx="1062000" cy="2625480"/>
              <a:chOff x="28440" y="4173840"/>
              <a:chExt cx="1062000" cy="2625480"/>
            </a:xfrm>
          </p:grpSpPr>
          <p:sp>
            <p:nvSpPr>
              <p:cNvPr id="82" name="AutoShape 112"/>
              <p:cNvSpPr/>
              <p:nvPr/>
            </p:nvSpPr>
            <p:spPr>
              <a:xfrm>
                <a:off x="28440" y="4173840"/>
                <a:ext cx="1062000" cy="26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Rectangle 114"/>
              <p:cNvSpPr/>
              <p:nvPr/>
            </p:nvSpPr>
            <p:spPr>
              <a:xfrm>
                <a:off x="419400" y="5171760"/>
                <a:ext cx="59364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500" spc="-1" strike="noStrike">
                    <a:solidFill>
                      <a:srgbClr val="ff0000"/>
                    </a:solidFill>
                    <a:latin typeface="小塚ゴシック Pr6N R"/>
                    <a:ea typeface="小塚ゴシック Pr6N R"/>
                  </a:rPr>
                  <a:t>切れて困る物は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500" spc="-1" strike="noStrike">
                    <a:solidFill>
                      <a:srgbClr val="ff0000"/>
                    </a:solidFill>
                    <a:latin typeface="小塚ゴシック Pr6N R"/>
                    <a:ea typeface="小塚ゴシック Pr6N R"/>
                  </a:rPr>
                  <a:t>ココより内側へ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Freeform 125"/>
              <p:cNvSpPr/>
              <p:nvPr/>
            </p:nvSpPr>
            <p:spPr>
              <a:xfrm>
                <a:off x="353160" y="5182560"/>
                <a:ext cx="49320" cy="54360"/>
              </a:xfrm>
              <a:custGeom>
                <a:avLst/>
                <a:gdLst/>
                <a:ahLst/>
                <a:rect l="l" t="t" r="r" b="b"/>
                <a:pathLst>
                  <a:path w="33" h="36">
                    <a:moveTo>
                      <a:pt x="0" y="0"/>
                    </a:moveTo>
                    <a:lnTo>
                      <a:pt x="0" y="36"/>
                    </a:lnTo>
                    <a:lnTo>
                      <a:pt x="33" y="36"/>
                    </a:lnTo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Line 127"/>
              <p:cNvSpPr/>
              <p:nvPr/>
            </p:nvSpPr>
            <p:spPr>
              <a:xfrm flipH="1">
                <a:off x="142920" y="5079600"/>
                <a:ext cx="238320" cy="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Freeform 128"/>
              <p:cNvSpPr/>
              <p:nvPr/>
            </p:nvSpPr>
            <p:spPr>
              <a:xfrm>
                <a:off x="127800" y="5070960"/>
                <a:ext cx="22320" cy="1944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5" y="0"/>
                    </a:moveTo>
                    <a:lnTo>
                      <a:pt x="13" y="6"/>
                    </a:lnTo>
                    <a:lnTo>
                      <a:pt x="15" y="13"/>
                    </a:lnTo>
                    <a:lnTo>
                      <a:pt x="0" y="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Line 129"/>
              <p:cNvSpPr/>
              <p:nvPr/>
            </p:nvSpPr>
            <p:spPr>
              <a:xfrm flipH="1" flipV="1">
                <a:off x="141120" y="4606560"/>
                <a:ext cx="397080" cy="22788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Freeform 130"/>
              <p:cNvSpPr/>
              <p:nvPr/>
            </p:nvSpPr>
            <p:spPr>
              <a:xfrm>
                <a:off x="127800" y="4599360"/>
                <a:ext cx="23760" cy="1944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16" y="3"/>
                    </a:moveTo>
                    <a:lnTo>
                      <a:pt x="11" y="6"/>
                    </a:lnTo>
                    <a:lnTo>
                      <a:pt x="10" y="13"/>
                    </a:lnTo>
                    <a:lnTo>
                      <a:pt x="0" y="0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Line 131"/>
              <p:cNvSpPr/>
              <p:nvPr/>
            </p:nvSpPr>
            <p:spPr>
              <a:xfrm flipV="1">
                <a:off x="777600" y="4289760"/>
                <a:ext cx="0" cy="23688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Freeform 132"/>
              <p:cNvSpPr/>
              <p:nvPr/>
            </p:nvSpPr>
            <p:spPr>
              <a:xfrm>
                <a:off x="768240" y="4274640"/>
                <a:ext cx="19800" cy="2232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15"/>
                    </a:moveTo>
                    <a:lnTo>
                      <a:pt x="6" y="12"/>
                    </a:lnTo>
                    <a:lnTo>
                      <a:pt x="0" y="15"/>
                    </a:lnTo>
                    <a:lnTo>
                      <a:pt x="6" y="0"/>
                    </a:lnTo>
                    <a:lnTo>
                      <a:pt x="13" y="15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Line 133"/>
              <p:cNvSpPr/>
              <p:nvPr/>
            </p:nvSpPr>
            <p:spPr>
              <a:xfrm flipH="1" flipV="1">
                <a:off x="458640" y="4287960"/>
                <a:ext cx="172080" cy="35028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Freeform 134"/>
              <p:cNvSpPr/>
              <p:nvPr/>
            </p:nvSpPr>
            <p:spPr>
              <a:xfrm>
                <a:off x="451080" y="4274640"/>
                <a:ext cx="18000" cy="2412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12" y="11"/>
                    </a:moveTo>
                    <a:lnTo>
                      <a:pt x="6" y="11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Rectangle 135"/>
              <p:cNvSpPr/>
              <p:nvPr/>
            </p:nvSpPr>
            <p:spPr>
              <a:xfrm>
                <a:off x="243720" y="5469480"/>
                <a:ext cx="4960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500" spc="-1" strike="noStrike">
                    <a:solidFill>
                      <a:srgbClr val="160e10"/>
                    </a:solidFill>
                    <a:latin typeface="小塚ゴシック Pr6N R"/>
                    <a:ea typeface="小塚ゴシック Pr6N R"/>
                  </a:rPr>
                  <a:t>フチ無印刷を希望する場合は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500" spc="-1" strike="noStrike">
                    <a:solidFill>
                      <a:srgbClr val="160e10"/>
                    </a:solidFill>
                    <a:latin typeface="小塚ゴシック Pr6N R"/>
                    <a:ea typeface="小塚ゴシック Pr6N R"/>
                  </a:rPr>
                  <a:t>ココまで伸ばす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Line 152"/>
              <p:cNvSpPr/>
              <p:nvPr/>
            </p:nvSpPr>
            <p:spPr>
              <a:xfrm flipV="1">
                <a:off x="126360" y="5182560"/>
                <a:ext cx="0" cy="279360"/>
              </a:xfrm>
              <a:prstGeom prst="line">
                <a:avLst/>
              </a:prstGeom>
              <a:ln w="4680">
                <a:solidFill>
                  <a:srgbClr val="160e1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Rectangle 154"/>
              <p:cNvSpPr/>
              <p:nvPr/>
            </p:nvSpPr>
            <p:spPr>
              <a:xfrm>
                <a:off x="382680" y="5371200"/>
                <a:ext cx="5342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500" spc="-1" strike="noStrike">
                    <a:solidFill>
                      <a:srgbClr val="071b7e"/>
                    </a:solidFill>
                    <a:latin typeface="小塚ゴシック Pr6N R"/>
                    <a:ea typeface="小塚ゴシック Pr6N R"/>
                  </a:rPr>
                  <a:t>仕上がり位置（ココでカット）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Line 167"/>
              <p:cNvSpPr/>
              <p:nvPr/>
            </p:nvSpPr>
            <p:spPr>
              <a:xfrm flipV="1">
                <a:off x="251640" y="5182200"/>
                <a:ext cx="0" cy="179640"/>
              </a:xfrm>
              <a:prstGeom prst="line">
                <a:avLst/>
              </a:prstGeom>
              <a:ln w="46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Freeform 169"/>
              <p:cNvSpPr/>
              <p:nvPr/>
            </p:nvSpPr>
            <p:spPr>
              <a:xfrm>
                <a:off x="402840" y="5641920"/>
                <a:ext cx="329040" cy="131040"/>
              </a:xfrm>
              <a:custGeom>
                <a:avLst/>
                <a:gdLst/>
                <a:ahLst/>
                <a:rect l="l" t="t" r="r" b="b"/>
                <a:pathLst>
                  <a:path w="218" h="87">
                    <a:moveTo>
                      <a:pt x="167" y="36"/>
                    </a:moveTo>
                    <a:lnTo>
                      <a:pt x="167" y="0"/>
                    </a:lnTo>
                    <a:lnTo>
                      <a:pt x="51" y="0"/>
                    </a:lnTo>
                    <a:lnTo>
                      <a:pt x="51" y="36"/>
                    </a:lnTo>
                    <a:lnTo>
                      <a:pt x="0" y="36"/>
                    </a:lnTo>
                    <a:lnTo>
                      <a:pt x="109" y="87"/>
                    </a:lnTo>
                    <a:lnTo>
                      <a:pt x="218" y="36"/>
                    </a:lnTo>
                    <a:lnTo>
                      <a:pt x="167" y="36"/>
                    </a:lnTo>
                    <a:close/>
                  </a:path>
                </a:pathLst>
              </a:custGeom>
              <a:solidFill>
                <a:srgbClr val="e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Rectangle 170"/>
              <p:cNvSpPr/>
              <p:nvPr/>
            </p:nvSpPr>
            <p:spPr>
              <a:xfrm>
                <a:off x="126360" y="4924080"/>
                <a:ext cx="909360" cy="243000"/>
              </a:xfrm>
              <a:prstGeom prst="rect">
                <a:avLst/>
              </a:prstGeom>
              <a:solidFill>
                <a:srgbClr val="fff5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9" name="Picture 171" descr=""/>
              <p:cNvPicPr/>
              <p:nvPr/>
            </p:nvPicPr>
            <p:blipFill>
              <a:blip r:embed="rId3"/>
              <a:stretch/>
            </p:blipFill>
            <p:spPr>
              <a:xfrm>
                <a:off x="121680" y="5042160"/>
                <a:ext cx="918360" cy="6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Rectangle 172"/>
              <p:cNvSpPr/>
              <p:nvPr/>
            </p:nvSpPr>
            <p:spPr>
              <a:xfrm>
                <a:off x="126360" y="4271760"/>
                <a:ext cx="909360" cy="652320"/>
              </a:xfrm>
              <a:prstGeom prst="rect">
                <a:avLst/>
              </a:prstGeom>
              <a:solidFill>
                <a:srgbClr val="8bc5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Freeform 173"/>
              <p:cNvSpPr/>
              <p:nvPr/>
            </p:nvSpPr>
            <p:spPr>
              <a:xfrm>
                <a:off x="126360" y="4271760"/>
                <a:ext cx="909360" cy="895680"/>
              </a:xfrm>
              <a:custGeom>
                <a:avLst/>
                <a:gdLst/>
                <a:ahLst/>
                <a:rect l="l" t="t" r="r" b="b"/>
                <a:pathLst>
                  <a:path w="728" h="716">
                    <a:moveTo>
                      <a:pt x="101" y="716"/>
                    </a:moveTo>
                    <a:cubicBezTo>
                      <a:pt x="0" y="716"/>
                      <a:pt x="0" y="716"/>
                      <a:pt x="0" y="716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728" y="0"/>
                      <a:pt x="728" y="0"/>
                      <a:pt x="728" y="0"/>
                    </a:cubicBezTo>
                    <a:cubicBezTo>
                      <a:pt x="728" y="109"/>
                      <a:pt x="728" y="109"/>
                      <a:pt x="728" y="109"/>
                    </a:cubicBezTo>
                    <a:cubicBezTo>
                      <a:pt x="688" y="117"/>
                      <a:pt x="647" y="127"/>
                      <a:pt x="607" y="140"/>
                    </a:cubicBezTo>
                    <a:cubicBezTo>
                      <a:pt x="499" y="173"/>
                      <a:pt x="392" y="219"/>
                      <a:pt x="305" y="289"/>
                    </a:cubicBezTo>
                    <a:cubicBezTo>
                      <a:pt x="218" y="359"/>
                      <a:pt x="150" y="452"/>
                      <a:pt x="121" y="581"/>
                    </a:cubicBezTo>
                    <a:cubicBezTo>
                      <a:pt x="112" y="624"/>
                      <a:pt x="105" y="669"/>
                      <a:pt x="101" y="7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Freeform 174"/>
              <p:cNvSpPr/>
              <p:nvPr/>
            </p:nvSpPr>
            <p:spPr>
              <a:xfrm>
                <a:off x="466200" y="4670280"/>
                <a:ext cx="132840" cy="178200"/>
              </a:xfrm>
              <a:custGeom>
                <a:avLst/>
                <a:gdLst/>
                <a:ahLst/>
                <a:rect l="l" t="t" r="r" b="b"/>
                <a:pathLst>
                  <a:path w="107" h="142">
                    <a:moveTo>
                      <a:pt x="30" y="92"/>
                    </a:moveTo>
                    <a:cubicBezTo>
                      <a:pt x="0" y="92"/>
                      <a:pt x="0" y="92"/>
                      <a:pt x="0" y="9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0" y="3"/>
                      <a:pt x="30" y="3"/>
                      <a:pt x="30" y="3"/>
                    </a:cubicBezTo>
                    <a:lnTo>
                      <a:pt x="30" y="92"/>
                    </a:lnTo>
                    <a:close/>
                    <a:moveTo>
                      <a:pt x="107" y="69"/>
                    </a:moveTo>
                    <a:cubicBezTo>
                      <a:pt x="107" y="89"/>
                      <a:pt x="101" y="108"/>
                      <a:pt x="85" y="122"/>
                    </a:cubicBezTo>
                    <a:cubicBezTo>
                      <a:pt x="69" y="135"/>
                      <a:pt x="43" y="139"/>
                      <a:pt x="19" y="142"/>
                    </a:cubicBezTo>
                    <a:cubicBezTo>
                      <a:pt x="8" y="115"/>
                      <a:pt x="8" y="115"/>
                      <a:pt x="8" y="115"/>
                    </a:cubicBezTo>
                    <a:cubicBezTo>
                      <a:pt x="56" y="111"/>
                      <a:pt x="77" y="102"/>
                      <a:pt x="77" y="72"/>
                    </a:cubicBezTo>
                    <a:cubicBezTo>
                      <a:pt x="77" y="0"/>
                      <a:pt x="77" y="0"/>
                      <a:pt x="77" y="0"/>
                    </a:cubicBezTo>
                    <a:cubicBezTo>
                      <a:pt x="107" y="0"/>
                      <a:pt x="107" y="0"/>
                      <a:pt x="107" y="0"/>
                    </a:cubicBezTo>
                    <a:lnTo>
                      <a:pt x="107" y="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Freeform 175"/>
              <p:cNvSpPr/>
              <p:nvPr/>
            </p:nvSpPr>
            <p:spPr>
              <a:xfrm>
                <a:off x="655200" y="4688640"/>
                <a:ext cx="176400" cy="141840"/>
              </a:xfrm>
              <a:custGeom>
                <a:avLst/>
                <a:gdLst/>
                <a:ahLst/>
                <a:rect l="l" t="t" r="r" b="b"/>
                <a:pathLst>
                  <a:path w="117" h="94">
                    <a:moveTo>
                      <a:pt x="117" y="70"/>
                    </a:moveTo>
                    <a:lnTo>
                      <a:pt x="117" y="94"/>
                    </a:lnTo>
                    <a:lnTo>
                      <a:pt x="0" y="94"/>
                    </a:lnTo>
                    <a:lnTo>
                      <a:pt x="0" y="70"/>
                    </a:lnTo>
                    <a:lnTo>
                      <a:pt x="117" y="70"/>
                    </a:lnTo>
                    <a:close/>
                    <a:moveTo>
                      <a:pt x="107" y="0"/>
                    </a:moveTo>
                    <a:lnTo>
                      <a:pt x="107" y="23"/>
                    </a:lnTo>
                    <a:lnTo>
                      <a:pt x="10" y="23"/>
                    </a:lnTo>
                    <a:lnTo>
                      <a:pt x="10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Freeform 176"/>
              <p:cNvSpPr/>
              <p:nvPr/>
            </p:nvSpPr>
            <p:spPr>
              <a:xfrm>
                <a:off x="875520" y="4714200"/>
                <a:ext cx="152640" cy="127080"/>
              </a:xfrm>
              <a:custGeom>
                <a:avLst/>
                <a:gdLst/>
                <a:ahLst/>
                <a:rect l="l" t="t" r="r" b="b"/>
                <a:pathLst>
                  <a:path w="121" h="102">
                    <a:moveTo>
                      <a:pt x="100" y="0"/>
                    </a:moveTo>
                    <a:cubicBezTo>
                      <a:pt x="100" y="16"/>
                      <a:pt x="97" y="67"/>
                      <a:pt x="96" y="76"/>
                    </a:cubicBezTo>
                    <a:cubicBezTo>
                      <a:pt x="121" y="76"/>
                      <a:pt x="121" y="76"/>
                      <a:pt x="121" y="76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0" y="102"/>
                      <a:pt x="0" y="102"/>
                      <a:pt x="0" y="102"/>
                    </a:cubicBezTo>
                    <a:cubicBezTo>
                      <a:pt x="0" y="76"/>
                      <a:pt x="0" y="76"/>
                      <a:pt x="0" y="76"/>
                    </a:cubicBezTo>
                    <a:cubicBezTo>
                      <a:pt x="68" y="76"/>
                      <a:pt x="68" y="76"/>
                      <a:pt x="68" y="76"/>
                    </a:cubicBezTo>
                    <a:cubicBezTo>
                      <a:pt x="69" y="66"/>
                      <a:pt x="71" y="35"/>
                      <a:pt x="71" y="26"/>
                    </a:cubicBezTo>
                    <a:cubicBezTo>
                      <a:pt x="12" y="26"/>
                      <a:pt x="12" y="26"/>
                      <a:pt x="12" y="26"/>
                    </a:cubicBezTo>
                    <a:cubicBezTo>
                      <a:pt x="12" y="0"/>
                      <a:pt x="12" y="0"/>
                      <a:pt x="12" y="0"/>
                    </a:cubicBez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Freeform 177"/>
              <p:cNvSpPr/>
              <p:nvPr/>
            </p:nvSpPr>
            <p:spPr>
              <a:xfrm>
                <a:off x="29520" y="4174920"/>
                <a:ext cx="96480" cy="129600"/>
              </a:xfrm>
              <a:custGeom>
                <a:avLst/>
                <a:gdLst/>
                <a:ahLst/>
                <a:rect l="l" t="t" r="r" b="b"/>
                <a:pathLst>
                  <a:path w="64" h="86">
                    <a:moveTo>
                      <a:pt x="0" y="86"/>
                    </a:moveTo>
                    <a:lnTo>
                      <a:pt x="64" y="86"/>
                    </a:lnTo>
                    <a:lnTo>
                      <a:pt x="6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Freeform 178"/>
              <p:cNvSpPr/>
              <p:nvPr/>
            </p:nvSpPr>
            <p:spPr>
              <a:xfrm>
                <a:off x="29520" y="4174920"/>
                <a:ext cx="128160" cy="9648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0"/>
                    </a:moveTo>
                    <a:lnTo>
                      <a:pt x="85" y="64"/>
                    </a:lnTo>
                    <a:lnTo>
                      <a:pt x="0" y="6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Rectangle 179"/>
              <p:cNvSpPr/>
              <p:nvPr/>
            </p:nvSpPr>
            <p:spPr>
              <a:xfrm>
                <a:off x="162720" y="4308120"/>
                <a:ext cx="99360" cy="993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Freeform 180"/>
              <p:cNvSpPr/>
              <p:nvPr/>
            </p:nvSpPr>
            <p:spPr>
              <a:xfrm>
                <a:off x="162720" y="4357800"/>
                <a:ext cx="100800" cy="360"/>
              </a:xfrm>
              <a:custGeom>
                <a:avLst/>
                <a:gdLst/>
                <a:ahLst/>
                <a:rect l="l" t="t" r="r" b="b"/>
                <a:pathLst>
                  <a:path w="67" h="0">
                    <a:moveTo>
                      <a:pt x="0" y="0"/>
                    </a:move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Line 181"/>
              <p:cNvSpPr/>
              <p:nvPr/>
            </p:nvSpPr>
            <p:spPr>
              <a:xfrm>
                <a:off x="162720" y="4357800"/>
                <a:ext cx="100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Freeform 182"/>
              <p:cNvSpPr/>
              <p:nvPr/>
            </p:nvSpPr>
            <p:spPr>
              <a:xfrm>
                <a:off x="212400" y="4308120"/>
                <a:ext cx="360" cy="10080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Line 183"/>
              <p:cNvSpPr/>
              <p:nvPr/>
            </p:nvSpPr>
            <p:spPr>
              <a:xfrm>
                <a:off x="212400" y="4308120"/>
                <a:ext cx="0" cy="10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Freeform 184"/>
              <p:cNvSpPr/>
              <p:nvPr/>
            </p:nvSpPr>
            <p:spPr>
              <a:xfrm>
                <a:off x="126360" y="4271760"/>
                <a:ext cx="909360" cy="906120"/>
              </a:xfrm>
              <a:custGeom>
                <a:avLst/>
                <a:gdLst/>
                <a:ahLst/>
                <a:rect l="l" t="t" r="r" b="b"/>
                <a:pathLst>
                  <a:path w="602" h="600">
                    <a:moveTo>
                      <a:pt x="602" y="0"/>
                    </a:moveTo>
                    <a:lnTo>
                      <a:pt x="0" y="0"/>
                    </a:lnTo>
                    <a:lnTo>
                      <a:pt x="0" y="600"/>
                    </a:lnTo>
                  </a:path>
                </a:pathLst>
              </a:custGeom>
              <a:noFill/>
              <a:ln w="6480">
                <a:solidFill>
                  <a:srgbClr val="160e1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Freeform 185"/>
              <p:cNvSpPr/>
              <p:nvPr/>
            </p:nvSpPr>
            <p:spPr>
              <a:xfrm>
                <a:off x="353160" y="4514760"/>
                <a:ext cx="682560" cy="658440"/>
              </a:xfrm>
              <a:custGeom>
                <a:avLst/>
                <a:gdLst/>
                <a:ahLst/>
                <a:rect l="l" t="t" r="r" b="b"/>
                <a:pathLst>
                  <a:path w="546" h="527">
                    <a:moveTo>
                      <a:pt x="546" y="0"/>
                    </a:moveTo>
                    <a:cubicBezTo>
                      <a:pt x="518" y="6"/>
                      <a:pt x="490" y="13"/>
                      <a:pt x="463" y="22"/>
                    </a:cubicBezTo>
                    <a:cubicBezTo>
                      <a:pt x="365" y="52"/>
                      <a:pt x="266" y="93"/>
                      <a:pt x="186" y="156"/>
                    </a:cubicBezTo>
                    <a:cubicBezTo>
                      <a:pt x="106" y="219"/>
                      <a:pt x="44" y="303"/>
                      <a:pt x="18" y="419"/>
                    </a:cubicBezTo>
                    <a:cubicBezTo>
                      <a:pt x="10" y="454"/>
                      <a:pt x="4" y="490"/>
                      <a:pt x="0" y="527"/>
                    </a:cubicBezTo>
                  </a:path>
                </a:pathLst>
              </a:custGeom>
              <a:noFill/>
              <a:ln cap="sq"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Freeform 186"/>
              <p:cNvSpPr/>
              <p:nvPr/>
            </p:nvSpPr>
            <p:spPr>
              <a:xfrm>
                <a:off x="251640" y="4408920"/>
                <a:ext cx="784080" cy="764280"/>
              </a:xfrm>
              <a:custGeom>
                <a:avLst/>
                <a:gdLst/>
                <a:ahLst/>
                <a:rect l="l" t="t" r="r" b="b"/>
                <a:pathLst>
                  <a:path w="627" h="612">
                    <a:moveTo>
                      <a:pt x="627" y="0"/>
                    </a:moveTo>
                    <a:cubicBezTo>
                      <a:pt x="587" y="8"/>
                      <a:pt x="546" y="18"/>
                      <a:pt x="506" y="31"/>
                    </a:cubicBezTo>
                    <a:cubicBezTo>
                      <a:pt x="398" y="64"/>
                      <a:pt x="291" y="110"/>
                      <a:pt x="204" y="180"/>
                    </a:cubicBezTo>
                    <a:cubicBezTo>
                      <a:pt x="117" y="250"/>
                      <a:pt x="49" y="343"/>
                      <a:pt x="20" y="472"/>
                    </a:cubicBezTo>
                    <a:cubicBezTo>
                      <a:pt x="11" y="517"/>
                      <a:pt x="3" y="564"/>
                      <a:pt x="0" y="612"/>
                    </a:cubicBezTo>
                  </a:path>
                </a:pathLst>
              </a:custGeom>
              <a:noFill/>
              <a:ln cap="sq"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Rectangle 187"/>
              <p:cNvSpPr/>
              <p:nvPr/>
            </p:nvSpPr>
            <p:spPr>
              <a:xfrm>
                <a:off x="126360" y="5903280"/>
                <a:ext cx="909360" cy="650880"/>
              </a:xfrm>
              <a:prstGeom prst="rect">
                <a:avLst/>
              </a:prstGeom>
              <a:solidFill>
                <a:srgbClr val="8bc5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Rectangle 188"/>
              <p:cNvSpPr/>
              <p:nvPr/>
            </p:nvSpPr>
            <p:spPr>
              <a:xfrm>
                <a:off x="126360" y="6554160"/>
                <a:ext cx="909360" cy="243000"/>
              </a:xfrm>
              <a:prstGeom prst="rect">
                <a:avLst/>
              </a:prstGeom>
              <a:solidFill>
                <a:srgbClr val="fff5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Freeform 189"/>
              <p:cNvSpPr/>
              <p:nvPr/>
            </p:nvSpPr>
            <p:spPr>
              <a:xfrm>
                <a:off x="126360" y="5903280"/>
                <a:ext cx="909360" cy="893880"/>
              </a:xfrm>
              <a:custGeom>
                <a:avLst/>
                <a:gdLst/>
                <a:ahLst/>
                <a:rect l="l" t="t" r="r" b="b"/>
                <a:pathLst>
                  <a:path w="602" h="592">
                    <a:moveTo>
                      <a:pt x="602" y="0"/>
                    </a:moveTo>
                    <a:lnTo>
                      <a:pt x="0" y="0"/>
                    </a:lnTo>
                    <a:lnTo>
                      <a:pt x="0" y="59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Freeform 190"/>
              <p:cNvSpPr/>
              <p:nvPr/>
            </p:nvSpPr>
            <p:spPr>
              <a:xfrm>
                <a:off x="606600" y="6324840"/>
                <a:ext cx="116280" cy="152280"/>
              </a:xfrm>
              <a:custGeom>
                <a:avLst/>
                <a:gdLst/>
                <a:ahLst/>
                <a:rect l="l" t="t" r="r" b="b"/>
                <a:pathLst>
                  <a:path w="93" h="122">
                    <a:moveTo>
                      <a:pt x="26" y="78"/>
                    </a:moveTo>
                    <a:cubicBezTo>
                      <a:pt x="0" y="78"/>
                      <a:pt x="0" y="78"/>
                      <a:pt x="0" y="78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26" y="2"/>
                      <a:pt x="26" y="2"/>
                      <a:pt x="26" y="2"/>
                    </a:cubicBezTo>
                    <a:lnTo>
                      <a:pt x="26" y="78"/>
                    </a:lnTo>
                    <a:close/>
                    <a:moveTo>
                      <a:pt x="93" y="59"/>
                    </a:moveTo>
                    <a:cubicBezTo>
                      <a:pt x="93" y="76"/>
                      <a:pt x="88" y="93"/>
                      <a:pt x="74" y="104"/>
                    </a:cubicBezTo>
                    <a:cubicBezTo>
                      <a:pt x="60" y="115"/>
                      <a:pt x="37" y="119"/>
                      <a:pt x="17" y="122"/>
                    </a:cubicBezTo>
                    <a:cubicBezTo>
                      <a:pt x="7" y="98"/>
                      <a:pt x="7" y="98"/>
                      <a:pt x="7" y="98"/>
                    </a:cubicBezTo>
                    <a:cubicBezTo>
                      <a:pt x="48" y="95"/>
                      <a:pt x="67" y="87"/>
                      <a:pt x="67" y="61"/>
                    </a:cubicBezTo>
                    <a:cubicBezTo>
                      <a:pt x="67" y="0"/>
                      <a:pt x="67" y="0"/>
                      <a:pt x="67" y="0"/>
                    </a:cubicBezTo>
                    <a:cubicBezTo>
                      <a:pt x="93" y="0"/>
                      <a:pt x="93" y="0"/>
                      <a:pt x="93" y="0"/>
                    </a:cubicBezTo>
                    <a:lnTo>
                      <a:pt x="93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Freeform 191"/>
              <p:cNvSpPr/>
              <p:nvPr/>
            </p:nvSpPr>
            <p:spPr>
              <a:xfrm>
                <a:off x="770040" y="6338520"/>
                <a:ext cx="150840" cy="122040"/>
              </a:xfrm>
              <a:custGeom>
                <a:avLst/>
                <a:gdLst/>
                <a:ahLst/>
                <a:rect l="l" t="t" r="r" b="b"/>
                <a:pathLst>
                  <a:path w="100" h="81">
                    <a:moveTo>
                      <a:pt x="100" y="61"/>
                    </a:moveTo>
                    <a:lnTo>
                      <a:pt x="100" y="81"/>
                    </a:lnTo>
                    <a:lnTo>
                      <a:pt x="0" y="81"/>
                    </a:lnTo>
                    <a:lnTo>
                      <a:pt x="0" y="61"/>
                    </a:lnTo>
                    <a:lnTo>
                      <a:pt x="100" y="61"/>
                    </a:lnTo>
                    <a:close/>
                    <a:moveTo>
                      <a:pt x="92" y="0"/>
                    </a:moveTo>
                    <a:lnTo>
                      <a:pt x="92" y="20"/>
                    </a:lnTo>
                    <a:lnTo>
                      <a:pt x="8" y="20"/>
                    </a:lnTo>
                    <a:lnTo>
                      <a:pt x="8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Freeform 192"/>
              <p:cNvSpPr/>
              <p:nvPr/>
            </p:nvSpPr>
            <p:spPr>
              <a:xfrm>
                <a:off x="961920" y="6360840"/>
                <a:ext cx="128160" cy="108360"/>
              </a:xfrm>
              <a:custGeom>
                <a:avLst/>
                <a:gdLst/>
                <a:ahLst/>
                <a:rect l="l" t="t" r="r" b="b"/>
                <a:pathLst>
                  <a:path w="103" h="87">
                    <a:moveTo>
                      <a:pt x="86" y="0"/>
                    </a:moveTo>
                    <a:cubicBezTo>
                      <a:pt x="85" y="13"/>
                      <a:pt x="82" y="57"/>
                      <a:pt x="82" y="65"/>
                    </a:cubicBezTo>
                    <a:cubicBezTo>
                      <a:pt x="103" y="65"/>
                      <a:pt x="103" y="65"/>
                      <a:pt x="103" y="65"/>
                    </a:cubicBezTo>
                    <a:cubicBezTo>
                      <a:pt x="103" y="87"/>
                      <a:pt x="103" y="87"/>
                      <a:pt x="103" y="87"/>
                    </a:cubicBezTo>
                    <a:cubicBezTo>
                      <a:pt x="0" y="87"/>
                      <a:pt x="0" y="87"/>
                      <a:pt x="0" y="87"/>
                    </a:cubicBezTo>
                    <a:cubicBezTo>
                      <a:pt x="0" y="65"/>
                      <a:pt x="0" y="65"/>
                      <a:pt x="0" y="65"/>
                    </a:cubicBezTo>
                    <a:cubicBezTo>
                      <a:pt x="58" y="65"/>
                      <a:pt x="58" y="65"/>
                      <a:pt x="58" y="65"/>
                    </a:cubicBezTo>
                    <a:cubicBezTo>
                      <a:pt x="59" y="56"/>
                      <a:pt x="60" y="30"/>
                      <a:pt x="60" y="22"/>
                    </a:cubicBezTo>
                    <a:cubicBezTo>
                      <a:pt x="10" y="22"/>
                      <a:pt x="10" y="22"/>
                      <a:pt x="10" y="22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Freeform 193"/>
              <p:cNvSpPr/>
              <p:nvPr/>
            </p:nvSpPr>
            <p:spPr>
              <a:xfrm>
                <a:off x="29520" y="5805000"/>
                <a:ext cx="96480" cy="128160"/>
              </a:xfrm>
              <a:custGeom>
                <a:avLst/>
                <a:gdLst/>
                <a:ahLst/>
                <a:rect l="l" t="t" r="r" b="b"/>
                <a:pathLst>
                  <a:path w="64" h="85">
                    <a:moveTo>
                      <a:pt x="0" y="85"/>
                    </a:moveTo>
                    <a:lnTo>
                      <a:pt x="64" y="85"/>
                    </a:lnTo>
                    <a:lnTo>
                      <a:pt x="6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Freeform 194"/>
              <p:cNvSpPr/>
              <p:nvPr/>
            </p:nvSpPr>
            <p:spPr>
              <a:xfrm>
                <a:off x="29520" y="5805000"/>
                <a:ext cx="128160" cy="9648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0"/>
                    </a:moveTo>
                    <a:lnTo>
                      <a:pt x="85" y="64"/>
                    </a:lnTo>
                    <a:lnTo>
                      <a:pt x="0" y="6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Rectangle 195"/>
              <p:cNvSpPr/>
              <p:nvPr/>
            </p:nvSpPr>
            <p:spPr>
              <a:xfrm>
                <a:off x="162720" y="5937840"/>
                <a:ext cx="99360" cy="9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Freeform 196"/>
              <p:cNvSpPr/>
              <p:nvPr/>
            </p:nvSpPr>
            <p:spPr>
              <a:xfrm>
                <a:off x="162720" y="5987880"/>
                <a:ext cx="100800" cy="360"/>
              </a:xfrm>
              <a:custGeom>
                <a:avLst/>
                <a:gdLst/>
                <a:ahLst/>
                <a:rect l="l" t="t" r="r" b="b"/>
                <a:pathLst>
                  <a:path w="67" h="0">
                    <a:moveTo>
                      <a:pt x="0" y="0"/>
                    </a:move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Line 197"/>
              <p:cNvSpPr/>
              <p:nvPr/>
            </p:nvSpPr>
            <p:spPr>
              <a:xfrm>
                <a:off x="162720" y="5987880"/>
                <a:ext cx="100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Freeform 198"/>
              <p:cNvSpPr/>
              <p:nvPr/>
            </p:nvSpPr>
            <p:spPr>
              <a:xfrm>
                <a:off x="212400" y="5937840"/>
                <a:ext cx="360" cy="10116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Line 199"/>
              <p:cNvSpPr/>
              <p:nvPr/>
            </p:nvSpPr>
            <p:spPr>
              <a:xfrm>
                <a:off x="212400" y="5937840"/>
                <a:ext cx="0" cy="10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28" name="Picture 200" descr=""/>
              <p:cNvPicPr/>
              <p:nvPr/>
            </p:nvPicPr>
            <p:blipFill>
              <a:blip r:embed="rId4"/>
              <a:stretch/>
            </p:blipFill>
            <p:spPr>
              <a:xfrm>
                <a:off x="121680" y="6672240"/>
                <a:ext cx="918360" cy="6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Freeform 201"/>
              <p:cNvSpPr/>
              <p:nvPr/>
            </p:nvSpPr>
            <p:spPr>
              <a:xfrm>
                <a:off x="353160" y="6139080"/>
                <a:ext cx="682560" cy="658080"/>
              </a:xfrm>
              <a:custGeom>
                <a:avLst/>
                <a:gdLst/>
                <a:ahLst/>
                <a:rect l="l" t="t" r="r" b="b"/>
                <a:pathLst>
                  <a:path w="546" h="527">
                    <a:moveTo>
                      <a:pt x="546" y="0"/>
                    </a:moveTo>
                    <a:cubicBezTo>
                      <a:pt x="518" y="6"/>
                      <a:pt x="491" y="13"/>
                      <a:pt x="463" y="22"/>
                    </a:cubicBezTo>
                    <a:cubicBezTo>
                      <a:pt x="365" y="52"/>
                      <a:pt x="266" y="93"/>
                      <a:pt x="186" y="156"/>
                    </a:cubicBezTo>
                    <a:cubicBezTo>
                      <a:pt x="106" y="219"/>
                      <a:pt x="44" y="303"/>
                      <a:pt x="18" y="419"/>
                    </a:cubicBezTo>
                    <a:cubicBezTo>
                      <a:pt x="10" y="454"/>
                      <a:pt x="4" y="490"/>
                      <a:pt x="0" y="527"/>
                    </a:cubicBezTo>
                  </a:path>
                </a:pathLst>
              </a:custGeom>
              <a:noFill/>
              <a:ln cap="sq"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Freeform 202"/>
              <p:cNvSpPr/>
              <p:nvPr/>
            </p:nvSpPr>
            <p:spPr>
              <a:xfrm>
                <a:off x="251640" y="6033240"/>
                <a:ext cx="784080" cy="764280"/>
              </a:xfrm>
              <a:custGeom>
                <a:avLst/>
                <a:gdLst/>
                <a:ahLst/>
                <a:rect l="l" t="t" r="r" b="b"/>
                <a:pathLst>
                  <a:path w="627" h="612">
                    <a:moveTo>
                      <a:pt x="627" y="0"/>
                    </a:moveTo>
                    <a:cubicBezTo>
                      <a:pt x="587" y="8"/>
                      <a:pt x="546" y="18"/>
                      <a:pt x="506" y="30"/>
                    </a:cubicBezTo>
                    <a:cubicBezTo>
                      <a:pt x="398" y="64"/>
                      <a:pt x="291" y="110"/>
                      <a:pt x="204" y="180"/>
                    </a:cubicBezTo>
                    <a:cubicBezTo>
                      <a:pt x="117" y="249"/>
                      <a:pt x="49" y="343"/>
                      <a:pt x="20" y="472"/>
                    </a:cubicBezTo>
                    <a:cubicBezTo>
                      <a:pt x="11" y="517"/>
                      <a:pt x="3" y="564"/>
                      <a:pt x="0" y="612"/>
                    </a:cubicBezTo>
                  </a:path>
                </a:pathLst>
              </a:custGeom>
              <a:noFill/>
              <a:ln cap="sq"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1" name="グループ化 4"/>
            <p:cNvGrpSpPr/>
            <p:nvPr/>
          </p:nvGrpSpPr>
          <p:grpSpPr>
            <a:xfrm>
              <a:off x="71280" y="1552680"/>
              <a:ext cx="7481880" cy="4643640"/>
              <a:chOff x="71280" y="1552680"/>
              <a:chExt cx="7481880" cy="4643640"/>
            </a:xfrm>
          </p:grpSpPr>
          <p:grpSp>
            <p:nvGrpSpPr>
              <p:cNvPr id="132" name="Group 66"/>
              <p:cNvGrpSpPr/>
              <p:nvPr/>
            </p:nvGrpSpPr>
            <p:grpSpPr>
              <a:xfrm>
                <a:off x="71280" y="2044080"/>
                <a:ext cx="1260360" cy="539640"/>
                <a:chOff x="71280" y="2044080"/>
                <a:chExt cx="1260360" cy="539640"/>
              </a:xfrm>
            </p:grpSpPr>
            <p:sp>
              <p:nvSpPr>
                <p:cNvPr id="133" name="Line 67"/>
                <p:cNvSpPr/>
                <p:nvPr/>
              </p:nvSpPr>
              <p:spPr>
                <a:xfrm>
                  <a:off x="881640" y="2313360"/>
                  <a:ext cx="4500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Text Box 68"/>
                <p:cNvSpPr/>
                <p:nvPr/>
              </p:nvSpPr>
              <p:spPr>
                <a:xfrm>
                  <a:off x="71280" y="204408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ＭＳ Ｐゴシック"/>
                    </a:rPr>
                    <a:t>フチ無し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ＭＳ Ｐゴシック"/>
                    </a:rPr>
                    <a:t>黒の線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まで伸ばしま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35" name="グループ化 7"/>
              <p:cNvGrpSpPr/>
              <p:nvPr/>
            </p:nvGrpSpPr>
            <p:grpSpPr>
              <a:xfrm>
                <a:off x="71280" y="1674720"/>
                <a:ext cx="7374240" cy="4398840"/>
                <a:chOff x="71280" y="1674720"/>
                <a:chExt cx="7374240" cy="4398840"/>
              </a:xfrm>
            </p:grpSpPr>
            <p:grpSp>
              <p:nvGrpSpPr>
                <p:cNvPr id="136" name="グループ化 13"/>
                <p:cNvGrpSpPr/>
                <p:nvPr/>
              </p:nvGrpSpPr>
              <p:grpSpPr>
                <a:xfrm>
                  <a:off x="71280" y="3311640"/>
                  <a:ext cx="1577880" cy="684000"/>
                  <a:chOff x="71280" y="3311640"/>
                  <a:chExt cx="1577880" cy="684000"/>
                </a:xfrm>
              </p:grpSpPr>
              <p:sp>
                <p:nvSpPr>
                  <p:cNvPr id="137" name="Line 64"/>
                  <p:cNvSpPr/>
                  <p:nvPr/>
                </p:nvSpPr>
                <p:spPr>
                  <a:xfrm flipV="1">
                    <a:off x="767160" y="3650400"/>
                    <a:ext cx="882000" cy="324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8" name="Text Box 65"/>
                  <p:cNvSpPr/>
                  <p:nvPr/>
                </p:nvSpPr>
                <p:spPr>
                  <a:xfrm>
                    <a:off x="71280" y="3311640"/>
                    <a:ext cx="936720" cy="68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ＭＳ Ｐゴシック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ＭＳ Ｐゴシック"/>
                      </a:rPr>
                      <a:t>水色の線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の内側に配置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39" name="Graphic 3"/>
                <p:cNvSpPr/>
                <p:nvPr/>
              </p:nvSpPr>
              <p:spPr>
                <a:xfrm>
                  <a:off x="1649160" y="1674720"/>
                  <a:ext cx="5796360" cy="4398840"/>
                </a:xfrm>
                <a:custGeom>
                  <a:avLst/>
                  <a:gdLst/>
                  <a:ahLst/>
                  <a:rect l="l" t="t" r="r" b="b"/>
                  <a:pathLst>
                    <a:path w="5796280" h="4399280">
                      <a:moveTo>
                        <a:pt x="5765673" y="1687018"/>
                      </a:moveTo>
                      <a:lnTo>
                        <a:pt x="5755684" y="1638859"/>
                      </a:lnTo>
                      <a:lnTo>
                        <a:pt x="5744480" y="1591008"/>
                      </a:lnTo>
                      <a:lnTo>
                        <a:pt x="5732069" y="1543487"/>
                      </a:lnTo>
                      <a:lnTo>
                        <a:pt x="5718458" y="1496319"/>
                      </a:lnTo>
                      <a:lnTo>
                        <a:pt x="5703655" y="1449523"/>
                      </a:lnTo>
                      <a:lnTo>
                        <a:pt x="5687666" y="1403121"/>
                      </a:lnTo>
                      <a:lnTo>
                        <a:pt x="5670500" y="1357136"/>
                      </a:lnTo>
                      <a:lnTo>
                        <a:pt x="5652162" y="1311587"/>
                      </a:lnTo>
                      <a:lnTo>
                        <a:pt x="5632661" y="1266496"/>
                      </a:lnTo>
                      <a:lnTo>
                        <a:pt x="5612003" y="1221884"/>
                      </a:lnTo>
                      <a:lnTo>
                        <a:pt x="5590197" y="1177774"/>
                      </a:lnTo>
                      <a:lnTo>
                        <a:pt x="5589409" y="1176250"/>
                      </a:lnTo>
                      <a:lnTo>
                        <a:pt x="5588660" y="1174700"/>
                      </a:lnTo>
                      <a:lnTo>
                        <a:pt x="5565860" y="1126084"/>
                      </a:lnTo>
                      <a:lnTo>
                        <a:pt x="5542329" y="1079646"/>
                      </a:lnTo>
                      <a:lnTo>
                        <a:pt x="5517410" y="1033894"/>
                      </a:lnTo>
                      <a:lnTo>
                        <a:pt x="5491142" y="988899"/>
                      </a:lnTo>
                      <a:lnTo>
                        <a:pt x="5463567" y="944731"/>
                      </a:lnTo>
                      <a:lnTo>
                        <a:pt x="5434723" y="901460"/>
                      </a:lnTo>
                      <a:lnTo>
                        <a:pt x="5405221" y="863094"/>
                      </a:lnTo>
                      <a:lnTo>
                        <a:pt x="5374538" y="825735"/>
                      </a:lnTo>
                      <a:lnTo>
                        <a:pt x="5342699" y="789407"/>
                      </a:lnTo>
                      <a:lnTo>
                        <a:pt x="5309727" y="754134"/>
                      </a:lnTo>
                      <a:lnTo>
                        <a:pt x="5275645" y="719938"/>
                      </a:lnTo>
                      <a:lnTo>
                        <a:pt x="5240477" y="686843"/>
                      </a:lnTo>
                      <a:lnTo>
                        <a:pt x="5204247" y="654873"/>
                      </a:lnTo>
                      <a:lnTo>
                        <a:pt x="5166977" y="624050"/>
                      </a:lnTo>
                      <a:lnTo>
                        <a:pt x="5128692" y="594399"/>
                      </a:lnTo>
                      <a:lnTo>
                        <a:pt x="5086324" y="564149"/>
                      </a:lnTo>
                      <a:lnTo>
                        <a:pt x="5043260" y="534876"/>
                      </a:lnTo>
                      <a:lnTo>
                        <a:pt x="4999519" y="506591"/>
                      </a:lnTo>
                      <a:lnTo>
                        <a:pt x="4955123" y="479306"/>
                      </a:lnTo>
                      <a:lnTo>
                        <a:pt x="4910095" y="453035"/>
                      </a:lnTo>
                      <a:lnTo>
                        <a:pt x="4864454" y="427788"/>
                      </a:lnTo>
                      <a:lnTo>
                        <a:pt x="4818222" y="403579"/>
                      </a:lnTo>
                      <a:lnTo>
                        <a:pt x="4771421" y="380418"/>
                      </a:lnTo>
                      <a:lnTo>
                        <a:pt x="4724071" y="358320"/>
                      </a:lnTo>
                      <a:lnTo>
                        <a:pt x="4676195" y="337295"/>
                      </a:lnTo>
                      <a:lnTo>
                        <a:pt x="4627813" y="317356"/>
                      </a:lnTo>
                      <a:lnTo>
                        <a:pt x="4578947" y="298515"/>
                      </a:lnTo>
                      <a:lnTo>
                        <a:pt x="4578299" y="298286"/>
                      </a:lnTo>
                      <a:lnTo>
                        <a:pt x="4577664" y="298032"/>
                      </a:lnTo>
                      <a:lnTo>
                        <a:pt x="4577016" y="297791"/>
                      </a:lnTo>
                      <a:lnTo>
                        <a:pt x="4530623" y="279861"/>
                      </a:lnTo>
                      <a:lnTo>
                        <a:pt x="4483959" y="262540"/>
                      </a:lnTo>
                      <a:lnTo>
                        <a:pt x="4437038" y="245834"/>
                      </a:lnTo>
                      <a:lnTo>
                        <a:pt x="4389874" y="229745"/>
                      </a:lnTo>
                      <a:lnTo>
                        <a:pt x="4342480" y="214278"/>
                      </a:lnTo>
                      <a:lnTo>
                        <a:pt x="4294870" y="199436"/>
                      </a:lnTo>
                      <a:lnTo>
                        <a:pt x="4247058" y="185224"/>
                      </a:lnTo>
                      <a:lnTo>
                        <a:pt x="4199056" y="171646"/>
                      </a:lnTo>
                      <a:lnTo>
                        <a:pt x="4150879" y="158706"/>
                      </a:lnTo>
                      <a:lnTo>
                        <a:pt x="4102540" y="146407"/>
                      </a:lnTo>
                      <a:lnTo>
                        <a:pt x="4054054" y="134754"/>
                      </a:lnTo>
                      <a:lnTo>
                        <a:pt x="4005432" y="123751"/>
                      </a:lnTo>
                      <a:lnTo>
                        <a:pt x="3956690" y="113401"/>
                      </a:lnTo>
                      <a:lnTo>
                        <a:pt x="3907841" y="103709"/>
                      </a:lnTo>
                      <a:lnTo>
                        <a:pt x="3857997" y="93975"/>
                      </a:lnTo>
                      <a:lnTo>
                        <a:pt x="3808030" y="84608"/>
                      </a:lnTo>
                      <a:lnTo>
                        <a:pt x="3757962" y="75612"/>
                      </a:lnTo>
                      <a:lnTo>
                        <a:pt x="3707817" y="66991"/>
                      </a:lnTo>
                      <a:lnTo>
                        <a:pt x="3657619" y="58748"/>
                      </a:lnTo>
                      <a:lnTo>
                        <a:pt x="3607390" y="50887"/>
                      </a:lnTo>
                      <a:lnTo>
                        <a:pt x="3557153" y="43412"/>
                      </a:lnTo>
                      <a:lnTo>
                        <a:pt x="3506933" y="36325"/>
                      </a:lnTo>
                      <a:lnTo>
                        <a:pt x="3456753" y="29630"/>
                      </a:lnTo>
                      <a:lnTo>
                        <a:pt x="3406635" y="23331"/>
                      </a:lnTo>
                      <a:lnTo>
                        <a:pt x="3356195" y="18371"/>
                      </a:lnTo>
                      <a:lnTo>
                        <a:pt x="3305623" y="14001"/>
                      </a:lnTo>
                      <a:lnTo>
                        <a:pt x="3254944" y="10221"/>
                      </a:lnTo>
                      <a:lnTo>
                        <a:pt x="3204185" y="7033"/>
                      </a:lnTo>
                      <a:lnTo>
                        <a:pt x="3153373" y="4437"/>
                      </a:lnTo>
                      <a:lnTo>
                        <a:pt x="3102534" y="2434"/>
                      </a:lnTo>
                      <a:lnTo>
                        <a:pt x="3051694" y="1027"/>
                      </a:lnTo>
                      <a:lnTo>
                        <a:pt x="3000880" y="215"/>
                      </a:lnTo>
                      <a:lnTo>
                        <a:pt x="2950118" y="0"/>
                      </a:lnTo>
                      <a:lnTo>
                        <a:pt x="2899435" y="382"/>
                      </a:lnTo>
                      <a:lnTo>
                        <a:pt x="2898457" y="408"/>
                      </a:lnTo>
                      <a:lnTo>
                        <a:pt x="2897492" y="408"/>
                      </a:lnTo>
                      <a:lnTo>
                        <a:pt x="2896514" y="382"/>
                      </a:lnTo>
                      <a:lnTo>
                        <a:pt x="2845829" y="9"/>
                      </a:lnTo>
                      <a:lnTo>
                        <a:pt x="2795067" y="229"/>
                      </a:lnTo>
                      <a:lnTo>
                        <a:pt x="2744255" y="1043"/>
                      </a:lnTo>
                      <a:lnTo>
                        <a:pt x="2693420" y="2451"/>
                      </a:lnTo>
                      <a:lnTo>
                        <a:pt x="2642586" y="4451"/>
                      </a:lnTo>
                      <a:lnTo>
                        <a:pt x="2591779" y="7044"/>
                      </a:lnTo>
                      <a:lnTo>
                        <a:pt x="2541027" y="10228"/>
                      </a:lnTo>
                      <a:lnTo>
                        <a:pt x="2490354" y="14005"/>
                      </a:lnTo>
                      <a:lnTo>
                        <a:pt x="2439787" y="18372"/>
                      </a:lnTo>
                      <a:lnTo>
                        <a:pt x="2389352" y="23331"/>
                      </a:lnTo>
                      <a:lnTo>
                        <a:pt x="2339238" y="29630"/>
                      </a:lnTo>
                      <a:lnTo>
                        <a:pt x="2289065" y="36323"/>
                      </a:lnTo>
                      <a:lnTo>
                        <a:pt x="2238860" y="43407"/>
                      </a:lnTo>
                      <a:lnTo>
                        <a:pt x="2188651" y="50877"/>
                      </a:lnTo>
                      <a:lnTo>
                        <a:pt x="2138467" y="58728"/>
                      </a:lnTo>
                      <a:lnTo>
                        <a:pt x="2088335" y="66955"/>
                      </a:lnTo>
                      <a:lnTo>
                        <a:pt x="2038285" y="75555"/>
                      </a:lnTo>
                      <a:lnTo>
                        <a:pt x="1988342" y="84523"/>
                      </a:lnTo>
                      <a:lnTo>
                        <a:pt x="1938537" y="93854"/>
                      </a:lnTo>
                      <a:lnTo>
                        <a:pt x="1888896" y="103544"/>
                      </a:lnTo>
                      <a:lnTo>
                        <a:pt x="1839895" y="113269"/>
                      </a:lnTo>
                      <a:lnTo>
                        <a:pt x="1791022" y="123647"/>
                      </a:lnTo>
                      <a:lnTo>
                        <a:pt x="1742289" y="134674"/>
                      </a:lnTo>
                      <a:lnTo>
                        <a:pt x="1693709" y="146347"/>
                      </a:lnTo>
                      <a:lnTo>
                        <a:pt x="1645294" y="158662"/>
                      </a:lnTo>
                      <a:lnTo>
                        <a:pt x="1597056" y="171615"/>
                      </a:lnTo>
                      <a:lnTo>
                        <a:pt x="1549006" y="185204"/>
                      </a:lnTo>
                      <a:lnTo>
                        <a:pt x="1501157" y="199423"/>
                      </a:lnTo>
                      <a:lnTo>
                        <a:pt x="1453520" y="214270"/>
                      </a:lnTo>
                      <a:lnTo>
                        <a:pt x="1406108" y="229741"/>
                      </a:lnTo>
                      <a:lnTo>
                        <a:pt x="1358933" y="245832"/>
                      </a:lnTo>
                      <a:lnTo>
                        <a:pt x="1312006" y="262540"/>
                      </a:lnTo>
                      <a:lnTo>
                        <a:pt x="1265339" y="279861"/>
                      </a:lnTo>
                      <a:lnTo>
                        <a:pt x="1218946" y="297791"/>
                      </a:lnTo>
                      <a:lnTo>
                        <a:pt x="1218311" y="298032"/>
                      </a:lnTo>
                      <a:lnTo>
                        <a:pt x="1217663" y="298286"/>
                      </a:lnTo>
                      <a:lnTo>
                        <a:pt x="1217028" y="298515"/>
                      </a:lnTo>
                      <a:lnTo>
                        <a:pt x="1168158" y="317356"/>
                      </a:lnTo>
                      <a:lnTo>
                        <a:pt x="1119769" y="337298"/>
                      </a:lnTo>
                      <a:lnTo>
                        <a:pt x="1071879" y="358331"/>
                      </a:lnTo>
                      <a:lnTo>
                        <a:pt x="1024506" y="380445"/>
                      </a:lnTo>
                      <a:lnTo>
                        <a:pt x="977668" y="403631"/>
                      </a:lnTo>
                      <a:lnTo>
                        <a:pt x="931383" y="427878"/>
                      </a:lnTo>
                      <a:lnTo>
                        <a:pt x="885669" y="453178"/>
                      </a:lnTo>
                      <a:lnTo>
                        <a:pt x="840544" y="479521"/>
                      </a:lnTo>
                      <a:lnTo>
                        <a:pt x="796025" y="506896"/>
                      </a:lnTo>
                      <a:lnTo>
                        <a:pt x="752132" y="535295"/>
                      </a:lnTo>
                      <a:lnTo>
                        <a:pt x="708882" y="564707"/>
                      </a:lnTo>
                      <a:lnTo>
                        <a:pt x="666293" y="595123"/>
                      </a:lnTo>
                      <a:lnTo>
                        <a:pt x="628290" y="624567"/>
                      </a:lnTo>
                      <a:lnTo>
                        <a:pt x="591240" y="655228"/>
                      </a:lnTo>
                      <a:lnTo>
                        <a:pt x="555175" y="687078"/>
                      </a:lnTo>
                      <a:lnTo>
                        <a:pt x="520125" y="720086"/>
                      </a:lnTo>
                      <a:lnTo>
                        <a:pt x="486123" y="754224"/>
                      </a:lnTo>
                      <a:lnTo>
                        <a:pt x="453201" y="789460"/>
                      </a:lnTo>
                      <a:lnTo>
                        <a:pt x="421389" y="825767"/>
                      </a:lnTo>
                      <a:lnTo>
                        <a:pt x="390720" y="863115"/>
                      </a:lnTo>
                      <a:lnTo>
                        <a:pt x="361226" y="901473"/>
                      </a:lnTo>
                      <a:lnTo>
                        <a:pt x="332383" y="944748"/>
                      </a:lnTo>
                      <a:lnTo>
                        <a:pt x="304810" y="988917"/>
                      </a:lnTo>
                      <a:lnTo>
                        <a:pt x="278546" y="1033910"/>
                      </a:lnTo>
                      <a:lnTo>
                        <a:pt x="253630" y="1079657"/>
                      </a:lnTo>
                      <a:lnTo>
                        <a:pt x="230101" y="1126090"/>
                      </a:lnTo>
                      <a:lnTo>
                        <a:pt x="208000" y="1173138"/>
                      </a:lnTo>
                      <a:lnTo>
                        <a:pt x="207289" y="1174700"/>
                      </a:lnTo>
                      <a:lnTo>
                        <a:pt x="206540" y="1176250"/>
                      </a:lnTo>
                      <a:lnTo>
                        <a:pt x="183955" y="1221888"/>
                      </a:lnTo>
                      <a:lnTo>
                        <a:pt x="163296" y="1266501"/>
                      </a:lnTo>
                      <a:lnTo>
                        <a:pt x="143792" y="1311594"/>
                      </a:lnTo>
                      <a:lnTo>
                        <a:pt x="125454" y="1357145"/>
                      </a:lnTo>
                      <a:lnTo>
                        <a:pt x="108286" y="1403132"/>
                      </a:lnTo>
                      <a:lnTo>
                        <a:pt x="92297" y="1449534"/>
                      </a:lnTo>
                      <a:lnTo>
                        <a:pt x="77495" y="1496331"/>
                      </a:lnTo>
                      <a:lnTo>
                        <a:pt x="63885" y="1543500"/>
                      </a:lnTo>
                      <a:lnTo>
                        <a:pt x="51476" y="1591020"/>
                      </a:lnTo>
                      <a:lnTo>
                        <a:pt x="40275" y="1638871"/>
                      </a:lnTo>
                      <a:lnTo>
                        <a:pt x="30289" y="1687031"/>
                      </a:lnTo>
                      <a:lnTo>
                        <a:pt x="22414" y="1738813"/>
                      </a:lnTo>
                      <a:lnTo>
                        <a:pt x="15720" y="1790747"/>
                      </a:lnTo>
                      <a:lnTo>
                        <a:pt x="10209" y="1842809"/>
                      </a:lnTo>
                      <a:lnTo>
                        <a:pt x="5880" y="1894974"/>
                      </a:lnTo>
                      <a:lnTo>
                        <a:pt x="2735" y="1947220"/>
                      </a:lnTo>
                      <a:lnTo>
                        <a:pt x="774" y="1999522"/>
                      </a:lnTo>
                      <a:lnTo>
                        <a:pt x="0" y="2051855"/>
                      </a:lnTo>
                      <a:lnTo>
                        <a:pt x="411" y="2104197"/>
                      </a:lnTo>
                      <a:lnTo>
                        <a:pt x="2011" y="2156524"/>
                      </a:lnTo>
                      <a:lnTo>
                        <a:pt x="4798" y="2208810"/>
                      </a:lnTo>
                      <a:lnTo>
                        <a:pt x="8775" y="2261033"/>
                      </a:lnTo>
                      <a:lnTo>
                        <a:pt x="8839" y="2261681"/>
                      </a:lnTo>
                      <a:lnTo>
                        <a:pt x="8890" y="2262341"/>
                      </a:lnTo>
                      <a:lnTo>
                        <a:pt x="12888" y="2313518"/>
                      </a:lnTo>
                      <a:lnTo>
                        <a:pt x="17767" y="2363861"/>
                      </a:lnTo>
                      <a:lnTo>
                        <a:pt x="23559" y="2414020"/>
                      </a:lnTo>
                      <a:lnTo>
                        <a:pt x="30261" y="2463987"/>
                      </a:lnTo>
                      <a:lnTo>
                        <a:pt x="37869" y="2513750"/>
                      </a:lnTo>
                      <a:lnTo>
                        <a:pt x="46380" y="2563299"/>
                      </a:lnTo>
                      <a:lnTo>
                        <a:pt x="55789" y="2612625"/>
                      </a:lnTo>
                      <a:lnTo>
                        <a:pt x="66092" y="2661717"/>
                      </a:lnTo>
                      <a:lnTo>
                        <a:pt x="77287" y="2710565"/>
                      </a:lnTo>
                      <a:lnTo>
                        <a:pt x="89368" y="2759158"/>
                      </a:lnTo>
                      <a:lnTo>
                        <a:pt x="102332" y="2807488"/>
                      </a:lnTo>
                      <a:lnTo>
                        <a:pt x="116176" y="2855543"/>
                      </a:lnTo>
                      <a:lnTo>
                        <a:pt x="130895" y="2903313"/>
                      </a:lnTo>
                      <a:lnTo>
                        <a:pt x="146485" y="2950789"/>
                      </a:lnTo>
                      <a:lnTo>
                        <a:pt x="162943" y="2997959"/>
                      </a:lnTo>
                      <a:lnTo>
                        <a:pt x="180265" y="3044815"/>
                      </a:lnTo>
                      <a:lnTo>
                        <a:pt x="198447" y="3091346"/>
                      </a:lnTo>
                      <a:lnTo>
                        <a:pt x="217485" y="3137541"/>
                      </a:lnTo>
                      <a:lnTo>
                        <a:pt x="237375" y="3183391"/>
                      </a:lnTo>
                      <a:lnTo>
                        <a:pt x="258114" y="3228885"/>
                      </a:lnTo>
                      <a:lnTo>
                        <a:pt x="279697" y="3274014"/>
                      </a:lnTo>
                      <a:lnTo>
                        <a:pt x="302121" y="3318766"/>
                      </a:lnTo>
                      <a:lnTo>
                        <a:pt x="325382" y="3363133"/>
                      </a:lnTo>
                      <a:lnTo>
                        <a:pt x="349476" y="3407103"/>
                      </a:lnTo>
                      <a:lnTo>
                        <a:pt x="374399" y="3450668"/>
                      </a:lnTo>
                      <a:lnTo>
                        <a:pt x="400147" y="3493816"/>
                      </a:lnTo>
                      <a:lnTo>
                        <a:pt x="426717" y="3536537"/>
                      </a:lnTo>
                      <a:lnTo>
                        <a:pt x="454104" y="3578821"/>
                      </a:lnTo>
                      <a:lnTo>
                        <a:pt x="482306" y="3620659"/>
                      </a:lnTo>
                      <a:lnTo>
                        <a:pt x="511317" y="3662040"/>
                      </a:lnTo>
                      <a:lnTo>
                        <a:pt x="541134" y="3702953"/>
                      </a:lnTo>
                      <a:lnTo>
                        <a:pt x="571754" y="3743390"/>
                      </a:lnTo>
                      <a:lnTo>
                        <a:pt x="603494" y="3784134"/>
                      </a:lnTo>
                      <a:lnTo>
                        <a:pt x="635796" y="3824399"/>
                      </a:lnTo>
                      <a:lnTo>
                        <a:pt x="668653" y="3864178"/>
                      </a:lnTo>
                      <a:lnTo>
                        <a:pt x="702062" y="3903467"/>
                      </a:lnTo>
                      <a:lnTo>
                        <a:pt x="736016" y="3942260"/>
                      </a:lnTo>
                      <a:lnTo>
                        <a:pt x="770510" y="3980553"/>
                      </a:lnTo>
                      <a:lnTo>
                        <a:pt x="805539" y="4018341"/>
                      </a:lnTo>
                      <a:lnTo>
                        <a:pt x="841098" y="4055618"/>
                      </a:lnTo>
                      <a:lnTo>
                        <a:pt x="877181" y="4092379"/>
                      </a:lnTo>
                      <a:lnTo>
                        <a:pt x="913783" y="4128620"/>
                      </a:lnTo>
                      <a:lnTo>
                        <a:pt x="950899" y="4164335"/>
                      </a:lnTo>
                      <a:lnTo>
                        <a:pt x="988524" y="4199519"/>
                      </a:lnTo>
                      <a:lnTo>
                        <a:pt x="1026653" y="4234167"/>
                      </a:lnTo>
                      <a:lnTo>
                        <a:pt x="1065279" y="4268275"/>
                      </a:lnTo>
                      <a:lnTo>
                        <a:pt x="1104398" y="4301836"/>
                      </a:lnTo>
                      <a:lnTo>
                        <a:pt x="1144005" y="4334846"/>
                      </a:lnTo>
                      <a:lnTo>
                        <a:pt x="1184095" y="4367300"/>
                      </a:lnTo>
                      <a:lnTo>
                        <a:pt x="1224661" y="4399192"/>
                      </a:lnTo>
                      <a:lnTo>
                        <a:pt x="1265538" y="4368271"/>
                      </a:lnTo>
                      <a:lnTo>
                        <a:pt x="1307049" y="4338165"/>
                      </a:lnTo>
                      <a:lnTo>
                        <a:pt x="1349168" y="4308891"/>
                      </a:lnTo>
                      <a:lnTo>
                        <a:pt x="1391869" y="4280466"/>
                      </a:lnTo>
                      <a:lnTo>
                        <a:pt x="1435127" y="4252909"/>
                      </a:lnTo>
                      <a:lnTo>
                        <a:pt x="1478917" y="4226235"/>
                      </a:lnTo>
                      <a:lnTo>
                        <a:pt x="1523214" y="4200463"/>
                      </a:lnTo>
                      <a:lnTo>
                        <a:pt x="1567993" y="4175609"/>
                      </a:lnTo>
                      <a:lnTo>
                        <a:pt x="1614468" y="4150350"/>
                      </a:lnTo>
                      <a:lnTo>
                        <a:pt x="1661405" y="4125365"/>
                      </a:lnTo>
                      <a:lnTo>
                        <a:pt x="1708715" y="4100701"/>
                      </a:lnTo>
                      <a:lnTo>
                        <a:pt x="1756308" y="4076403"/>
                      </a:lnTo>
                      <a:lnTo>
                        <a:pt x="1804096" y="4052517"/>
                      </a:lnTo>
                      <a:lnTo>
                        <a:pt x="1851990" y="4029089"/>
                      </a:lnTo>
                      <a:lnTo>
                        <a:pt x="1896217" y="4007432"/>
                      </a:lnTo>
                      <a:lnTo>
                        <a:pt x="1940909" y="3986743"/>
                      </a:lnTo>
                      <a:lnTo>
                        <a:pt x="1986045" y="3967026"/>
                      </a:lnTo>
                      <a:lnTo>
                        <a:pt x="2031601" y="3948288"/>
                      </a:lnTo>
                      <a:lnTo>
                        <a:pt x="2077555" y="3930535"/>
                      </a:lnTo>
                      <a:lnTo>
                        <a:pt x="2123886" y="3913773"/>
                      </a:lnTo>
                      <a:lnTo>
                        <a:pt x="2170570" y="3898009"/>
                      </a:lnTo>
                      <a:lnTo>
                        <a:pt x="2217584" y="3883249"/>
                      </a:lnTo>
                      <a:lnTo>
                        <a:pt x="2264908" y="3869498"/>
                      </a:lnTo>
                      <a:lnTo>
                        <a:pt x="2312517" y="3856764"/>
                      </a:lnTo>
                      <a:lnTo>
                        <a:pt x="2360390" y="3845052"/>
                      </a:lnTo>
                      <a:lnTo>
                        <a:pt x="2408504" y="3834368"/>
                      </a:lnTo>
                      <a:lnTo>
                        <a:pt x="2456837" y="3824718"/>
                      </a:lnTo>
                      <a:lnTo>
                        <a:pt x="2505366" y="3816109"/>
                      </a:lnTo>
                      <a:lnTo>
                        <a:pt x="2554070" y="3808547"/>
                      </a:lnTo>
                      <a:lnTo>
                        <a:pt x="2602924" y="3802038"/>
                      </a:lnTo>
                      <a:lnTo>
                        <a:pt x="2651908" y="3796588"/>
                      </a:lnTo>
                      <a:lnTo>
                        <a:pt x="2700998" y="3792203"/>
                      </a:lnTo>
                      <a:lnTo>
                        <a:pt x="2750172" y="3788889"/>
                      </a:lnTo>
                      <a:lnTo>
                        <a:pt x="2799408" y="3786654"/>
                      </a:lnTo>
                      <a:lnTo>
                        <a:pt x="2848683" y="3785502"/>
                      </a:lnTo>
                      <a:lnTo>
                        <a:pt x="2897975" y="3785439"/>
                      </a:lnTo>
                      <a:lnTo>
                        <a:pt x="2904426" y="3785376"/>
                      </a:lnTo>
                      <a:lnTo>
                        <a:pt x="2910840" y="3785351"/>
                      </a:lnTo>
                      <a:lnTo>
                        <a:pt x="2917291" y="3785351"/>
                      </a:lnTo>
                      <a:lnTo>
                        <a:pt x="2967978" y="3785923"/>
                      </a:lnTo>
                      <a:lnTo>
                        <a:pt x="3018641" y="3787636"/>
                      </a:lnTo>
                      <a:lnTo>
                        <a:pt x="3069258" y="3790484"/>
                      </a:lnTo>
                      <a:lnTo>
                        <a:pt x="3119802" y="3794461"/>
                      </a:lnTo>
                      <a:lnTo>
                        <a:pt x="3170249" y="3799560"/>
                      </a:lnTo>
                      <a:lnTo>
                        <a:pt x="3220574" y="3805777"/>
                      </a:lnTo>
                      <a:lnTo>
                        <a:pt x="3270753" y="3813106"/>
                      </a:lnTo>
                      <a:lnTo>
                        <a:pt x="3320760" y="3821539"/>
                      </a:lnTo>
                      <a:lnTo>
                        <a:pt x="3370571" y="3831072"/>
                      </a:lnTo>
                      <a:lnTo>
                        <a:pt x="3420161" y="3841699"/>
                      </a:lnTo>
                      <a:lnTo>
                        <a:pt x="3469505" y="3853413"/>
                      </a:lnTo>
                      <a:lnTo>
                        <a:pt x="3518578" y="3866209"/>
                      </a:lnTo>
                      <a:lnTo>
                        <a:pt x="3567356" y="3880080"/>
                      </a:lnTo>
                      <a:lnTo>
                        <a:pt x="3615813" y="3895022"/>
                      </a:lnTo>
                      <a:lnTo>
                        <a:pt x="3663925" y="3911028"/>
                      </a:lnTo>
                      <a:lnTo>
                        <a:pt x="3711667" y="3928092"/>
                      </a:lnTo>
                      <a:lnTo>
                        <a:pt x="3759014" y="3946208"/>
                      </a:lnTo>
                      <a:lnTo>
                        <a:pt x="3805942" y="3965370"/>
                      </a:lnTo>
                      <a:lnTo>
                        <a:pt x="3852425" y="3985573"/>
                      </a:lnTo>
                      <a:lnTo>
                        <a:pt x="3898439" y="4006810"/>
                      </a:lnTo>
                      <a:lnTo>
                        <a:pt x="3943959" y="4029076"/>
                      </a:lnTo>
                      <a:lnTo>
                        <a:pt x="3991888" y="4052526"/>
                      </a:lnTo>
                      <a:lnTo>
                        <a:pt x="4039715" y="4076432"/>
                      </a:lnTo>
                      <a:lnTo>
                        <a:pt x="4087365" y="4100758"/>
                      </a:lnTo>
                      <a:lnTo>
                        <a:pt x="4134762" y="4125467"/>
                      </a:lnTo>
                      <a:lnTo>
                        <a:pt x="4181833" y="4150523"/>
                      </a:lnTo>
                      <a:lnTo>
                        <a:pt x="4228503" y="4175888"/>
                      </a:lnTo>
                      <a:lnTo>
                        <a:pt x="4273135" y="4200669"/>
                      </a:lnTo>
                      <a:lnTo>
                        <a:pt x="4317314" y="4226381"/>
                      </a:lnTo>
                      <a:lnTo>
                        <a:pt x="4361012" y="4253008"/>
                      </a:lnTo>
                      <a:lnTo>
                        <a:pt x="4404201" y="4280530"/>
                      </a:lnTo>
                      <a:lnTo>
                        <a:pt x="4446852" y="4308928"/>
                      </a:lnTo>
                      <a:lnTo>
                        <a:pt x="4488935" y="4338183"/>
                      </a:lnTo>
                      <a:lnTo>
                        <a:pt x="4530424" y="4368278"/>
                      </a:lnTo>
                      <a:lnTo>
                        <a:pt x="4571289" y="4399192"/>
                      </a:lnTo>
                      <a:lnTo>
                        <a:pt x="4611851" y="4367302"/>
                      </a:lnTo>
                      <a:lnTo>
                        <a:pt x="4651936" y="4334851"/>
                      </a:lnTo>
                      <a:lnTo>
                        <a:pt x="4691539" y="4301844"/>
                      </a:lnTo>
                      <a:lnTo>
                        <a:pt x="4730654" y="4268286"/>
                      </a:lnTo>
                      <a:lnTo>
                        <a:pt x="4769276" y="4234184"/>
                      </a:lnTo>
                      <a:lnTo>
                        <a:pt x="4807399" y="4199541"/>
                      </a:lnTo>
                      <a:lnTo>
                        <a:pt x="4845019" y="4164364"/>
                      </a:lnTo>
                      <a:lnTo>
                        <a:pt x="4882130" y="4128657"/>
                      </a:lnTo>
                      <a:lnTo>
                        <a:pt x="4918726" y="4092425"/>
                      </a:lnTo>
                      <a:lnTo>
                        <a:pt x="4954802" y="4055675"/>
                      </a:lnTo>
                      <a:lnTo>
                        <a:pt x="4990352" y="4018410"/>
                      </a:lnTo>
                      <a:lnTo>
                        <a:pt x="5025372" y="3980637"/>
                      </a:lnTo>
                      <a:lnTo>
                        <a:pt x="5059855" y="3942360"/>
                      </a:lnTo>
                      <a:lnTo>
                        <a:pt x="5093798" y="3903585"/>
                      </a:lnTo>
                      <a:lnTo>
                        <a:pt x="5127193" y="3864317"/>
                      </a:lnTo>
                      <a:lnTo>
                        <a:pt x="5160036" y="3824561"/>
                      </a:lnTo>
                      <a:lnTo>
                        <a:pt x="5192321" y="3784322"/>
                      </a:lnTo>
                      <a:lnTo>
                        <a:pt x="5224043" y="3743606"/>
                      </a:lnTo>
                      <a:lnTo>
                        <a:pt x="5254678" y="3703150"/>
                      </a:lnTo>
                      <a:lnTo>
                        <a:pt x="5284509" y="3662218"/>
                      </a:lnTo>
                      <a:lnTo>
                        <a:pt x="5313534" y="3620820"/>
                      </a:lnTo>
                      <a:lnTo>
                        <a:pt x="5341747" y="3578966"/>
                      </a:lnTo>
                      <a:lnTo>
                        <a:pt x="5369147" y="3536667"/>
                      </a:lnTo>
                      <a:lnTo>
                        <a:pt x="5395727" y="3493932"/>
                      </a:lnTo>
                      <a:lnTo>
                        <a:pt x="5421486" y="3450772"/>
                      </a:lnTo>
                      <a:lnTo>
                        <a:pt x="5446418" y="3407196"/>
                      </a:lnTo>
                      <a:lnTo>
                        <a:pt x="5470521" y="3363215"/>
                      </a:lnTo>
                      <a:lnTo>
                        <a:pt x="5493790" y="3318839"/>
                      </a:lnTo>
                      <a:lnTo>
                        <a:pt x="5516221" y="3274078"/>
                      </a:lnTo>
                      <a:lnTo>
                        <a:pt x="5537811" y="3228941"/>
                      </a:lnTo>
                      <a:lnTo>
                        <a:pt x="5558556" y="3183440"/>
                      </a:lnTo>
                      <a:lnTo>
                        <a:pt x="5578452" y="3137583"/>
                      </a:lnTo>
                      <a:lnTo>
                        <a:pt x="5597495" y="3091382"/>
                      </a:lnTo>
                      <a:lnTo>
                        <a:pt x="5615681" y="3044847"/>
                      </a:lnTo>
                      <a:lnTo>
                        <a:pt x="5633007" y="2997987"/>
                      </a:lnTo>
                      <a:lnTo>
                        <a:pt x="5649468" y="2950812"/>
                      </a:lnTo>
                      <a:lnTo>
                        <a:pt x="5665062" y="2903333"/>
                      </a:lnTo>
                      <a:lnTo>
                        <a:pt x="5679783" y="2855560"/>
                      </a:lnTo>
                      <a:lnTo>
                        <a:pt x="5693629" y="2807502"/>
                      </a:lnTo>
                      <a:lnTo>
                        <a:pt x="5706595" y="2759171"/>
                      </a:lnTo>
                      <a:lnTo>
                        <a:pt x="5718677" y="2710575"/>
                      </a:lnTo>
                      <a:lnTo>
                        <a:pt x="5729872" y="2661726"/>
                      </a:lnTo>
                      <a:lnTo>
                        <a:pt x="5740177" y="2612633"/>
                      </a:lnTo>
                      <a:lnTo>
                        <a:pt x="5749586" y="2563306"/>
                      </a:lnTo>
                      <a:lnTo>
                        <a:pt x="5758096" y="2513755"/>
                      </a:lnTo>
                      <a:lnTo>
                        <a:pt x="5765704" y="2463991"/>
                      </a:lnTo>
                      <a:lnTo>
                        <a:pt x="5772406" y="2414024"/>
                      </a:lnTo>
                      <a:lnTo>
                        <a:pt x="5778197" y="2363863"/>
                      </a:lnTo>
                      <a:lnTo>
                        <a:pt x="5783075" y="2313519"/>
                      </a:lnTo>
                      <a:lnTo>
                        <a:pt x="5787034" y="2263002"/>
                      </a:lnTo>
                      <a:lnTo>
                        <a:pt x="5787072" y="2262341"/>
                      </a:lnTo>
                      <a:lnTo>
                        <a:pt x="5787123" y="2261681"/>
                      </a:lnTo>
                      <a:lnTo>
                        <a:pt x="5791154" y="2208822"/>
                      </a:lnTo>
                      <a:lnTo>
                        <a:pt x="5793943" y="2156545"/>
                      </a:lnTo>
                      <a:lnTo>
                        <a:pt x="5795544" y="2104225"/>
                      </a:lnTo>
                      <a:lnTo>
                        <a:pt x="5795956" y="2051887"/>
                      </a:lnTo>
                      <a:lnTo>
                        <a:pt x="5795181" y="1999554"/>
                      </a:lnTo>
                      <a:lnTo>
                        <a:pt x="5793221" y="1947251"/>
                      </a:lnTo>
                      <a:lnTo>
                        <a:pt x="5790076" y="1895001"/>
                      </a:lnTo>
                      <a:lnTo>
                        <a:pt x="5785748" y="1842829"/>
                      </a:lnTo>
                      <a:lnTo>
                        <a:pt x="5780237" y="1790758"/>
                      </a:lnTo>
                      <a:lnTo>
                        <a:pt x="5773545" y="1738813"/>
                      </a:lnTo>
                      <a:lnTo>
                        <a:pt x="5765673" y="1687018"/>
                      </a:lnTo>
                      <a:close/>
                    </a:path>
                  </a:pathLst>
                </a:custGeom>
                <a:noFill/>
                <a:ln w="720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0" name="グループ化 8"/>
              <p:cNvGrpSpPr/>
              <p:nvPr/>
            </p:nvGrpSpPr>
            <p:grpSpPr>
              <a:xfrm>
                <a:off x="71280" y="1552680"/>
                <a:ext cx="7481880" cy="4643640"/>
                <a:chOff x="71280" y="1552680"/>
                <a:chExt cx="7481880" cy="4643640"/>
              </a:xfrm>
            </p:grpSpPr>
            <p:grpSp>
              <p:nvGrpSpPr>
                <p:cNvPr id="141" name="グループ化 9"/>
                <p:cNvGrpSpPr/>
                <p:nvPr/>
              </p:nvGrpSpPr>
              <p:grpSpPr>
                <a:xfrm>
                  <a:off x="71280" y="2659320"/>
                  <a:ext cx="1620360" cy="544320"/>
                  <a:chOff x="71280" y="2659320"/>
                  <a:chExt cx="1620360" cy="544320"/>
                </a:xfrm>
              </p:grpSpPr>
              <p:sp>
                <p:nvSpPr>
                  <p:cNvPr id="142" name="Line 70"/>
                  <p:cNvSpPr/>
                  <p:nvPr/>
                </p:nvSpPr>
                <p:spPr>
                  <a:xfrm>
                    <a:off x="963720" y="2932200"/>
                    <a:ext cx="7279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3" name="Text Box 71"/>
                  <p:cNvSpPr/>
                  <p:nvPr/>
                </p:nvSpPr>
                <p:spPr>
                  <a:xfrm>
                    <a:off x="71280" y="2659320"/>
                    <a:ext cx="936360" cy="544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仕上がり位置。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ＭＳ Ｐゴシック"/>
                      </a:rPr>
                      <a:t>青の線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で断裁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44" name="Graphic 4"/>
                <p:cNvSpPr/>
                <p:nvPr/>
              </p:nvSpPr>
              <p:spPr>
                <a:xfrm>
                  <a:off x="1540800" y="1552680"/>
                  <a:ext cx="6012360" cy="4643640"/>
                </a:xfrm>
                <a:custGeom>
                  <a:avLst/>
                  <a:gdLst/>
                  <a:ahLst/>
                  <a:rect l="l" t="t" r="r" b="b"/>
                  <a:pathLst>
                    <a:path w="6012180" h="4644390">
                      <a:moveTo>
                        <a:pt x="3005978" y="397"/>
                      </a:moveTo>
                      <a:lnTo>
                        <a:pt x="3058148" y="0"/>
                      </a:lnTo>
                      <a:lnTo>
                        <a:pt x="3110312" y="216"/>
                      </a:lnTo>
                      <a:lnTo>
                        <a:pt x="3162465" y="1045"/>
                      </a:lnTo>
                      <a:lnTo>
                        <a:pt x="3214601" y="2489"/>
                      </a:lnTo>
                      <a:lnTo>
                        <a:pt x="3266716" y="4545"/>
                      </a:lnTo>
                      <a:lnTo>
                        <a:pt x="3318803" y="7215"/>
                      </a:lnTo>
                      <a:lnTo>
                        <a:pt x="3370857" y="10497"/>
                      </a:lnTo>
                      <a:lnTo>
                        <a:pt x="3422873" y="14392"/>
                      </a:lnTo>
                      <a:lnTo>
                        <a:pt x="3474845" y="18900"/>
                      </a:lnTo>
                      <a:lnTo>
                        <a:pt x="3526767" y="24019"/>
                      </a:lnTo>
                      <a:lnTo>
                        <a:pt x="3577971" y="30446"/>
                      </a:lnTo>
                      <a:lnTo>
                        <a:pt x="3629122" y="37259"/>
                      </a:lnTo>
                      <a:lnTo>
                        <a:pt x="3680219" y="44459"/>
                      </a:lnTo>
                      <a:lnTo>
                        <a:pt x="3731258" y="52044"/>
                      </a:lnTo>
                      <a:lnTo>
                        <a:pt x="3782237" y="60014"/>
                      </a:lnTo>
                      <a:lnTo>
                        <a:pt x="3833155" y="68370"/>
                      </a:lnTo>
                      <a:lnTo>
                        <a:pt x="3884009" y="77109"/>
                      </a:lnTo>
                      <a:lnTo>
                        <a:pt x="3934797" y="86233"/>
                      </a:lnTo>
                      <a:lnTo>
                        <a:pt x="3985516" y="95740"/>
                      </a:lnTo>
                      <a:lnTo>
                        <a:pt x="4036164" y="105630"/>
                      </a:lnTo>
                      <a:lnTo>
                        <a:pt x="4086495" y="115615"/>
                      </a:lnTo>
                      <a:lnTo>
                        <a:pt x="4136675" y="126266"/>
                      </a:lnTo>
                      <a:lnTo>
                        <a:pt x="4186698" y="137581"/>
                      </a:lnTo>
                      <a:lnTo>
                        <a:pt x="4236556" y="149556"/>
                      </a:lnTo>
                      <a:lnTo>
                        <a:pt x="4286244" y="162192"/>
                      </a:lnTo>
                      <a:lnTo>
                        <a:pt x="4335755" y="175485"/>
                      </a:lnTo>
                      <a:lnTo>
                        <a:pt x="4385081" y="189435"/>
                      </a:lnTo>
                      <a:lnTo>
                        <a:pt x="4434216" y="204039"/>
                      </a:lnTo>
                      <a:lnTo>
                        <a:pt x="4483154" y="219296"/>
                      </a:lnTo>
                      <a:lnTo>
                        <a:pt x="4531888" y="235204"/>
                      </a:lnTo>
                      <a:lnTo>
                        <a:pt x="4580410" y="251762"/>
                      </a:lnTo>
                      <a:lnTo>
                        <a:pt x="4628715" y="268967"/>
                      </a:lnTo>
                      <a:lnTo>
                        <a:pt x="4676795" y="286817"/>
                      </a:lnTo>
                      <a:lnTo>
                        <a:pt x="4724644" y="305312"/>
                      </a:lnTo>
                      <a:lnTo>
                        <a:pt x="4771900" y="323482"/>
                      </a:lnTo>
                      <a:lnTo>
                        <a:pt x="4818729" y="342636"/>
                      </a:lnTo>
                      <a:lnTo>
                        <a:pt x="4865118" y="362766"/>
                      </a:lnTo>
                      <a:lnTo>
                        <a:pt x="4911050" y="383863"/>
                      </a:lnTo>
                      <a:lnTo>
                        <a:pt x="4956512" y="405921"/>
                      </a:lnTo>
                      <a:lnTo>
                        <a:pt x="5001487" y="428930"/>
                      </a:lnTo>
                      <a:lnTo>
                        <a:pt x="5045962" y="452883"/>
                      </a:lnTo>
                      <a:lnTo>
                        <a:pt x="5089920" y="477771"/>
                      </a:lnTo>
                      <a:lnTo>
                        <a:pt x="5133348" y="503587"/>
                      </a:lnTo>
                      <a:lnTo>
                        <a:pt x="5176230" y="530323"/>
                      </a:lnTo>
                      <a:lnTo>
                        <a:pt x="5218552" y="557970"/>
                      </a:lnTo>
                      <a:lnTo>
                        <a:pt x="5260297" y="586520"/>
                      </a:lnTo>
                      <a:lnTo>
                        <a:pt x="5301453" y="615966"/>
                      </a:lnTo>
                      <a:lnTo>
                        <a:pt x="5342638" y="647868"/>
                      </a:lnTo>
                      <a:lnTo>
                        <a:pt x="5382735" y="681045"/>
                      </a:lnTo>
                      <a:lnTo>
                        <a:pt x="5421717" y="715469"/>
                      </a:lnTo>
                      <a:lnTo>
                        <a:pt x="5459554" y="751112"/>
                      </a:lnTo>
                      <a:lnTo>
                        <a:pt x="5496219" y="787944"/>
                      </a:lnTo>
                      <a:lnTo>
                        <a:pt x="5531683" y="825937"/>
                      </a:lnTo>
                      <a:lnTo>
                        <a:pt x="5565918" y="865063"/>
                      </a:lnTo>
                      <a:lnTo>
                        <a:pt x="5598895" y="905293"/>
                      </a:lnTo>
                      <a:lnTo>
                        <a:pt x="5630586" y="946598"/>
                      </a:lnTo>
                      <a:lnTo>
                        <a:pt x="5657155" y="986189"/>
                      </a:lnTo>
                      <a:lnTo>
                        <a:pt x="5682688" y="1026430"/>
                      </a:lnTo>
                      <a:lnTo>
                        <a:pt x="5707172" y="1067301"/>
                      </a:lnTo>
                      <a:lnTo>
                        <a:pt x="5730596" y="1108782"/>
                      </a:lnTo>
                      <a:lnTo>
                        <a:pt x="5752949" y="1150852"/>
                      </a:lnTo>
                      <a:lnTo>
                        <a:pt x="5774217" y="1193491"/>
                      </a:lnTo>
                      <a:lnTo>
                        <a:pt x="5794390" y="1236679"/>
                      </a:lnTo>
                      <a:lnTo>
                        <a:pt x="5817476" y="1283379"/>
                      </a:lnTo>
                      <a:lnTo>
                        <a:pt x="5839344" y="1330617"/>
                      </a:lnTo>
                      <a:lnTo>
                        <a:pt x="5859986" y="1378368"/>
                      </a:lnTo>
                      <a:lnTo>
                        <a:pt x="5879394" y="1426610"/>
                      </a:lnTo>
                      <a:lnTo>
                        <a:pt x="5897560" y="1475318"/>
                      </a:lnTo>
                      <a:lnTo>
                        <a:pt x="5914475" y="1524467"/>
                      </a:lnTo>
                      <a:lnTo>
                        <a:pt x="5930131" y="1574035"/>
                      </a:lnTo>
                      <a:lnTo>
                        <a:pt x="5944520" y="1623997"/>
                      </a:lnTo>
                      <a:lnTo>
                        <a:pt x="5957634" y="1674330"/>
                      </a:lnTo>
                      <a:lnTo>
                        <a:pt x="5969463" y="1725008"/>
                      </a:lnTo>
                      <a:lnTo>
                        <a:pt x="5980001" y="1776010"/>
                      </a:lnTo>
                      <a:lnTo>
                        <a:pt x="5987658" y="1825847"/>
                      </a:lnTo>
                      <a:lnTo>
                        <a:pt x="5994270" y="1875805"/>
                      </a:lnTo>
                      <a:lnTo>
                        <a:pt x="5999838" y="1925867"/>
                      </a:lnTo>
                      <a:lnTo>
                        <a:pt x="6004359" y="1976018"/>
                      </a:lnTo>
                      <a:lnTo>
                        <a:pt x="6007834" y="2026241"/>
                      </a:lnTo>
                      <a:lnTo>
                        <a:pt x="6010260" y="2076520"/>
                      </a:lnTo>
                      <a:lnTo>
                        <a:pt x="6011639" y="2126839"/>
                      </a:lnTo>
                      <a:lnTo>
                        <a:pt x="6011967" y="2177181"/>
                      </a:lnTo>
                      <a:lnTo>
                        <a:pt x="6011246" y="2227530"/>
                      </a:lnTo>
                      <a:lnTo>
                        <a:pt x="6009474" y="2277871"/>
                      </a:lnTo>
                      <a:lnTo>
                        <a:pt x="6006649" y="2328186"/>
                      </a:lnTo>
                      <a:lnTo>
                        <a:pt x="6002772" y="2378460"/>
                      </a:lnTo>
                      <a:lnTo>
                        <a:pt x="5998803" y="2429236"/>
                      </a:lnTo>
                      <a:lnTo>
                        <a:pt x="5993930" y="2479869"/>
                      </a:lnTo>
                      <a:lnTo>
                        <a:pt x="5988157" y="2530348"/>
                      </a:lnTo>
                      <a:lnTo>
                        <a:pt x="5981488" y="2580662"/>
                      </a:lnTo>
                      <a:lnTo>
                        <a:pt x="5973928" y="2630799"/>
                      </a:lnTo>
                      <a:lnTo>
                        <a:pt x="5965481" y="2680748"/>
                      </a:lnTo>
                      <a:lnTo>
                        <a:pt x="5956152" y="2730499"/>
                      </a:lnTo>
                      <a:lnTo>
                        <a:pt x="5945943" y="2780039"/>
                      </a:lnTo>
                      <a:lnTo>
                        <a:pt x="5934861" y="2829357"/>
                      </a:lnTo>
                      <a:lnTo>
                        <a:pt x="5922908" y="2878443"/>
                      </a:lnTo>
                      <a:lnTo>
                        <a:pt x="5910090" y="2927285"/>
                      </a:lnTo>
                      <a:lnTo>
                        <a:pt x="5896411" y="2975872"/>
                      </a:lnTo>
                      <a:lnTo>
                        <a:pt x="5881874" y="3024192"/>
                      </a:lnTo>
                      <a:lnTo>
                        <a:pt x="5866484" y="3072235"/>
                      </a:lnTo>
                      <a:lnTo>
                        <a:pt x="5850246" y="3119989"/>
                      </a:lnTo>
                      <a:lnTo>
                        <a:pt x="5833164" y="3167442"/>
                      </a:lnTo>
                      <a:lnTo>
                        <a:pt x="5815241" y="3214585"/>
                      </a:lnTo>
                      <a:lnTo>
                        <a:pt x="5796482" y="3261405"/>
                      </a:lnTo>
                      <a:lnTo>
                        <a:pt x="5776892" y="3307891"/>
                      </a:lnTo>
                      <a:lnTo>
                        <a:pt x="5756475" y="3354032"/>
                      </a:lnTo>
                      <a:lnTo>
                        <a:pt x="5735235" y="3399817"/>
                      </a:lnTo>
                      <a:lnTo>
                        <a:pt x="5713175" y="3445235"/>
                      </a:lnTo>
                      <a:lnTo>
                        <a:pt x="5690302" y="3490274"/>
                      </a:lnTo>
                      <a:lnTo>
                        <a:pt x="5666618" y="3534923"/>
                      </a:lnTo>
                      <a:lnTo>
                        <a:pt x="5642128" y="3579171"/>
                      </a:lnTo>
                      <a:lnTo>
                        <a:pt x="5616837" y="3623007"/>
                      </a:lnTo>
                      <a:lnTo>
                        <a:pt x="5590748" y="3666419"/>
                      </a:lnTo>
                      <a:lnTo>
                        <a:pt x="5563866" y="3709397"/>
                      </a:lnTo>
                      <a:lnTo>
                        <a:pt x="5536195" y="3751928"/>
                      </a:lnTo>
                      <a:lnTo>
                        <a:pt x="5507740" y="3794002"/>
                      </a:lnTo>
                      <a:lnTo>
                        <a:pt x="5478504" y="3835608"/>
                      </a:lnTo>
                      <a:lnTo>
                        <a:pt x="5448492" y="3876734"/>
                      </a:lnTo>
                      <a:lnTo>
                        <a:pt x="5417708" y="3917369"/>
                      </a:lnTo>
                      <a:lnTo>
                        <a:pt x="5387238" y="3956519"/>
                      </a:lnTo>
                      <a:lnTo>
                        <a:pt x="5356260" y="3995243"/>
                      </a:lnTo>
                      <a:lnTo>
                        <a:pt x="5324778" y="4033537"/>
                      </a:lnTo>
                      <a:lnTo>
                        <a:pt x="5292798" y="4071395"/>
                      </a:lnTo>
                      <a:lnTo>
                        <a:pt x="5260325" y="4108814"/>
                      </a:lnTo>
                      <a:lnTo>
                        <a:pt x="5227363" y="4145790"/>
                      </a:lnTo>
                      <a:lnTo>
                        <a:pt x="5193916" y="4182316"/>
                      </a:lnTo>
                      <a:lnTo>
                        <a:pt x="5159990" y="4218389"/>
                      </a:lnTo>
                      <a:lnTo>
                        <a:pt x="5125589" y="4254004"/>
                      </a:lnTo>
                      <a:lnTo>
                        <a:pt x="5090719" y="4289156"/>
                      </a:lnTo>
                      <a:lnTo>
                        <a:pt x="5055382" y="4323842"/>
                      </a:lnTo>
                      <a:lnTo>
                        <a:pt x="5019585" y="4358055"/>
                      </a:lnTo>
                      <a:lnTo>
                        <a:pt x="4983333" y="4391792"/>
                      </a:lnTo>
                      <a:lnTo>
                        <a:pt x="4946629" y="4425049"/>
                      </a:lnTo>
                      <a:lnTo>
                        <a:pt x="4909478" y="4457819"/>
                      </a:lnTo>
                      <a:lnTo>
                        <a:pt x="4871886" y="4490100"/>
                      </a:lnTo>
                      <a:lnTo>
                        <a:pt x="4833857" y="4521885"/>
                      </a:lnTo>
                      <a:lnTo>
                        <a:pt x="4795395" y="4553171"/>
                      </a:lnTo>
                      <a:lnTo>
                        <a:pt x="4756506" y="4583953"/>
                      </a:lnTo>
                      <a:lnTo>
                        <a:pt x="4717194" y="4614227"/>
                      </a:lnTo>
                      <a:lnTo>
                        <a:pt x="4677464" y="4643987"/>
                      </a:lnTo>
                      <a:lnTo>
                        <a:pt x="4636438" y="4610762"/>
                      </a:lnTo>
                      <a:lnTo>
                        <a:pt x="4594719" y="4578447"/>
                      </a:lnTo>
                      <a:lnTo>
                        <a:pt x="4552322" y="4547051"/>
                      </a:lnTo>
                      <a:lnTo>
                        <a:pt x="4509261" y="4516585"/>
                      </a:lnTo>
                      <a:lnTo>
                        <a:pt x="4465551" y="4487059"/>
                      </a:lnTo>
                      <a:lnTo>
                        <a:pt x="4421208" y="4458483"/>
                      </a:lnTo>
                      <a:lnTo>
                        <a:pt x="4376246" y="4430868"/>
                      </a:lnTo>
                      <a:lnTo>
                        <a:pt x="4330680" y="4404222"/>
                      </a:lnTo>
                      <a:lnTo>
                        <a:pt x="4284526" y="4378557"/>
                      </a:lnTo>
                      <a:lnTo>
                        <a:pt x="4238329" y="4353448"/>
                      </a:lnTo>
                      <a:lnTo>
                        <a:pt x="4191917" y="4328743"/>
                      </a:lnTo>
                      <a:lnTo>
                        <a:pt x="4145294" y="4304440"/>
                      </a:lnTo>
                      <a:lnTo>
                        <a:pt x="4098462" y="4280540"/>
                      </a:lnTo>
                      <a:lnTo>
                        <a:pt x="4051425" y="4257041"/>
                      </a:lnTo>
                      <a:lnTo>
                        <a:pt x="4004186" y="4233942"/>
                      </a:lnTo>
                      <a:lnTo>
                        <a:pt x="3959771" y="4212198"/>
                      </a:lnTo>
                      <a:lnTo>
                        <a:pt x="3914927" y="4191493"/>
                      </a:lnTo>
                      <a:lnTo>
                        <a:pt x="3869672" y="4171832"/>
                      </a:lnTo>
                      <a:lnTo>
                        <a:pt x="3824025" y="4153219"/>
                      </a:lnTo>
                      <a:lnTo>
                        <a:pt x="3778005" y="4135659"/>
                      </a:lnTo>
                      <a:lnTo>
                        <a:pt x="3731629" y="4119157"/>
                      </a:lnTo>
                      <a:lnTo>
                        <a:pt x="3684917" y="4103716"/>
                      </a:lnTo>
                      <a:lnTo>
                        <a:pt x="3637887" y="4089340"/>
                      </a:lnTo>
                      <a:lnTo>
                        <a:pt x="3590557" y="4076035"/>
                      </a:lnTo>
                      <a:lnTo>
                        <a:pt x="3542946" y="4063804"/>
                      </a:lnTo>
                      <a:lnTo>
                        <a:pt x="3495073" y="4052653"/>
                      </a:lnTo>
                      <a:lnTo>
                        <a:pt x="3446956" y="4042584"/>
                      </a:lnTo>
                      <a:lnTo>
                        <a:pt x="3398613" y="4033603"/>
                      </a:lnTo>
                      <a:lnTo>
                        <a:pt x="3350063" y="4025714"/>
                      </a:lnTo>
                      <a:lnTo>
                        <a:pt x="3301325" y="4018921"/>
                      </a:lnTo>
                      <a:lnTo>
                        <a:pt x="3252418" y="4013229"/>
                      </a:lnTo>
                      <a:lnTo>
                        <a:pt x="3203358" y="4008642"/>
                      </a:lnTo>
                      <a:lnTo>
                        <a:pt x="3154166" y="4005164"/>
                      </a:lnTo>
                      <a:lnTo>
                        <a:pt x="3104860" y="4002800"/>
                      </a:lnTo>
                      <a:lnTo>
                        <a:pt x="3055458" y="4001554"/>
                      </a:lnTo>
                      <a:lnTo>
                        <a:pt x="3005978" y="4001431"/>
                      </a:lnTo>
                      <a:lnTo>
                        <a:pt x="2956501" y="4001554"/>
                      </a:lnTo>
                      <a:lnTo>
                        <a:pt x="2907100" y="4002800"/>
                      </a:lnTo>
                      <a:lnTo>
                        <a:pt x="2857795" y="4005164"/>
                      </a:lnTo>
                      <a:lnTo>
                        <a:pt x="2808605" y="4008642"/>
                      </a:lnTo>
                      <a:lnTo>
                        <a:pt x="2759547" y="4013229"/>
                      </a:lnTo>
                      <a:lnTo>
                        <a:pt x="2710640" y="4018921"/>
                      </a:lnTo>
                      <a:lnTo>
                        <a:pt x="2661903" y="4025714"/>
                      </a:lnTo>
                      <a:lnTo>
                        <a:pt x="2613354" y="4033603"/>
                      </a:lnTo>
                      <a:lnTo>
                        <a:pt x="2565012" y="4042584"/>
                      </a:lnTo>
                      <a:lnTo>
                        <a:pt x="2516895" y="4052653"/>
                      </a:lnTo>
                      <a:lnTo>
                        <a:pt x="2469022" y="4063804"/>
                      </a:lnTo>
                      <a:lnTo>
                        <a:pt x="2421412" y="4076035"/>
                      </a:lnTo>
                      <a:lnTo>
                        <a:pt x="2374082" y="4089340"/>
                      </a:lnTo>
                      <a:lnTo>
                        <a:pt x="2327052" y="4103716"/>
                      </a:lnTo>
                      <a:lnTo>
                        <a:pt x="2280340" y="4119157"/>
                      </a:lnTo>
                      <a:lnTo>
                        <a:pt x="2233965" y="4135659"/>
                      </a:lnTo>
                      <a:lnTo>
                        <a:pt x="2187945" y="4153219"/>
                      </a:lnTo>
                      <a:lnTo>
                        <a:pt x="2142298" y="4171832"/>
                      </a:lnTo>
                      <a:lnTo>
                        <a:pt x="2097043" y="4191493"/>
                      </a:lnTo>
                      <a:lnTo>
                        <a:pt x="2052199" y="4212198"/>
                      </a:lnTo>
                      <a:lnTo>
                        <a:pt x="2007784" y="4233942"/>
                      </a:lnTo>
                      <a:lnTo>
                        <a:pt x="1960545" y="4257041"/>
                      </a:lnTo>
                      <a:lnTo>
                        <a:pt x="1913508" y="4280540"/>
                      </a:lnTo>
                      <a:lnTo>
                        <a:pt x="1866677" y="4304440"/>
                      </a:lnTo>
                      <a:lnTo>
                        <a:pt x="1820056" y="4328743"/>
                      </a:lnTo>
                      <a:lnTo>
                        <a:pt x="1773648" y="4353448"/>
                      </a:lnTo>
                      <a:lnTo>
                        <a:pt x="1727457" y="4378557"/>
                      </a:lnTo>
                      <a:lnTo>
                        <a:pt x="1681299" y="4404222"/>
                      </a:lnTo>
                      <a:lnTo>
                        <a:pt x="1635730" y="4430868"/>
                      </a:lnTo>
                      <a:lnTo>
                        <a:pt x="1590766" y="4458483"/>
                      </a:lnTo>
                      <a:lnTo>
                        <a:pt x="1546421" y="4487059"/>
                      </a:lnTo>
                      <a:lnTo>
                        <a:pt x="1502710" y="4516585"/>
                      </a:lnTo>
                      <a:lnTo>
                        <a:pt x="1459649" y="4547051"/>
                      </a:lnTo>
                      <a:lnTo>
                        <a:pt x="1417251" y="4578447"/>
                      </a:lnTo>
                      <a:lnTo>
                        <a:pt x="1375532" y="4610762"/>
                      </a:lnTo>
                      <a:lnTo>
                        <a:pt x="1334506" y="4643987"/>
                      </a:lnTo>
                      <a:lnTo>
                        <a:pt x="1294774" y="4614227"/>
                      </a:lnTo>
                      <a:lnTo>
                        <a:pt x="1255460" y="4583953"/>
                      </a:lnTo>
                      <a:lnTo>
                        <a:pt x="1216570" y="4553171"/>
                      </a:lnTo>
                      <a:lnTo>
                        <a:pt x="1178107" y="4521885"/>
                      </a:lnTo>
                      <a:lnTo>
                        <a:pt x="1140077" y="4490100"/>
                      </a:lnTo>
                      <a:lnTo>
                        <a:pt x="1102484" y="4457819"/>
                      </a:lnTo>
                      <a:lnTo>
                        <a:pt x="1065332" y="4425049"/>
                      </a:lnTo>
                      <a:lnTo>
                        <a:pt x="1028628" y="4391792"/>
                      </a:lnTo>
                      <a:lnTo>
                        <a:pt x="992375" y="4358055"/>
                      </a:lnTo>
                      <a:lnTo>
                        <a:pt x="956578" y="4323842"/>
                      </a:lnTo>
                      <a:lnTo>
                        <a:pt x="921242" y="4289156"/>
                      </a:lnTo>
                      <a:lnTo>
                        <a:pt x="886371" y="4254004"/>
                      </a:lnTo>
                      <a:lnTo>
                        <a:pt x="851971" y="4218389"/>
                      </a:lnTo>
                      <a:lnTo>
                        <a:pt x="818045" y="4182316"/>
                      </a:lnTo>
                      <a:lnTo>
                        <a:pt x="784599" y="4145790"/>
                      </a:lnTo>
                      <a:lnTo>
                        <a:pt x="751638" y="4108814"/>
                      </a:lnTo>
                      <a:lnTo>
                        <a:pt x="719165" y="4071395"/>
                      </a:lnTo>
                      <a:lnTo>
                        <a:pt x="687187" y="4033537"/>
                      </a:lnTo>
                      <a:lnTo>
                        <a:pt x="655707" y="3995243"/>
                      </a:lnTo>
                      <a:lnTo>
                        <a:pt x="624730" y="3956519"/>
                      </a:lnTo>
                      <a:lnTo>
                        <a:pt x="594261" y="3917369"/>
                      </a:lnTo>
                      <a:lnTo>
                        <a:pt x="563479" y="3876734"/>
                      </a:lnTo>
                      <a:lnTo>
                        <a:pt x="533468" y="3835608"/>
                      </a:lnTo>
                      <a:lnTo>
                        <a:pt x="504233" y="3794002"/>
                      </a:lnTo>
                      <a:lnTo>
                        <a:pt x="475779" y="3751928"/>
                      </a:lnTo>
                      <a:lnTo>
                        <a:pt x="448109" y="3709397"/>
                      </a:lnTo>
                      <a:lnTo>
                        <a:pt x="421227" y="3666419"/>
                      </a:lnTo>
                      <a:lnTo>
                        <a:pt x="395139" y="3623007"/>
                      </a:lnTo>
                      <a:lnTo>
                        <a:pt x="369848" y="3579171"/>
                      </a:lnTo>
                      <a:lnTo>
                        <a:pt x="345359" y="3534923"/>
                      </a:lnTo>
                      <a:lnTo>
                        <a:pt x="321676" y="3490274"/>
                      </a:lnTo>
                      <a:lnTo>
                        <a:pt x="298803" y="3445235"/>
                      </a:lnTo>
                      <a:lnTo>
                        <a:pt x="276744" y="3399817"/>
                      </a:lnTo>
                      <a:lnTo>
                        <a:pt x="255504" y="3354032"/>
                      </a:lnTo>
                      <a:lnTo>
                        <a:pt x="235087" y="3307891"/>
                      </a:lnTo>
                      <a:lnTo>
                        <a:pt x="215497" y="3261405"/>
                      </a:lnTo>
                      <a:lnTo>
                        <a:pt x="196738" y="3214585"/>
                      </a:lnTo>
                      <a:lnTo>
                        <a:pt x="178816" y="3167442"/>
                      </a:lnTo>
                      <a:lnTo>
                        <a:pt x="161733" y="3119989"/>
                      </a:lnTo>
                      <a:lnTo>
                        <a:pt x="145495" y="3072235"/>
                      </a:lnTo>
                      <a:lnTo>
                        <a:pt x="130105" y="3024192"/>
                      </a:lnTo>
                      <a:lnTo>
                        <a:pt x="115568" y="2975872"/>
                      </a:lnTo>
                      <a:lnTo>
                        <a:pt x="101888" y="2927285"/>
                      </a:lnTo>
                      <a:lnTo>
                        <a:pt x="89069" y="2878443"/>
                      </a:lnTo>
                      <a:lnTo>
                        <a:pt x="77116" y="2829357"/>
                      </a:lnTo>
                      <a:lnTo>
                        <a:pt x="66033" y="2780039"/>
                      </a:lnTo>
                      <a:lnTo>
                        <a:pt x="55824" y="2730499"/>
                      </a:lnTo>
                      <a:lnTo>
                        <a:pt x="46494" y="2680748"/>
                      </a:lnTo>
                      <a:lnTo>
                        <a:pt x="38046" y="2630799"/>
                      </a:lnTo>
                      <a:lnTo>
                        <a:pt x="30486" y="2580662"/>
                      </a:lnTo>
                      <a:lnTo>
                        <a:pt x="23816" y="2530348"/>
                      </a:lnTo>
                      <a:lnTo>
                        <a:pt x="18042" y="2479869"/>
                      </a:lnTo>
                      <a:lnTo>
                        <a:pt x="13168" y="2429236"/>
                      </a:lnTo>
                      <a:lnTo>
                        <a:pt x="9198" y="2378460"/>
                      </a:lnTo>
                      <a:lnTo>
                        <a:pt x="5320" y="2328186"/>
                      </a:lnTo>
                      <a:lnTo>
                        <a:pt x="2495" y="2277871"/>
                      </a:lnTo>
                      <a:lnTo>
                        <a:pt x="722" y="2227530"/>
                      </a:lnTo>
                      <a:lnTo>
                        <a:pt x="0" y="2177181"/>
                      </a:lnTo>
                      <a:lnTo>
                        <a:pt x="327" y="2126839"/>
                      </a:lnTo>
                      <a:lnTo>
                        <a:pt x="1705" y="2076520"/>
                      </a:lnTo>
                      <a:lnTo>
                        <a:pt x="4131" y="2026241"/>
                      </a:lnTo>
                      <a:lnTo>
                        <a:pt x="7605" y="1976018"/>
                      </a:lnTo>
                      <a:lnTo>
                        <a:pt x="12127" y="1925867"/>
                      </a:lnTo>
                      <a:lnTo>
                        <a:pt x="17695" y="1875805"/>
                      </a:lnTo>
                      <a:lnTo>
                        <a:pt x="24309" y="1825847"/>
                      </a:lnTo>
                      <a:lnTo>
                        <a:pt x="31969" y="1776010"/>
                      </a:lnTo>
                      <a:lnTo>
                        <a:pt x="42506" y="1725008"/>
                      </a:lnTo>
                      <a:lnTo>
                        <a:pt x="54336" y="1674330"/>
                      </a:lnTo>
                      <a:lnTo>
                        <a:pt x="67449" y="1623997"/>
                      </a:lnTo>
                      <a:lnTo>
                        <a:pt x="81838" y="1574035"/>
                      </a:lnTo>
                      <a:lnTo>
                        <a:pt x="97495" y="1524467"/>
                      </a:lnTo>
                      <a:lnTo>
                        <a:pt x="114410" y="1475318"/>
                      </a:lnTo>
                      <a:lnTo>
                        <a:pt x="132576" y="1426610"/>
                      </a:lnTo>
                      <a:lnTo>
                        <a:pt x="151984" y="1378368"/>
                      </a:lnTo>
                      <a:lnTo>
                        <a:pt x="172626" y="1330617"/>
                      </a:lnTo>
                      <a:lnTo>
                        <a:pt x="194494" y="1283379"/>
                      </a:lnTo>
                      <a:lnTo>
                        <a:pt x="217579" y="1236679"/>
                      </a:lnTo>
                      <a:lnTo>
                        <a:pt x="237757" y="1193491"/>
                      </a:lnTo>
                      <a:lnTo>
                        <a:pt x="259029" y="1150852"/>
                      </a:lnTo>
                      <a:lnTo>
                        <a:pt x="281384" y="1108782"/>
                      </a:lnTo>
                      <a:lnTo>
                        <a:pt x="304809" y="1067301"/>
                      </a:lnTo>
                      <a:lnTo>
                        <a:pt x="329294" y="1026430"/>
                      </a:lnTo>
                      <a:lnTo>
                        <a:pt x="354827" y="986189"/>
                      </a:lnTo>
                      <a:lnTo>
                        <a:pt x="381396" y="946598"/>
                      </a:lnTo>
                      <a:lnTo>
                        <a:pt x="413084" y="905293"/>
                      </a:lnTo>
                      <a:lnTo>
                        <a:pt x="446058" y="865063"/>
                      </a:lnTo>
                      <a:lnTo>
                        <a:pt x="480290" y="825937"/>
                      </a:lnTo>
                      <a:lnTo>
                        <a:pt x="515753" y="787944"/>
                      </a:lnTo>
                      <a:lnTo>
                        <a:pt x="552416" y="751112"/>
                      </a:lnTo>
                      <a:lnTo>
                        <a:pt x="590253" y="715469"/>
                      </a:lnTo>
                      <a:lnTo>
                        <a:pt x="629234" y="681045"/>
                      </a:lnTo>
                      <a:lnTo>
                        <a:pt x="669332" y="647868"/>
                      </a:lnTo>
                      <a:lnTo>
                        <a:pt x="710517" y="615966"/>
                      </a:lnTo>
                      <a:lnTo>
                        <a:pt x="751672" y="586520"/>
                      </a:lnTo>
                      <a:lnTo>
                        <a:pt x="793418" y="557970"/>
                      </a:lnTo>
                      <a:lnTo>
                        <a:pt x="835740" y="530323"/>
                      </a:lnTo>
                      <a:lnTo>
                        <a:pt x="878622" y="503587"/>
                      </a:lnTo>
                      <a:lnTo>
                        <a:pt x="922050" y="477771"/>
                      </a:lnTo>
                      <a:lnTo>
                        <a:pt x="966009" y="452883"/>
                      </a:lnTo>
                      <a:lnTo>
                        <a:pt x="1010485" y="428930"/>
                      </a:lnTo>
                      <a:lnTo>
                        <a:pt x="1055461" y="405921"/>
                      </a:lnTo>
                      <a:lnTo>
                        <a:pt x="1100924" y="383863"/>
                      </a:lnTo>
                      <a:lnTo>
                        <a:pt x="1146858" y="362766"/>
                      </a:lnTo>
                      <a:lnTo>
                        <a:pt x="1193248" y="342636"/>
                      </a:lnTo>
                      <a:lnTo>
                        <a:pt x="1240080" y="323482"/>
                      </a:lnTo>
                      <a:lnTo>
                        <a:pt x="1287338" y="305312"/>
                      </a:lnTo>
                      <a:lnTo>
                        <a:pt x="1335187" y="286817"/>
                      </a:lnTo>
                      <a:lnTo>
                        <a:pt x="1383267" y="268967"/>
                      </a:lnTo>
                      <a:lnTo>
                        <a:pt x="1431571" y="251762"/>
                      </a:lnTo>
                      <a:lnTo>
                        <a:pt x="1480092" y="235204"/>
                      </a:lnTo>
                      <a:lnTo>
                        <a:pt x="1528824" y="219296"/>
                      </a:lnTo>
                      <a:lnTo>
                        <a:pt x="1577761" y="204039"/>
                      </a:lnTo>
                      <a:lnTo>
                        <a:pt x="1626895" y="189435"/>
                      </a:lnTo>
                      <a:lnTo>
                        <a:pt x="1676220" y="175485"/>
                      </a:lnTo>
                      <a:lnTo>
                        <a:pt x="1725729" y="162192"/>
                      </a:lnTo>
                      <a:lnTo>
                        <a:pt x="1775416" y="149556"/>
                      </a:lnTo>
                      <a:lnTo>
                        <a:pt x="1825274" y="137581"/>
                      </a:lnTo>
                      <a:lnTo>
                        <a:pt x="1875295" y="126266"/>
                      </a:lnTo>
                      <a:lnTo>
                        <a:pt x="1925475" y="115615"/>
                      </a:lnTo>
                      <a:lnTo>
                        <a:pt x="1975805" y="105630"/>
                      </a:lnTo>
                      <a:lnTo>
                        <a:pt x="2026450" y="95740"/>
                      </a:lnTo>
                      <a:lnTo>
                        <a:pt x="2077167" y="86233"/>
                      </a:lnTo>
                      <a:lnTo>
                        <a:pt x="2127952" y="77109"/>
                      </a:lnTo>
                      <a:lnTo>
                        <a:pt x="2178805" y="68370"/>
                      </a:lnTo>
                      <a:lnTo>
                        <a:pt x="2229723" y="60014"/>
                      </a:lnTo>
                      <a:lnTo>
                        <a:pt x="2280703" y="52044"/>
                      </a:lnTo>
                      <a:lnTo>
                        <a:pt x="2331743" y="44459"/>
                      </a:lnTo>
                      <a:lnTo>
                        <a:pt x="2382841" y="37259"/>
                      </a:lnTo>
                      <a:lnTo>
                        <a:pt x="2433995" y="30446"/>
                      </a:lnTo>
                      <a:lnTo>
                        <a:pt x="2485202" y="24019"/>
                      </a:lnTo>
                      <a:lnTo>
                        <a:pt x="2537121" y="18900"/>
                      </a:lnTo>
                      <a:lnTo>
                        <a:pt x="2589091" y="14392"/>
                      </a:lnTo>
                      <a:lnTo>
                        <a:pt x="2641104" y="10497"/>
                      </a:lnTo>
                      <a:lnTo>
                        <a:pt x="2693157" y="7215"/>
                      </a:lnTo>
                      <a:lnTo>
                        <a:pt x="2745243" y="4545"/>
                      </a:lnTo>
                      <a:lnTo>
                        <a:pt x="2797357" y="2489"/>
                      </a:lnTo>
                      <a:lnTo>
                        <a:pt x="2849493" y="1045"/>
                      </a:lnTo>
                      <a:lnTo>
                        <a:pt x="2901645" y="216"/>
                      </a:lnTo>
                      <a:lnTo>
                        <a:pt x="2953809" y="0"/>
                      </a:lnTo>
                      <a:lnTo>
                        <a:pt x="3005978" y="397"/>
                      </a:lnTo>
                    </a:path>
                  </a:pathLst>
                </a:custGeom>
                <a:noFill/>
                <a:ln w="720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5400" y="308520"/>
            <a:ext cx="81968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5400" y="1811160"/>
            <a:ext cx="8196840" cy="44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4T07:02:19Z</dcterms:created>
  <dc:creator/>
  <dc:description/>
  <dc:language>en-US</dc:language>
  <cp:lastModifiedBy/>
  <dcterms:modified xsi:type="dcterms:W3CDTF">2024-04-30T09:06:43Z</dcterms:modified>
  <cp:revision>17</cp:revision>
  <dc:subject/>
  <dc:title/>
</cp:coreProperties>
</file>