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8640763" cy="34194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32000" y="136440"/>
            <a:ext cx="7775640" cy="5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32000" y="800280"/>
            <a:ext cx="777564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2000" y="1836360"/>
            <a:ext cx="777564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32000" y="136440"/>
            <a:ext cx="7775640" cy="5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32000" y="800280"/>
            <a:ext cx="379440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16480" y="800280"/>
            <a:ext cx="379440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32000" y="1836360"/>
            <a:ext cx="379440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416480" y="1836360"/>
            <a:ext cx="379440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32000" y="136440"/>
            <a:ext cx="7775640" cy="5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32000" y="800280"/>
            <a:ext cx="250344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061080" y="800280"/>
            <a:ext cx="250344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0160" y="800280"/>
            <a:ext cx="250344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32000" y="1836360"/>
            <a:ext cx="250344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061080" y="1836360"/>
            <a:ext cx="250344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0160" y="1836360"/>
            <a:ext cx="250344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32000" y="136440"/>
            <a:ext cx="7775640" cy="5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32000" y="800280"/>
            <a:ext cx="7775640" cy="19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32000" y="136440"/>
            <a:ext cx="7775640" cy="5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32000" y="800280"/>
            <a:ext cx="7775640" cy="19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2000" y="136440"/>
            <a:ext cx="7775640" cy="5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32000" y="800280"/>
            <a:ext cx="3794400" cy="19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416480" y="800280"/>
            <a:ext cx="3794400" cy="19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32000" y="136440"/>
            <a:ext cx="7775640" cy="5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32000" y="136440"/>
            <a:ext cx="7775640" cy="26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32000" y="136440"/>
            <a:ext cx="7775640" cy="5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32000" y="800280"/>
            <a:ext cx="379440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416480" y="800280"/>
            <a:ext cx="3794400" cy="19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32000" y="1836360"/>
            <a:ext cx="379440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2000" y="136440"/>
            <a:ext cx="7775640" cy="5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32000" y="800280"/>
            <a:ext cx="7775640" cy="19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32000" y="136440"/>
            <a:ext cx="7775640" cy="5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32000" y="800280"/>
            <a:ext cx="3794400" cy="19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16480" y="800280"/>
            <a:ext cx="379440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416480" y="1836360"/>
            <a:ext cx="379440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32000" y="136440"/>
            <a:ext cx="7775640" cy="5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2000" y="800280"/>
            <a:ext cx="379440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16480" y="800280"/>
            <a:ext cx="379440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32000" y="1836360"/>
            <a:ext cx="777564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32000" y="136440"/>
            <a:ext cx="7775640" cy="5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2000" y="800280"/>
            <a:ext cx="777564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32000" y="1836360"/>
            <a:ext cx="777564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32000" y="136440"/>
            <a:ext cx="7775640" cy="5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32000" y="800280"/>
            <a:ext cx="379440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416480" y="800280"/>
            <a:ext cx="379440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32000" y="1836360"/>
            <a:ext cx="379440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416480" y="1836360"/>
            <a:ext cx="379440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32000" y="136440"/>
            <a:ext cx="7775640" cy="5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32000" y="800280"/>
            <a:ext cx="250344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061080" y="800280"/>
            <a:ext cx="250344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690160" y="800280"/>
            <a:ext cx="250344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32000" y="1836360"/>
            <a:ext cx="250344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061080" y="1836360"/>
            <a:ext cx="250344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690160" y="1836360"/>
            <a:ext cx="250344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2000" y="136440"/>
            <a:ext cx="7775640" cy="5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2000" y="800280"/>
            <a:ext cx="7775640" cy="19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32000" y="136440"/>
            <a:ext cx="7775640" cy="5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32000" y="800280"/>
            <a:ext cx="3794400" cy="19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16480" y="800280"/>
            <a:ext cx="3794400" cy="19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32000" y="136440"/>
            <a:ext cx="7775640" cy="5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32000" y="136440"/>
            <a:ext cx="7775640" cy="26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2000" y="136440"/>
            <a:ext cx="7775640" cy="5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32000" y="800280"/>
            <a:ext cx="379440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16480" y="800280"/>
            <a:ext cx="3794400" cy="19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32000" y="1836360"/>
            <a:ext cx="379440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2000" y="136440"/>
            <a:ext cx="7775640" cy="5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32000" y="800280"/>
            <a:ext cx="3794400" cy="19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16480" y="800280"/>
            <a:ext cx="379440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416480" y="1836360"/>
            <a:ext cx="379440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2000" y="136440"/>
            <a:ext cx="7775640" cy="5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2000" y="800280"/>
            <a:ext cx="379440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16480" y="800280"/>
            <a:ext cx="379440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2000" y="1836360"/>
            <a:ext cx="7775640" cy="9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線コネクタ 6"/>
          <p:cNvSpPr/>
          <p:nvPr/>
        </p:nvSpPr>
        <p:spPr>
          <a:xfrm>
            <a:off x="1079640" y="1332000"/>
            <a:ext cx="64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線コネクタ 7"/>
          <p:cNvSpPr/>
          <p:nvPr/>
        </p:nvSpPr>
        <p:spPr>
          <a:xfrm>
            <a:off x="1079640" y="1440000"/>
            <a:ext cx="64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直線コネクタ 8"/>
          <p:cNvSpPr/>
          <p:nvPr/>
        </p:nvSpPr>
        <p:spPr>
          <a:xfrm>
            <a:off x="1079640" y="1709640"/>
            <a:ext cx="64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直線コネクタ 9"/>
          <p:cNvSpPr/>
          <p:nvPr/>
        </p:nvSpPr>
        <p:spPr>
          <a:xfrm>
            <a:off x="1079640" y="1982880"/>
            <a:ext cx="64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直線コネクタ 10"/>
          <p:cNvSpPr/>
          <p:nvPr/>
        </p:nvSpPr>
        <p:spPr>
          <a:xfrm>
            <a:off x="1079640" y="2089080"/>
            <a:ext cx="64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直線コネクタ 11"/>
          <p:cNvSpPr/>
          <p:nvPr/>
        </p:nvSpPr>
        <p:spPr>
          <a:xfrm>
            <a:off x="1332000" y="1079640"/>
            <a:ext cx="0" cy="126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直線コネクタ 12"/>
          <p:cNvSpPr/>
          <p:nvPr/>
        </p:nvSpPr>
        <p:spPr>
          <a:xfrm>
            <a:off x="1440000" y="1079640"/>
            <a:ext cx="0" cy="126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直線コネクタ 13"/>
          <p:cNvSpPr/>
          <p:nvPr/>
        </p:nvSpPr>
        <p:spPr>
          <a:xfrm>
            <a:off x="4319640" y="1079640"/>
            <a:ext cx="0" cy="126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直線コネクタ 14"/>
          <p:cNvSpPr/>
          <p:nvPr/>
        </p:nvSpPr>
        <p:spPr>
          <a:xfrm>
            <a:off x="7202520" y="1079640"/>
            <a:ext cx="0" cy="126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直線コネクタ 15"/>
          <p:cNvSpPr/>
          <p:nvPr/>
        </p:nvSpPr>
        <p:spPr>
          <a:xfrm>
            <a:off x="7308720" y="1079640"/>
            <a:ext cx="0" cy="126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正方形/長方形 16"/>
          <p:cNvSpPr/>
          <p:nvPr/>
        </p:nvSpPr>
        <p:spPr>
          <a:xfrm>
            <a:off x="1332000" y="1332000"/>
            <a:ext cx="5976720" cy="757080"/>
          </a:xfrm>
          <a:prstGeom prst="rect">
            <a:avLst/>
          </a:prstGeom>
          <a:solidFill>
            <a:srgbClr val="ffffff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テキスト ボックス 17"/>
          <p:cNvSpPr/>
          <p:nvPr/>
        </p:nvSpPr>
        <p:spPr>
          <a:xfrm>
            <a:off x="7380360" y="1079640"/>
            <a:ext cx="181080" cy="1807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Calibri"/>
              </a:rPr>
              <a:t>上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テキスト ボックス 18"/>
          <p:cNvSpPr/>
          <p:nvPr/>
        </p:nvSpPr>
        <p:spPr>
          <a:xfrm>
            <a:off x="7380360" y="2160720"/>
            <a:ext cx="181080" cy="1792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Calibri"/>
              </a:rPr>
              <a:t>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直線コネクタ 6"/>
          <p:cNvSpPr/>
          <p:nvPr/>
        </p:nvSpPr>
        <p:spPr>
          <a:xfrm>
            <a:off x="1079640" y="1332000"/>
            <a:ext cx="64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直線コネクタ 7"/>
          <p:cNvSpPr/>
          <p:nvPr/>
        </p:nvSpPr>
        <p:spPr>
          <a:xfrm>
            <a:off x="1079640" y="1440000"/>
            <a:ext cx="64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直線コネクタ 8"/>
          <p:cNvSpPr/>
          <p:nvPr/>
        </p:nvSpPr>
        <p:spPr>
          <a:xfrm>
            <a:off x="1079640" y="1709640"/>
            <a:ext cx="64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直線コネクタ 9"/>
          <p:cNvSpPr/>
          <p:nvPr/>
        </p:nvSpPr>
        <p:spPr>
          <a:xfrm>
            <a:off x="1079640" y="1982880"/>
            <a:ext cx="64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直線コネクタ 10"/>
          <p:cNvSpPr/>
          <p:nvPr/>
        </p:nvSpPr>
        <p:spPr>
          <a:xfrm>
            <a:off x="1079640" y="2089080"/>
            <a:ext cx="64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直線コネクタ 11"/>
          <p:cNvSpPr/>
          <p:nvPr/>
        </p:nvSpPr>
        <p:spPr>
          <a:xfrm>
            <a:off x="1332000" y="1079640"/>
            <a:ext cx="0" cy="126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線コネクタ 12"/>
          <p:cNvSpPr/>
          <p:nvPr/>
        </p:nvSpPr>
        <p:spPr>
          <a:xfrm>
            <a:off x="1440000" y="1079640"/>
            <a:ext cx="0" cy="126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直線コネクタ 13"/>
          <p:cNvSpPr/>
          <p:nvPr/>
        </p:nvSpPr>
        <p:spPr>
          <a:xfrm>
            <a:off x="4319640" y="1079640"/>
            <a:ext cx="0" cy="126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直線コネクタ 14"/>
          <p:cNvSpPr/>
          <p:nvPr/>
        </p:nvSpPr>
        <p:spPr>
          <a:xfrm>
            <a:off x="7202520" y="1079640"/>
            <a:ext cx="0" cy="126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直線コネクタ 15"/>
          <p:cNvSpPr/>
          <p:nvPr/>
        </p:nvSpPr>
        <p:spPr>
          <a:xfrm>
            <a:off x="7308720" y="1079640"/>
            <a:ext cx="0" cy="126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正方形/長方形 16"/>
          <p:cNvSpPr/>
          <p:nvPr/>
        </p:nvSpPr>
        <p:spPr>
          <a:xfrm>
            <a:off x="1332000" y="1332000"/>
            <a:ext cx="5976720" cy="757080"/>
          </a:xfrm>
          <a:prstGeom prst="rect">
            <a:avLst/>
          </a:prstGeom>
          <a:solidFill>
            <a:srgbClr val="ffffff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テキスト ボックス 17"/>
          <p:cNvSpPr/>
          <p:nvPr/>
        </p:nvSpPr>
        <p:spPr>
          <a:xfrm>
            <a:off x="7380360" y="1079640"/>
            <a:ext cx="181080" cy="1807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Calibri"/>
              </a:rPr>
              <a:t>上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テキスト ボックス 18"/>
          <p:cNvSpPr/>
          <p:nvPr/>
        </p:nvSpPr>
        <p:spPr>
          <a:xfrm>
            <a:off x="7380360" y="2160720"/>
            <a:ext cx="181080" cy="1792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Calibri"/>
              </a:rPr>
              <a:t>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" name="グループ化 19"/>
          <p:cNvGrpSpPr/>
          <p:nvPr/>
        </p:nvGrpSpPr>
        <p:grpSpPr>
          <a:xfrm>
            <a:off x="36360" y="36360"/>
            <a:ext cx="7164720" cy="1944720"/>
            <a:chOff x="36360" y="36360"/>
            <a:chExt cx="7164720" cy="1944720"/>
          </a:xfrm>
        </p:grpSpPr>
        <p:sp>
          <p:nvSpPr>
            <p:cNvPr id="63" name="正方形/長方形 20"/>
            <p:cNvSpPr/>
            <p:nvPr/>
          </p:nvSpPr>
          <p:spPr>
            <a:xfrm>
              <a:off x="1440360" y="1440360"/>
              <a:ext cx="5760720" cy="540720"/>
            </a:xfrm>
            <a:prstGeom prst="rect">
              <a:avLst/>
            </a:prstGeom>
            <a:noFill/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9040"/>
                  <a:tab algn="l" pos="1378080"/>
                  <a:tab algn="l" pos="2066760"/>
                  <a:tab algn="l" pos="2755800"/>
                  <a:tab algn="l" pos="3444840"/>
                  <a:tab algn="l" pos="4133880"/>
                  <a:tab algn="l" pos="4822920"/>
                  <a:tab algn="l" pos="5511960"/>
                  <a:tab algn="l" pos="6200640"/>
                  <a:tab algn="l" pos="6889680"/>
                  <a:tab algn="l" pos="7578720"/>
                  <a:tab algn="l" pos="8267760"/>
                  <a:tab algn="l" pos="8956800"/>
                  <a:tab algn="l" pos="9645480"/>
                  <a:tab algn="l" pos="1033452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4" name="グループ化 21"/>
            <p:cNvGrpSpPr/>
            <p:nvPr/>
          </p:nvGrpSpPr>
          <p:grpSpPr>
            <a:xfrm>
              <a:off x="36360" y="1206360"/>
              <a:ext cx="1411560" cy="468000"/>
              <a:chOff x="36360" y="1206360"/>
              <a:chExt cx="1411560" cy="468000"/>
            </a:xfrm>
          </p:grpSpPr>
          <p:sp>
            <p:nvSpPr>
              <p:cNvPr id="65" name="Line 75"/>
              <p:cNvSpPr/>
              <p:nvPr/>
            </p:nvSpPr>
            <p:spPr>
              <a:xfrm>
                <a:off x="871920" y="1440360"/>
                <a:ext cx="576000" cy="0"/>
              </a:xfrm>
              <a:prstGeom prst="line">
                <a:avLst/>
              </a:prstGeom>
              <a:ln w="648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" name="Text Box 76"/>
              <p:cNvSpPr/>
              <p:nvPr/>
            </p:nvSpPr>
            <p:spPr>
              <a:xfrm>
                <a:off x="36360" y="1206360"/>
                <a:ext cx="936720" cy="46800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ＭＳ Ｐゴシック"/>
                  </a:rPr>
                  <a:t>仕上がり位置。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ＭＳ Ｐゴシック"/>
                  </a:rPr>
                  <a:t>この</a:t>
                </a:r>
                <a:r>
                  <a:rPr b="1" lang="ja-JP" sz="900" spc="-1" strike="noStrike">
                    <a:solidFill>
                      <a:srgbClr val="ff0000"/>
                    </a:solidFill>
                    <a:latin typeface="ＭＳ Ｐゴシック"/>
                  </a:rPr>
                  <a:t>青</a:t>
                </a:r>
                <a:r>
                  <a:rPr b="0" lang="ja-JP" sz="900" spc="-1" strike="noStrike">
                    <a:solidFill>
                      <a:srgbClr val="000000"/>
                    </a:solidFill>
                    <a:latin typeface="ＭＳ Ｐゴシック"/>
                  </a:rPr>
                  <a:t>い線でカットします。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7" name="Group 92"/>
            <p:cNvGrpSpPr/>
            <p:nvPr/>
          </p:nvGrpSpPr>
          <p:grpSpPr>
            <a:xfrm>
              <a:off x="36360" y="36360"/>
              <a:ext cx="5065560" cy="900000"/>
              <a:chOff x="36360" y="36360"/>
              <a:chExt cx="5065560" cy="900000"/>
            </a:xfrm>
          </p:grpSpPr>
          <p:sp>
            <p:nvSpPr>
              <p:cNvPr id="68" name="Rectangle 65"/>
              <p:cNvSpPr/>
              <p:nvPr/>
            </p:nvSpPr>
            <p:spPr>
              <a:xfrm>
                <a:off x="36360" y="36360"/>
                <a:ext cx="1332000" cy="900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r>
                  <a:rPr b="1" lang="ja-JP" sz="900" spc="-1" strike="noStrike">
                    <a:solidFill>
                      <a:srgbClr val="000000"/>
                    </a:solidFill>
                    <a:latin typeface="ＭＳ Ｐゴシック"/>
                  </a:rPr>
                  <a:t>卓上カレンダー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r>
                  <a:rPr b="1" lang="ja-JP" sz="900" spc="-1" strike="noStrike">
                    <a:solidFill>
                      <a:srgbClr val="000000"/>
                    </a:solidFill>
                    <a:latin typeface="ＭＳ Ｐゴシック"/>
                  </a:rPr>
                  <a:t>紙リングタイプ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r>
                  <a:rPr b="1" lang="ja-JP" sz="900" spc="-1" strike="noStrike">
                    <a:solidFill>
                      <a:srgbClr val="000000"/>
                    </a:solidFill>
                    <a:latin typeface="ＭＳ Ｐゴシック"/>
                  </a:rPr>
                  <a:t>紙ケース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ＭＳ Ｐゴシック"/>
                  </a:rPr>
                  <a:t>A</a:t>
                </a:r>
                <a:r>
                  <a:rPr b="1" lang="ja-JP" sz="900" spc="-1" strike="noStrike">
                    <a:solidFill>
                      <a:srgbClr val="000000"/>
                    </a:solidFill>
                    <a:latin typeface="ＭＳ Ｐゴシック"/>
                  </a:rPr>
                  <a:t>タイプ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160×H15</a:t>
                </a:r>
                <a:r>
                  <a:rPr b="0" lang="ja-JP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m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" name="Text Box 67"/>
              <p:cNvSpPr/>
              <p:nvPr/>
            </p:nvSpPr>
            <p:spPr>
              <a:xfrm>
                <a:off x="1366560" y="36360"/>
                <a:ext cx="3735360" cy="900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noAutofit/>
              </a:bodyPr>
              <a:p>
                <a:pPr marL="114480" indent="-11448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1" lang="ja-JP" sz="700" spc="-1" strike="noStrike">
                    <a:solidFill>
                      <a:srgbClr val="000000"/>
                    </a:solidFill>
                    <a:latin typeface="Arial"/>
                  </a:rPr>
                  <a:t>データは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黒１色</a:t>
                </a:r>
                <a:r>
                  <a:rPr b="1" lang="ja-JP" sz="700" spc="-1" strike="noStrike">
                    <a:solidFill>
                      <a:srgbClr val="000000"/>
                    </a:solidFill>
                    <a:latin typeface="Arial"/>
                  </a:rPr>
                  <a:t>で作成してください。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114480" indent="-11448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青い四角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より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内側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に入れて作成してください。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114480" indent="-11448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透過性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や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半透明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、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パターン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など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変換が正常に出来ない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場合があります。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114480" indent="-11448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用紙サイズの変更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や、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トンボの移動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、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変形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などなさらないようお願いします。　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114480" indent="-11448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このテンプレートから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DF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を作成する際は、説明部分の線などを削除してください。</a:t>
                </a:r>
                <a:br>
                  <a:rPr sz="700"/>
                </a:b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また、作成した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DF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が「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40×95mm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」かどうか確認してください。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70" name="Picture 95" descr="新Suprintロゴ"/>
              <p:cNvPicPr/>
              <p:nvPr/>
            </p:nvPicPr>
            <p:blipFill>
              <a:blip r:embed="rId2"/>
              <a:stretch/>
            </p:blipFill>
            <p:spPr>
              <a:xfrm>
                <a:off x="69840" y="630000"/>
                <a:ext cx="434880" cy="27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32000" y="136440"/>
            <a:ext cx="7775640" cy="5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432000" y="800280"/>
            <a:ext cx="7775640" cy="19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231120" indent="-231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02560" indent="-1926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774360" indent="-154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084320" indent="-15408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4" marL="1394280" indent="-15408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5" marL="1394280" indent="-15408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6" marL="1394280" indent="-15408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7T00:43:19Z</dcterms:created>
  <dc:creator>ugo-99</dc:creator>
  <dc:description/>
  <dc:language>en-US</dc:language>
  <cp:lastModifiedBy>ugo-99</cp:lastModifiedBy>
  <dcterms:modified xsi:type="dcterms:W3CDTF">2017-10-17T06:35:37Z</dcterms:modified>
  <cp:revision>9</cp:revision>
  <dc:subject/>
  <dc:title>PowerPoint プレゼンテーション</dc:title>
</cp:coreProperties>
</file>