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848600" cy="34194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2400" y="800280"/>
            <a:ext cx="70628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400" y="1836360"/>
            <a:ext cx="70628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2400" y="80028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11840" y="80028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92400" y="183636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11840" y="183636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2400" y="800280"/>
            <a:ext cx="227412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780640" y="800280"/>
            <a:ext cx="227412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68880" y="800280"/>
            <a:ext cx="227412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92400" y="1836360"/>
            <a:ext cx="227412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780640" y="1836360"/>
            <a:ext cx="227412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168880" y="1836360"/>
            <a:ext cx="227412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92400" y="800280"/>
            <a:ext cx="70628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2400" y="800280"/>
            <a:ext cx="70628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2400" y="800280"/>
            <a:ext cx="3446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11840" y="800280"/>
            <a:ext cx="3446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92400" y="136440"/>
            <a:ext cx="70628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2400" y="80028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1840" y="800280"/>
            <a:ext cx="3446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92400" y="183636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92400" y="800280"/>
            <a:ext cx="70628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2400" y="800280"/>
            <a:ext cx="3446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11840" y="80028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011840" y="183636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2400" y="80028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11840" y="80028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2400" y="1836360"/>
            <a:ext cx="70628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2400" y="800280"/>
            <a:ext cx="70628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2400" y="1836360"/>
            <a:ext cx="70628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2400" y="80028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11840" y="80028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92400" y="183636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011840" y="183636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2400" y="800280"/>
            <a:ext cx="227412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780640" y="800280"/>
            <a:ext cx="227412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68880" y="800280"/>
            <a:ext cx="227412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392400" y="1836360"/>
            <a:ext cx="227412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780640" y="1836360"/>
            <a:ext cx="227412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168880" y="1836360"/>
            <a:ext cx="227412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2400" y="800280"/>
            <a:ext cx="70628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2400" y="800280"/>
            <a:ext cx="3446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11840" y="800280"/>
            <a:ext cx="3446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92400" y="136440"/>
            <a:ext cx="70628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2400" y="80028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11840" y="800280"/>
            <a:ext cx="3446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2400" y="183636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2400" y="800280"/>
            <a:ext cx="3446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11840" y="80028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1840" y="183636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2400" y="80028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1840" y="800280"/>
            <a:ext cx="3446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2400" y="1836360"/>
            <a:ext cx="70628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1079640" y="1079640"/>
            <a:ext cx="5689440" cy="1261800"/>
            <a:chOff x="1079640" y="1079640"/>
            <a:chExt cx="5689440" cy="1261800"/>
          </a:xfrm>
        </p:grpSpPr>
        <p:sp>
          <p:nvSpPr>
            <p:cNvPr id="1" name="直線コネクタ 6"/>
            <p:cNvSpPr/>
            <p:nvPr/>
          </p:nvSpPr>
          <p:spPr>
            <a:xfrm>
              <a:off x="1079640" y="1331640"/>
              <a:ext cx="5689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直線コネクタ 7"/>
            <p:cNvSpPr/>
            <p:nvPr/>
          </p:nvSpPr>
          <p:spPr>
            <a:xfrm>
              <a:off x="1079640" y="1440000"/>
              <a:ext cx="5689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直線コネクタ 8"/>
            <p:cNvSpPr/>
            <p:nvPr/>
          </p:nvSpPr>
          <p:spPr>
            <a:xfrm>
              <a:off x="1079640" y="1710720"/>
              <a:ext cx="5689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直線コネクタ 9"/>
            <p:cNvSpPr/>
            <p:nvPr/>
          </p:nvSpPr>
          <p:spPr>
            <a:xfrm>
              <a:off x="1079640" y="1983960"/>
              <a:ext cx="5689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直線コネクタ 10"/>
            <p:cNvSpPr/>
            <p:nvPr/>
          </p:nvSpPr>
          <p:spPr>
            <a:xfrm>
              <a:off x="1079640" y="2089440"/>
              <a:ext cx="5689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直線コネクタ 11"/>
            <p:cNvSpPr/>
            <p:nvPr/>
          </p:nvSpPr>
          <p:spPr>
            <a:xfrm>
              <a:off x="1331640" y="1079640"/>
              <a:ext cx="0" cy="126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直線コネクタ 12"/>
            <p:cNvSpPr/>
            <p:nvPr/>
          </p:nvSpPr>
          <p:spPr>
            <a:xfrm>
              <a:off x="1439640" y="1079640"/>
              <a:ext cx="0" cy="126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直線コネクタ 13"/>
            <p:cNvSpPr/>
            <p:nvPr/>
          </p:nvSpPr>
          <p:spPr>
            <a:xfrm>
              <a:off x="3924360" y="1079640"/>
              <a:ext cx="0" cy="126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直線コネクタ 14"/>
            <p:cNvSpPr/>
            <p:nvPr/>
          </p:nvSpPr>
          <p:spPr>
            <a:xfrm>
              <a:off x="6407640" y="1079640"/>
              <a:ext cx="0" cy="126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直線コネクタ 15"/>
            <p:cNvSpPr/>
            <p:nvPr/>
          </p:nvSpPr>
          <p:spPr>
            <a:xfrm>
              <a:off x="6517080" y="1079640"/>
              <a:ext cx="0" cy="126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正方形/長方形 16"/>
            <p:cNvSpPr/>
            <p:nvPr/>
          </p:nvSpPr>
          <p:spPr>
            <a:xfrm>
              <a:off x="1331640" y="1331640"/>
              <a:ext cx="5185440" cy="75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9040"/>
                  <a:tab algn="l" pos="1378080"/>
                  <a:tab algn="l" pos="2066760"/>
                  <a:tab algn="l" pos="2755800"/>
                  <a:tab algn="l" pos="3444840"/>
                  <a:tab algn="l" pos="4133880"/>
                  <a:tab algn="l" pos="4822920"/>
                  <a:tab algn="l" pos="5511960"/>
                  <a:tab algn="l" pos="6200640"/>
                  <a:tab algn="l" pos="6889680"/>
                  <a:tab algn="l" pos="7578720"/>
                  <a:tab algn="l" pos="8267760"/>
                  <a:tab algn="l" pos="8956800"/>
                  <a:tab algn="l" pos="9645480"/>
                  <a:tab algn="l" pos="103345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" name="テキスト ボックス 1"/>
          <p:cNvSpPr/>
          <p:nvPr/>
        </p:nvSpPr>
        <p:spPr>
          <a:xfrm>
            <a:off x="6588000" y="1079640"/>
            <a:ext cx="18108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上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テキスト ボックス 20"/>
          <p:cNvSpPr/>
          <p:nvPr/>
        </p:nvSpPr>
        <p:spPr>
          <a:xfrm>
            <a:off x="6588000" y="2160720"/>
            <a:ext cx="181080" cy="17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グループ化 23"/>
          <p:cNvGrpSpPr/>
          <p:nvPr/>
        </p:nvGrpSpPr>
        <p:grpSpPr>
          <a:xfrm>
            <a:off x="1079640" y="1079640"/>
            <a:ext cx="5689440" cy="1261800"/>
            <a:chOff x="1079640" y="1079640"/>
            <a:chExt cx="5689440" cy="1261800"/>
          </a:xfrm>
        </p:grpSpPr>
        <p:sp>
          <p:nvSpPr>
            <p:cNvPr id="51" name="直線コネクタ 6"/>
            <p:cNvSpPr/>
            <p:nvPr/>
          </p:nvSpPr>
          <p:spPr>
            <a:xfrm>
              <a:off x="1079640" y="1331640"/>
              <a:ext cx="5689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線コネクタ 7"/>
            <p:cNvSpPr/>
            <p:nvPr/>
          </p:nvSpPr>
          <p:spPr>
            <a:xfrm>
              <a:off x="1079640" y="1440000"/>
              <a:ext cx="5689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直線コネクタ 8"/>
            <p:cNvSpPr/>
            <p:nvPr/>
          </p:nvSpPr>
          <p:spPr>
            <a:xfrm>
              <a:off x="1079640" y="1710720"/>
              <a:ext cx="5689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直線コネクタ 9"/>
            <p:cNvSpPr/>
            <p:nvPr/>
          </p:nvSpPr>
          <p:spPr>
            <a:xfrm>
              <a:off x="1079640" y="1983960"/>
              <a:ext cx="5689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直線コネクタ 10"/>
            <p:cNvSpPr/>
            <p:nvPr/>
          </p:nvSpPr>
          <p:spPr>
            <a:xfrm>
              <a:off x="1079640" y="2089440"/>
              <a:ext cx="5689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直線コネクタ 11"/>
            <p:cNvSpPr/>
            <p:nvPr/>
          </p:nvSpPr>
          <p:spPr>
            <a:xfrm>
              <a:off x="1331640" y="1079640"/>
              <a:ext cx="0" cy="126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直線コネクタ 12"/>
            <p:cNvSpPr/>
            <p:nvPr/>
          </p:nvSpPr>
          <p:spPr>
            <a:xfrm>
              <a:off x="1439640" y="1079640"/>
              <a:ext cx="0" cy="126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直線コネクタ 13"/>
            <p:cNvSpPr/>
            <p:nvPr/>
          </p:nvSpPr>
          <p:spPr>
            <a:xfrm>
              <a:off x="3924360" y="1079640"/>
              <a:ext cx="0" cy="126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直線コネクタ 14"/>
            <p:cNvSpPr/>
            <p:nvPr/>
          </p:nvSpPr>
          <p:spPr>
            <a:xfrm>
              <a:off x="6407640" y="1079640"/>
              <a:ext cx="0" cy="126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15"/>
            <p:cNvSpPr/>
            <p:nvPr/>
          </p:nvSpPr>
          <p:spPr>
            <a:xfrm>
              <a:off x="6517080" y="1079640"/>
              <a:ext cx="0" cy="126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正方形/長方形 16"/>
            <p:cNvSpPr/>
            <p:nvPr/>
          </p:nvSpPr>
          <p:spPr>
            <a:xfrm>
              <a:off x="1331640" y="1331640"/>
              <a:ext cx="5185440" cy="757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9040"/>
                  <a:tab algn="l" pos="1378080"/>
                  <a:tab algn="l" pos="2066760"/>
                  <a:tab algn="l" pos="2755800"/>
                  <a:tab algn="l" pos="3444840"/>
                  <a:tab algn="l" pos="4133880"/>
                  <a:tab algn="l" pos="4822920"/>
                  <a:tab algn="l" pos="5511960"/>
                  <a:tab algn="l" pos="6200640"/>
                  <a:tab algn="l" pos="6889680"/>
                  <a:tab algn="l" pos="7578720"/>
                  <a:tab algn="l" pos="8267760"/>
                  <a:tab algn="l" pos="8956800"/>
                  <a:tab algn="l" pos="9645480"/>
                  <a:tab algn="l" pos="103345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テキスト ボックス 1"/>
          <p:cNvSpPr/>
          <p:nvPr/>
        </p:nvSpPr>
        <p:spPr>
          <a:xfrm>
            <a:off x="6588000" y="1079640"/>
            <a:ext cx="18108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上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20"/>
          <p:cNvSpPr/>
          <p:nvPr/>
        </p:nvSpPr>
        <p:spPr>
          <a:xfrm>
            <a:off x="6588000" y="2160720"/>
            <a:ext cx="181080" cy="17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グループ化 17"/>
          <p:cNvGrpSpPr/>
          <p:nvPr/>
        </p:nvGrpSpPr>
        <p:grpSpPr>
          <a:xfrm>
            <a:off x="36360" y="36360"/>
            <a:ext cx="6372360" cy="1944720"/>
            <a:chOff x="36360" y="36360"/>
            <a:chExt cx="6372360" cy="1944720"/>
          </a:xfrm>
        </p:grpSpPr>
        <p:sp>
          <p:nvSpPr>
            <p:cNvPr id="65" name="正方形/長方形 18"/>
            <p:cNvSpPr/>
            <p:nvPr/>
          </p:nvSpPr>
          <p:spPr>
            <a:xfrm>
              <a:off x="1440360" y="1440360"/>
              <a:ext cx="4968360" cy="54072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9040"/>
                  <a:tab algn="l" pos="1378080"/>
                  <a:tab algn="l" pos="2066760"/>
                  <a:tab algn="l" pos="2755800"/>
                  <a:tab algn="l" pos="3444840"/>
                  <a:tab algn="l" pos="4133880"/>
                  <a:tab algn="l" pos="4822920"/>
                  <a:tab algn="l" pos="5511960"/>
                  <a:tab algn="l" pos="6200640"/>
                  <a:tab algn="l" pos="6889680"/>
                  <a:tab algn="l" pos="7578720"/>
                  <a:tab algn="l" pos="8267760"/>
                  <a:tab algn="l" pos="8956800"/>
                  <a:tab algn="l" pos="9645480"/>
                  <a:tab algn="l" pos="103345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グループ化 19"/>
            <p:cNvGrpSpPr/>
            <p:nvPr/>
          </p:nvGrpSpPr>
          <p:grpSpPr>
            <a:xfrm>
              <a:off x="36360" y="1206360"/>
              <a:ext cx="1411560" cy="468000"/>
              <a:chOff x="36360" y="1206360"/>
              <a:chExt cx="1411560" cy="468000"/>
            </a:xfrm>
          </p:grpSpPr>
          <p:sp>
            <p:nvSpPr>
              <p:cNvPr id="67" name="Line 75"/>
              <p:cNvSpPr/>
              <p:nvPr/>
            </p:nvSpPr>
            <p:spPr>
              <a:xfrm>
                <a:off x="871920" y="1440360"/>
                <a:ext cx="576000" cy="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Text Box 76"/>
              <p:cNvSpPr/>
              <p:nvPr/>
            </p:nvSpPr>
            <p:spPr>
              <a:xfrm>
                <a:off x="36360" y="1206360"/>
                <a:ext cx="936720" cy="468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仕上がり位置。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900" spc="-1" strike="noStrike">
                    <a:solidFill>
                      <a:srgbClr val="ff0000"/>
                    </a:solidFill>
                    <a:latin typeface="ＭＳ Ｐゴシック"/>
                  </a:rPr>
                  <a:t>青</a:t>
                </a: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い線でカットします。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" name="Group 92"/>
            <p:cNvGrpSpPr/>
            <p:nvPr/>
          </p:nvGrpSpPr>
          <p:grpSpPr>
            <a:xfrm>
              <a:off x="36360" y="36360"/>
              <a:ext cx="5065560" cy="900000"/>
              <a:chOff x="36360" y="36360"/>
              <a:chExt cx="5065560" cy="900000"/>
            </a:xfrm>
          </p:grpSpPr>
          <p:sp>
            <p:nvSpPr>
              <p:cNvPr id="70" name="Rectangle 65"/>
              <p:cNvSpPr/>
              <p:nvPr/>
            </p:nvSpPr>
            <p:spPr>
              <a:xfrm>
                <a:off x="36360" y="3636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卓上カレンダー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プラケースタイプ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138×H15</a:t>
                </a:r>
                <a:r>
                  <a:rPr b="0" lang="ja-JP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Text Box 67"/>
              <p:cNvSpPr/>
              <p:nvPr/>
            </p:nvSpPr>
            <p:spPr>
              <a:xfrm>
                <a:off x="1366560" y="3636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000000"/>
                    </a:solidFill>
                    <a:latin typeface="Arial"/>
                  </a:rPr>
                  <a:t>カラー印刷が可能です。データは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カラー</a:t>
                </a:r>
                <a:r>
                  <a:rPr b="1" lang="ja-JP" sz="700" spc="-1" strike="noStrike">
                    <a:solidFill>
                      <a:srgbClr val="000000"/>
                    </a:solidFill>
                    <a:latin typeface="Arial"/>
                  </a:rPr>
                  <a:t>で作成でき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青い四角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より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内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なさらない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このテンプレートから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の線などを削除してください。</a:t>
                </a:r>
                <a:br>
                  <a:rPr sz="700"/>
                </a:b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また、作成した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が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18×95mm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」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2" name="Picture 95" descr="新Suprintロゴ"/>
              <p:cNvPicPr/>
              <p:nvPr/>
            </p:nvPicPr>
            <p:blipFill>
              <a:blip r:embed="rId2"/>
              <a:stretch/>
            </p:blipFill>
            <p:spPr>
              <a:xfrm>
                <a:off x="69840" y="630000"/>
                <a:ext cx="434880" cy="27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2400" y="136440"/>
            <a:ext cx="70628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392400" y="800280"/>
            <a:ext cx="70628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31120" indent="-23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2560" indent="-192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4360" indent="-154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84320" indent="-154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394280" indent="-154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394280" indent="-154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394280" indent="-154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00:43:19Z</dcterms:created>
  <dc:creator>ugo-99</dc:creator>
  <dc:description/>
  <dc:language>en-US</dc:language>
  <cp:lastModifiedBy>ugo-99</cp:lastModifiedBy>
  <dcterms:modified xsi:type="dcterms:W3CDTF">2017-10-17T06:09:42Z</dcterms:modified>
  <cp:revision>8</cp:revision>
  <dc:subject/>
  <dc:title>PowerPoint プレゼンテーション</dc:title>
</cp:coreProperties>
</file>