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31675" cy="9972675"/>
  <p:notesSz cx="9515475" cy="1311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2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38×184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Text Box 12"/>
          <p:cNvSpPr/>
          <p:nvPr/>
        </p:nvSpPr>
        <p:spPr>
          <a:xfrm>
            <a:off x="1255680" y="114768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グループ化 66"/>
          <p:cNvGrpSpPr/>
          <p:nvPr/>
        </p:nvGrpSpPr>
        <p:grpSpPr>
          <a:xfrm>
            <a:off x="1217520" y="1109520"/>
            <a:ext cx="9698040" cy="7753320"/>
            <a:chOff x="1217520" y="1109520"/>
            <a:chExt cx="9698040" cy="7753320"/>
          </a:xfrm>
        </p:grpSpPr>
        <p:grpSp>
          <p:nvGrpSpPr>
            <p:cNvPr id="6" name="object 28"/>
            <p:cNvGrpSpPr/>
            <p:nvPr/>
          </p:nvGrpSpPr>
          <p:grpSpPr>
            <a:xfrm>
              <a:off x="1240560" y="8403840"/>
              <a:ext cx="435960" cy="435960"/>
              <a:chOff x="1240560" y="8403840"/>
              <a:chExt cx="435960" cy="435960"/>
            </a:xfrm>
          </p:grpSpPr>
          <p:sp>
            <p:nvSpPr>
              <p:cNvPr id="7" name="object 29"/>
              <p:cNvSpPr/>
              <p:nvPr/>
            </p:nvSpPr>
            <p:spPr>
              <a:xfrm>
                <a:off x="124056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object 30"/>
              <p:cNvSpPr/>
              <p:nvPr/>
            </p:nvSpPr>
            <p:spPr>
              <a:xfrm>
                <a:off x="1240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" name="object 31"/>
            <p:cNvGrpSpPr/>
            <p:nvPr/>
          </p:nvGrpSpPr>
          <p:grpSpPr>
            <a:xfrm>
              <a:off x="1240560" y="1132560"/>
              <a:ext cx="435960" cy="435960"/>
              <a:chOff x="1240560" y="1132560"/>
              <a:chExt cx="435960" cy="435960"/>
            </a:xfrm>
          </p:grpSpPr>
          <p:sp>
            <p:nvSpPr>
              <p:cNvPr id="10" name="object 32"/>
              <p:cNvSpPr/>
              <p:nvPr/>
            </p:nvSpPr>
            <p:spPr>
              <a:xfrm>
                <a:off x="124056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object 33"/>
              <p:cNvSpPr/>
              <p:nvPr/>
            </p:nvSpPr>
            <p:spPr>
              <a:xfrm>
                <a:off x="1240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object 34"/>
            <p:cNvGrpSpPr/>
            <p:nvPr/>
          </p:nvGrpSpPr>
          <p:grpSpPr>
            <a:xfrm>
              <a:off x="10456560" y="1132560"/>
              <a:ext cx="435960" cy="435960"/>
              <a:chOff x="10456560" y="1132560"/>
              <a:chExt cx="435960" cy="435960"/>
            </a:xfrm>
          </p:grpSpPr>
          <p:sp>
            <p:nvSpPr>
              <p:cNvPr id="13" name="object 35"/>
              <p:cNvSpPr/>
              <p:nvPr/>
            </p:nvSpPr>
            <p:spPr>
              <a:xfrm>
                <a:off x="1056528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object 36"/>
              <p:cNvSpPr/>
              <p:nvPr/>
            </p:nvSpPr>
            <p:spPr>
              <a:xfrm>
                <a:off x="10456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object 37"/>
            <p:cNvGrpSpPr/>
            <p:nvPr/>
          </p:nvGrpSpPr>
          <p:grpSpPr>
            <a:xfrm>
              <a:off x="10456560" y="8403840"/>
              <a:ext cx="435960" cy="435960"/>
              <a:chOff x="10456560" y="8403840"/>
              <a:chExt cx="435960" cy="435960"/>
            </a:xfrm>
          </p:grpSpPr>
          <p:sp>
            <p:nvSpPr>
              <p:cNvPr id="16" name="object 38"/>
              <p:cNvSpPr/>
              <p:nvPr/>
            </p:nvSpPr>
            <p:spPr>
              <a:xfrm>
                <a:off x="1056528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object 39"/>
              <p:cNvSpPr/>
              <p:nvPr/>
            </p:nvSpPr>
            <p:spPr>
              <a:xfrm>
                <a:off x="10456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object 40"/>
            <p:cNvGrpSpPr/>
            <p:nvPr/>
          </p:nvGrpSpPr>
          <p:grpSpPr>
            <a:xfrm>
              <a:off x="1217520" y="4529160"/>
              <a:ext cx="304560" cy="914040"/>
              <a:chOff x="1217520" y="4529160"/>
              <a:chExt cx="304560" cy="914040"/>
            </a:xfrm>
          </p:grpSpPr>
          <p:sp>
            <p:nvSpPr>
              <p:cNvPr id="19" name="object 41"/>
              <p:cNvSpPr/>
              <p:nvPr/>
            </p:nvSpPr>
            <p:spPr>
              <a:xfrm>
                <a:off x="121752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object 42"/>
              <p:cNvSpPr/>
              <p:nvPr/>
            </p:nvSpPr>
            <p:spPr>
              <a:xfrm>
                <a:off x="144612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object 43"/>
            <p:cNvGrpSpPr/>
            <p:nvPr/>
          </p:nvGrpSpPr>
          <p:grpSpPr>
            <a:xfrm>
              <a:off x="10611000" y="4529160"/>
              <a:ext cx="304560" cy="914040"/>
              <a:chOff x="10611000" y="4529160"/>
              <a:chExt cx="304560" cy="914040"/>
            </a:xfrm>
          </p:grpSpPr>
          <p:sp>
            <p:nvSpPr>
              <p:cNvPr id="22" name="object 44"/>
              <p:cNvSpPr/>
              <p:nvPr/>
            </p:nvSpPr>
            <p:spPr>
              <a:xfrm>
                <a:off x="1061100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object 45"/>
              <p:cNvSpPr/>
              <p:nvPr/>
            </p:nvSpPr>
            <p:spPr>
              <a:xfrm>
                <a:off x="1068696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object 46"/>
            <p:cNvGrpSpPr/>
            <p:nvPr/>
          </p:nvGrpSpPr>
          <p:grpSpPr>
            <a:xfrm>
              <a:off x="5609520" y="1109520"/>
              <a:ext cx="914400" cy="304560"/>
              <a:chOff x="5609520" y="1109520"/>
              <a:chExt cx="914400" cy="304560"/>
            </a:xfrm>
          </p:grpSpPr>
          <p:sp>
            <p:nvSpPr>
              <p:cNvPr id="25" name="object 47"/>
              <p:cNvSpPr/>
              <p:nvPr/>
            </p:nvSpPr>
            <p:spPr>
              <a:xfrm>
                <a:off x="5609520" y="1338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object 48"/>
              <p:cNvSpPr/>
              <p:nvPr/>
            </p:nvSpPr>
            <p:spPr>
              <a:xfrm>
                <a:off x="6066720" y="1109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object 49"/>
            <p:cNvGrpSpPr/>
            <p:nvPr/>
          </p:nvGrpSpPr>
          <p:grpSpPr>
            <a:xfrm>
              <a:off x="5609520" y="8558280"/>
              <a:ext cx="914400" cy="304560"/>
              <a:chOff x="5609520" y="8558280"/>
              <a:chExt cx="914400" cy="304560"/>
            </a:xfrm>
          </p:grpSpPr>
          <p:sp>
            <p:nvSpPr>
              <p:cNvPr id="28" name="object 50"/>
              <p:cNvSpPr/>
              <p:nvPr/>
            </p:nvSpPr>
            <p:spPr>
              <a:xfrm>
                <a:off x="5609520" y="86342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object 51"/>
              <p:cNvSpPr/>
              <p:nvPr/>
            </p:nvSpPr>
            <p:spPr>
              <a:xfrm>
                <a:off x="6066720" y="85582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" name="正方形/長方形 22"/>
          <p:cNvSpPr/>
          <p:nvPr/>
        </p:nvSpPr>
        <p:spPr>
          <a:xfrm>
            <a:off x="1566720" y="1459080"/>
            <a:ext cx="8999640" cy="7054560"/>
          </a:xfrm>
          <a:prstGeom prst="rect">
            <a:avLst/>
          </a:prstGeom>
          <a:solidFill>
            <a:srgbClr val="ffffff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68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2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38×184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12"/>
          <p:cNvSpPr/>
          <p:nvPr/>
        </p:nvSpPr>
        <p:spPr>
          <a:xfrm>
            <a:off x="1255680" y="114768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グループ化 66"/>
          <p:cNvGrpSpPr/>
          <p:nvPr/>
        </p:nvGrpSpPr>
        <p:grpSpPr>
          <a:xfrm>
            <a:off x="1217520" y="1109520"/>
            <a:ext cx="9698040" cy="7753320"/>
            <a:chOff x="1217520" y="1109520"/>
            <a:chExt cx="9698040" cy="7753320"/>
          </a:xfrm>
        </p:grpSpPr>
        <p:grpSp>
          <p:nvGrpSpPr>
            <p:cNvPr id="73" name="object 28"/>
            <p:cNvGrpSpPr/>
            <p:nvPr/>
          </p:nvGrpSpPr>
          <p:grpSpPr>
            <a:xfrm>
              <a:off x="1240560" y="8403840"/>
              <a:ext cx="435960" cy="435960"/>
              <a:chOff x="1240560" y="8403840"/>
              <a:chExt cx="435960" cy="435960"/>
            </a:xfrm>
          </p:grpSpPr>
          <p:sp>
            <p:nvSpPr>
              <p:cNvPr id="74" name="object 29"/>
              <p:cNvSpPr/>
              <p:nvPr/>
            </p:nvSpPr>
            <p:spPr>
              <a:xfrm>
                <a:off x="124056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object 30"/>
              <p:cNvSpPr/>
              <p:nvPr/>
            </p:nvSpPr>
            <p:spPr>
              <a:xfrm>
                <a:off x="1240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object 31"/>
            <p:cNvGrpSpPr/>
            <p:nvPr/>
          </p:nvGrpSpPr>
          <p:grpSpPr>
            <a:xfrm>
              <a:off x="1240560" y="1132560"/>
              <a:ext cx="435960" cy="435960"/>
              <a:chOff x="1240560" y="1132560"/>
              <a:chExt cx="435960" cy="435960"/>
            </a:xfrm>
          </p:grpSpPr>
          <p:sp>
            <p:nvSpPr>
              <p:cNvPr id="77" name="object 32"/>
              <p:cNvSpPr/>
              <p:nvPr/>
            </p:nvSpPr>
            <p:spPr>
              <a:xfrm>
                <a:off x="124056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bject 33"/>
              <p:cNvSpPr/>
              <p:nvPr/>
            </p:nvSpPr>
            <p:spPr>
              <a:xfrm>
                <a:off x="1240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object 34"/>
            <p:cNvGrpSpPr/>
            <p:nvPr/>
          </p:nvGrpSpPr>
          <p:grpSpPr>
            <a:xfrm>
              <a:off x="10456560" y="1132560"/>
              <a:ext cx="435960" cy="435960"/>
              <a:chOff x="10456560" y="1132560"/>
              <a:chExt cx="435960" cy="435960"/>
            </a:xfrm>
          </p:grpSpPr>
          <p:sp>
            <p:nvSpPr>
              <p:cNvPr id="80" name="object 35"/>
              <p:cNvSpPr/>
              <p:nvPr/>
            </p:nvSpPr>
            <p:spPr>
              <a:xfrm>
                <a:off x="10565280" y="11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object 36"/>
              <p:cNvSpPr/>
              <p:nvPr/>
            </p:nvSpPr>
            <p:spPr>
              <a:xfrm>
                <a:off x="10456560" y="113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object 37"/>
            <p:cNvGrpSpPr/>
            <p:nvPr/>
          </p:nvGrpSpPr>
          <p:grpSpPr>
            <a:xfrm>
              <a:off x="10456560" y="8403840"/>
              <a:ext cx="435960" cy="435960"/>
              <a:chOff x="10456560" y="8403840"/>
              <a:chExt cx="435960" cy="435960"/>
            </a:xfrm>
          </p:grpSpPr>
          <p:sp>
            <p:nvSpPr>
              <p:cNvPr id="83" name="object 38"/>
              <p:cNvSpPr/>
              <p:nvPr/>
            </p:nvSpPr>
            <p:spPr>
              <a:xfrm>
                <a:off x="10565280" y="8403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object 39"/>
              <p:cNvSpPr/>
              <p:nvPr/>
            </p:nvSpPr>
            <p:spPr>
              <a:xfrm>
                <a:off x="10456560" y="8512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object 40"/>
            <p:cNvGrpSpPr/>
            <p:nvPr/>
          </p:nvGrpSpPr>
          <p:grpSpPr>
            <a:xfrm>
              <a:off x="1217520" y="4529160"/>
              <a:ext cx="304560" cy="914040"/>
              <a:chOff x="1217520" y="4529160"/>
              <a:chExt cx="304560" cy="914040"/>
            </a:xfrm>
          </p:grpSpPr>
          <p:sp>
            <p:nvSpPr>
              <p:cNvPr id="86" name="object 41"/>
              <p:cNvSpPr/>
              <p:nvPr/>
            </p:nvSpPr>
            <p:spPr>
              <a:xfrm>
                <a:off x="121752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object 42"/>
              <p:cNvSpPr/>
              <p:nvPr/>
            </p:nvSpPr>
            <p:spPr>
              <a:xfrm>
                <a:off x="144612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object 43"/>
            <p:cNvGrpSpPr/>
            <p:nvPr/>
          </p:nvGrpSpPr>
          <p:grpSpPr>
            <a:xfrm>
              <a:off x="10611000" y="4529160"/>
              <a:ext cx="304560" cy="914040"/>
              <a:chOff x="10611000" y="4529160"/>
              <a:chExt cx="304560" cy="914040"/>
            </a:xfrm>
          </p:grpSpPr>
          <p:sp>
            <p:nvSpPr>
              <p:cNvPr id="89" name="object 44"/>
              <p:cNvSpPr/>
              <p:nvPr/>
            </p:nvSpPr>
            <p:spPr>
              <a:xfrm>
                <a:off x="10611000" y="4986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bject 45"/>
              <p:cNvSpPr/>
              <p:nvPr/>
            </p:nvSpPr>
            <p:spPr>
              <a:xfrm>
                <a:off x="10686960" y="452916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object 46"/>
            <p:cNvGrpSpPr/>
            <p:nvPr/>
          </p:nvGrpSpPr>
          <p:grpSpPr>
            <a:xfrm>
              <a:off x="5609520" y="1109520"/>
              <a:ext cx="914400" cy="304560"/>
              <a:chOff x="5609520" y="1109520"/>
              <a:chExt cx="914400" cy="304560"/>
            </a:xfrm>
          </p:grpSpPr>
          <p:sp>
            <p:nvSpPr>
              <p:cNvPr id="92" name="object 47"/>
              <p:cNvSpPr/>
              <p:nvPr/>
            </p:nvSpPr>
            <p:spPr>
              <a:xfrm>
                <a:off x="5609520" y="1338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object 48"/>
              <p:cNvSpPr/>
              <p:nvPr/>
            </p:nvSpPr>
            <p:spPr>
              <a:xfrm>
                <a:off x="6066720" y="1109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" name="object 49"/>
            <p:cNvGrpSpPr/>
            <p:nvPr/>
          </p:nvGrpSpPr>
          <p:grpSpPr>
            <a:xfrm>
              <a:off x="5609520" y="8558280"/>
              <a:ext cx="914400" cy="304560"/>
              <a:chOff x="5609520" y="8558280"/>
              <a:chExt cx="914400" cy="304560"/>
            </a:xfrm>
          </p:grpSpPr>
          <p:sp>
            <p:nvSpPr>
              <p:cNvPr id="95" name="object 50"/>
              <p:cNvSpPr/>
              <p:nvPr/>
            </p:nvSpPr>
            <p:spPr>
              <a:xfrm>
                <a:off x="5609520" y="86342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object 51"/>
              <p:cNvSpPr/>
              <p:nvPr/>
            </p:nvSpPr>
            <p:spPr>
              <a:xfrm>
                <a:off x="6066720" y="85582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7" name="正方形/長方形 22"/>
          <p:cNvSpPr/>
          <p:nvPr/>
        </p:nvSpPr>
        <p:spPr>
          <a:xfrm>
            <a:off x="1566720" y="1459080"/>
            <a:ext cx="8999640" cy="7054560"/>
          </a:xfrm>
          <a:prstGeom prst="rect">
            <a:avLst/>
          </a:prstGeom>
          <a:solidFill>
            <a:srgbClr val="ffffff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グループ化 2"/>
          <p:cNvGrpSpPr/>
          <p:nvPr/>
        </p:nvGrpSpPr>
        <p:grpSpPr>
          <a:xfrm>
            <a:off x="71280" y="1674720"/>
            <a:ext cx="10279080" cy="6623280"/>
            <a:chOff x="71280" y="1674720"/>
            <a:chExt cx="10279080" cy="6623280"/>
          </a:xfrm>
        </p:grpSpPr>
        <p:grpSp>
          <p:nvGrpSpPr>
            <p:cNvPr id="99" name="グループ化 3"/>
            <p:cNvGrpSpPr/>
            <p:nvPr/>
          </p:nvGrpSpPr>
          <p:grpSpPr>
            <a:xfrm>
              <a:off x="71280" y="2926080"/>
              <a:ext cx="1498680" cy="539640"/>
              <a:chOff x="71280" y="2926080"/>
              <a:chExt cx="1498680" cy="539640"/>
            </a:xfrm>
          </p:grpSpPr>
          <p:sp>
            <p:nvSpPr>
              <p:cNvPr id="100" name="Line 67"/>
              <p:cNvSpPr/>
              <p:nvPr/>
            </p:nvSpPr>
            <p:spPr>
              <a:xfrm>
                <a:off x="921600" y="3196440"/>
                <a:ext cx="648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68"/>
              <p:cNvSpPr/>
              <p:nvPr/>
            </p:nvSpPr>
            <p:spPr>
              <a:xfrm>
                <a:off x="71280" y="2926080"/>
                <a:ext cx="93672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し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まで伸ば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Group 113"/>
            <p:cNvGrpSpPr/>
            <p:nvPr/>
          </p:nvGrpSpPr>
          <p:grpSpPr>
            <a:xfrm>
              <a:off x="87120" y="5164560"/>
              <a:ext cx="1116000" cy="2759040"/>
              <a:chOff x="87120" y="5164560"/>
              <a:chExt cx="1116000" cy="2759040"/>
            </a:xfrm>
          </p:grpSpPr>
          <p:sp>
            <p:nvSpPr>
              <p:cNvPr id="103" name="AutoShape 112"/>
              <p:cNvSpPr/>
              <p:nvPr/>
            </p:nvSpPr>
            <p:spPr>
              <a:xfrm>
                <a:off x="87120" y="516456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114"/>
              <p:cNvSpPr/>
              <p:nvPr/>
            </p:nvSpPr>
            <p:spPr>
              <a:xfrm>
                <a:off x="498240" y="621360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25"/>
              <p:cNvSpPr/>
              <p:nvPr/>
            </p:nvSpPr>
            <p:spPr>
              <a:xfrm>
                <a:off x="428400" y="622476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127"/>
              <p:cNvSpPr/>
              <p:nvPr/>
            </p:nvSpPr>
            <p:spPr>
              <a:xfrm flipH="1">
                <a:off x="207720" y="611676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128"/>
              <p:cNvSpPr/>
              <p:nvPr/>
            </p:nvSpPr>
            <p:spPr>
              <a:xfrm>
                <a:off x="191880" y="61074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129"/>
              <p:cNvSpPr/>
              <p:nvPr/>
            </p:nvSpPr>
            <p:spPr>
              <a:xfrm flipH="1" flipV="1">
                <a:off x="205920" y="561996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130"/>
              <p:cNvSpPr/>
              <p:nvPr/>
            </p:nvSpPr>
            <p:spPr>
              <a:xfrm>
                <a:off x="191880" y="56120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131"/>
              <p:cNvSpPr/>
              <p:nvPr/>
            </p:nvSpPr>
            <p:spPr>
              <a:xfrm flipV="1">
                <a:off x="874440" y="528660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132"/>
              <p:cNvSpPr/>
              <p:nvPr/>
            </p:nvSpPr>
            <p:spPr>
              <a:xfrm>
                <a:off x="864720" y="52707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133"/>
              <p:cNvSpPr/>
              <p:nvPr/>
            </p:nvSpPr>
            <p:spPr>
              <a:xfrm flipH="1" flipV="1">
                <a:off x="538920" y="528480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34"/>
              <p:cNvSpPr/>
              <p:nvPr/>
            </p:nvSpPr>
            <p:spPr>
              <a:xfrm>
                <a:off x="531360" y="52707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135"/>
              <p:cNvSpPr/>
              <p:nvPr/>
            </p:nvSpPr>
            <p:spPr>
              <a:xfrm>
                <a:off x="328320" y="652824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52"/>
              <p:cNvSpPr/>
              <p:nvPr/>
            </p:nvSpPr>
            <p:spPr>
              <a:xfrm flipV="1">
                <a:off x="190080" y="622476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154"/>
              <p:cNvSpPr/>
              <p:nvPr/>
            </p:nvSpPr>
            <p:spPr>
              <a:xfrm>
                <a:off x="476280" y="642312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167"/>
              <p:cNvSpPr/>
              <p:nvPr/>
            </p:nvSpPr>
            <p:spPr>
              <a:xfrm flipV="1">
                <a:off x="321840" y="622440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69"/>
              <p:cNvSpPr/>
              <p:nvPr/>
            </p:nvSpPr>
            <p:spPr>
              <a:xfrm>
                <a:off x="480600" y="670752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170"/>
              <p:cNvSpPr/>
              <p:nvPr/>
            </p:nvSpPr>
            <p:spPr>
              <a:xfrm>
                <a:off x="190080" y="595332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0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607716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172"/>
              <p:cNvSpPr/>
              <p:nvPr/>
            </p:nvSpPr>
            <p:spPr>
              <a:xfrm>
                <a:off x="190080" y="526752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73"/>
              <p:cNvSpPr/>
              <p:nvPr/>
            </p:nvSpPr>
            <p:spPr>
              <a:xfrm>
                <a:off x="190080" y="526752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74"/>
              <p:cNvSpPr/>
              <p:nvPr/>
            </p:nvSpPr>
            <p:spPr>
              <a:xfrm>
                <a:off x="547200" y="568656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75"/>
              <p:cNvSpPr/>
              <p:nvPr/>
            </p:nvSpPr>
            <p:spPr>
              <a:xfrm>
                <a:off x="745920" y="570564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76"/>
              <p:cNvSpPr/>
              <p:nvPr/>
            </p:nvSpPr>
            <p:spPr>
              <a:xfrm>
                <a:off x="977400" y="573264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77"/>
              <p:cNvSpPr/>
              <p:nvPr/>
            </p:nvSpPr>
            <p:spPr>
              <a:xfrm>
                <a:off x="88560" y="516600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78"/>
              <p:cNvSpPr/>
              <p:nvPr/>
            </p:nvSpPr>
            <p:spPr>
              <a:xfrm>
                <a:off x="88560" y="516600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179"/>
              <p:cNvSpPr/>
              <p:nvPr/>
            </p:nvSpPr>
            <p:spPr>
              <a:xfrm>
                <a:off x="228240" y="530568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80"/>
              <p:cNvSpPr/>
              <p:nvPr/>
            </p:nvSpPr>
            <p:spPr>
              <a:xfrm>
                <a:off x="228240" y="535824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181"/>
              <p:cNvSpPr/>
              <p:nvPr/>
            </p:nvSpPr>
            <p:spPr>
              <a:xfrm>
                <a:off x="228240" y="535824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82"/>
              <p:cNvSpPr/>
              <p:nvPr/>
            </p:nvSpPr>
            <p:spPr>
              <a:xfrm>
                <a:off x="280440" y="530568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83"/>
              <p:cNvSpPr/>
              <p:nvPr/>
            </p:nvSpPr>
            <p:spPr>
              <a:xfrm>
                <a:off x="280440" y="530568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4"/>
              <p:cNvSpPr/>
              <p:nvPr/>
            </p:nvSpPr>
            <p:spPr>
              <a:xfrm>
                <a:off x="190080" y="526752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85"/>
              <p:cNvSpPr/>
              <p:nvPr/>
            </p:nvSpPr>
            <p:spPr>
              <a:xfrm>
                <a:off x="428400" y="552312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86"/>
              <p:cNvSpPr/>
              <p:nvPr/>
            </p:nvSpPr>
            <p:spPr>
              <a:xfrm>
                <a:off x="321840" y="541188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87"/>
              <p:cNvSpPr/>
              <p:nvPr/>
            </p:nvSpPr>
            <p:spPr>
              <a:xfrm>
                <a:off x="190080" y="698220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188"/>
              <p:cNvSpPr/>
              <p:nvPr/>
            </p:nvSpPr>
            <p:spPr>
              <a:xfrm>
                <a:off x="190080" y="76662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89"/>
              <p:cNvSpPr/>
              <p:nvPr/>
            </p:nvSpPr>
            <p:spPr>
              <a:xfrm>
                <a:off x="190080" y="698220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90"/>
              <p:cNvSpPr/>
              <p:nvPr/>
            </p:nvSpPr>
            <p:spPr>
              <a:xfrm>
                <a:off x="694800" y="74250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91"/>
              <p:cNvSpPr/>
              <p:nvPr/>
            </p:nvSpPr>
            <p:spPr>
              <a:xfrm>
                <a:off x="866520" y="743940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92"/>
              <p:cNvSpPr/>
              <p:nvPr/>
            </p:nvSpPr>
            <p:spPr>
              <a:xfrm>
                <a:off x="1068120" y="746316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93"/>
              <p:cNvSpPr/>
              <p:nvPr/>
            </p:nvSpPr>
            <p:spPr>
              <a:xfrm>
                <a:off x="88560" y="687888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94"/>
              <p:cNvSpPr/>
              <p:nvPr/>
            </p:nvSpPr>
            <p:spPr>
              <a:xfrm>
                <a:off x="88560" y="68788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195"/>
              <p:cNvSpPr/>
              <p:nvPr/>
            </p:nvSpPr>
            <p:spPr>
              <a:xfrm>
                <a:off x="228240" y="701856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96"/>
              <p:cNvSpPr/>
              <p:nvPr/>
            </p:nvSpPr>
            <p:spPr>
              <a:xfrm>
                <a:off x="228240" y="70711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7"/>
              <p:cNvSpPr/>
              <p:nvPr/>
            </p:nvSpPr>
            <p:spPr>
              <a:xfrm>
                <a:off x="228240" y="70711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98"/>
              <p:cNvSpPr/>
              <p:nvPr/>
            </p:nvSpPr>
            <p:spPr>
              <a:xfrm>
                <a:off x="280440" y="701856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199"/>
              <p:cNvSpPr/>
              <p:nvPr/>
            </p:nvSpPr>
            <p:spPr>
              <a:xfrm>
                <a:off x="280440" y="701856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9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400" y="77900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Freeform 201"/>
              <p:cNvSpPr/>
              <p:nvPr/>
            </p:nvSpPr>
            <p:spPr>
              <a:xfrm>
                <a:off x="428400" y="722988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202"/>
              <p:cNvSpPr/>
              <p:nvPr/>
            </p:nvSpPr>
            <p:spPr>
              <a:xfrm>
                <a:off x="321840" y="711864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" name="グループ化 5"/>
            <p:cNvGrpSpPr/>
            <p:nvPr/>
          </p:nvGrpSpPr>
          <p:grpSpPr>
            <a:xfrm>
              <a:off x="71280" y="4194360"/>
              <a:ext cx="1819080" cy="684000"/>
              <a:chOff x="71280" y="4194360"/>
              <a:chExt cx="1819080" cy="684000"/>
            </a:xfrm>
          </p:grpSpPr>
          <p:sp>
            <p:nvSpPr>
              <p:cNvPr id="153" name="Line 64"/>
              <p:cNvSpPr/>
              <p:nvPr/>
            </p:nvSpPr>
            <p:spPr>
              <a:xfrm>
                <a:off x="881280" y="4536720"/>
                <a:ext cx="1009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Text Box 65"/>
              <p:cNvSpPr/>
              <p:nvPr/>
            </p:nvSpPr>
            <p:spPr>
              <a:xfrm>
                <a:off x="71280" y="4194360"/>
                <a:ext cx="93672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内側に配置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" name="グループ化 6"/>
            <p:cNvGrpSpPr/>
            <p:nvPr/>
          </p:nvGrpSpPr>
          <p:grpSpPr>
            <a:xfrm>
              <a:off x="71280" y="3541680"/>
              <a:ext cx="1838520" cy="544320"/>
              <a:chOff x="71280" y="3541680"/>
              <a:chExt cx="1838520" cy="544320"/>
            </a:xfrm>
          </p:grpSpPr>
          <p:sp>
            <p:nvSpPr>
              <p:cNvPr id="156" name="Line 70"/>
              <p:cNvSpPr/>
              <p:nvPr/>
            </p:nvSpPr>
            <p:spPr>
              <a:xfrm>
                <a:off x="942840" y="3814200"/>
                <a:ext cx="9669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71"/>
              <p:cNvSpPr/>
              <p:nvPr/>
            </p:nvSpPr>
            <p:spPr>
              <a:xfrm>
                <a:off x="71280" y="354168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で断裁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object 27"/>
            <p:cNvSpPr/>
            <p:nvPr/>
          </p:nvSpPr>
          <p:spPr>
            <a:xfrm>
              <a:off x="1890360" y="1788480"/>
              <a:ext cx="8352000" cy="6395400"/>
            </a:xfrm>
            <a:custGeom>
              <a:avLst/>
              <a:gdLst/>
              <a:ahLst/>
              <a:rect l="l" t="t" r="r" b="b"/>
              <a:pathLst>
                <a:path w="8352155" h="6396355">
                  <a:moveTo>
                    <a:pt x="6551222" y="6396329"/>
                  </a:moveTo>
                  <a:lnTo>
                    <a:pt x="6512479" y="6364078"/>
                  </a:lnTo>
                  <a:lnTo>
                    <a:pt x="6473314" y="6332351"/>
                  </a:lnTo>
                  <a:lnTo>
                    <a:pt x="6433733" y="6301153"/>
                  </a:lnTo>
                  <a:lnTo>
                    <a:pt x="6393745" y="6270486"/>
                  </a:lnTo>
                  <a:lnTo>
                    <a:pt x="6353356" y="6240355"/>
                  </a:lnTo>
                  <a:lnTo>
                    <a:pt x="6312574" y="6210763"/>
                  </a:lnTo>
                  <a:lnTo>
                    <a:pt x="6271407" y="6181715"/>
                  </a:lnTo>
                  <a:lnTo>
                    <a:pt x="6229862" y="6153214"/>
                  </a:lnTo>
                  <a:lnTo>
                    <a:pt x="6187946" y="6125263"/>
                  </a:lnTo>
                  <a:lnTo>
                    <a:pt x="6145667" y="6097867"/>
                  </a:lnTo>
                  <a:lnTo>
                    <a:pt x="6103032" y="6071029"/>
                  </a:lnTo>
                  <a:lnTo>
                    <a:pt x="6060049" y="6044753"/>
                  </a:lnTo>
                  <a:lnTo>
                    <a:pt x="6016725" y="6019043"/>
                  </a:lnTo>
                  <a:lnTo>
                    <a:pt x="5973068" y="5993903"/>
                  </a:lnTo>
                  <a:lnTo>
                    <a:pt x="5929085" y="5969336"/>
                  </a:lnTo>
                  <a:lnTo>
                    <a:pt x="5884784" y="5945346"/>
                  </a:lnTo>
                  <a:lnTo>
                    <a:pt x="5840172" y="5921937"/>
                  </a:lnTo>
                  <a:lnTo>
                    <a:pt x="5795256" y="5899113"/>
                  </a:lnTo>
                  <a:lnTo>
                    <a:pt x="5750044" y="5876877"/>
                  </a:lnTo>
                  <a:lnTo>
                    <a:pt x="5704543" y="5855234"/>
                  </a:lnTo>
                  <a:lnTo>
                    <a:pt x="5658762" y="5834186"/>
                  </a:lnTo>
                  <a:lnTo>
                    <a:pt x="5612706" y="5813739"/>
                  </a:lnTo>
                  <a:lnTo>
                    <a:pt x="5566384" y="5793894"/>
                  </a:lnTo>
                  <a:lnTo>
                    <a:pt x="5519804" y="5774658"/>
                  </a:lnTo>
                  <a:lnTo>
                    <a:pt x="5472972" y="5756032"/>
                  </a:lnTo>
                  <a:lnTo>
                    <a:pt x="5425896" y="5738021"/>
                  </a:lnTo>
                  <a:lnTo>
                    <a:pt x="5378584" y="5720629"/>
                  </a:lnTo>
                  <a:lnTo>
                    <a:pt x="5331043" y="5703859"/>
                  </a:lnTo>
                  <a:lnTo>
                    <a:pt x="5283280" y="5687715"/>
                  </a:lnTo>
                  <a:lnTo>
                    <a:pt x="5235303" y="5672201"/>
                  </a:lnTo>
                  <a:lnTo>
                    <a:pt x="5187120" y="5657321"/>
                  </a:lnTo>
                  <a:lnTo>
                    <a:pt x="5138737" y="5643079"/>
                  </a:lnTo>
                  <a:lnTo>
                    <a:pt x="5090163" y="5629477"/>
                  </a:lnTo>
                  <a:lnTo>
                    <a:pt x="5041404" y="5616521"/>
                  </a:lnTo>
                  <a:lnTo>
                    <a:pt x="4992468" y="5604214"/>
                  </a:lnTo>
                  <a:lnTo>
                    <a:pt x="4943364" y="5592559"/>
                  </a:lnTo>
                  <a:lnTo>
                    <a:pt x="4893819" y="5581538"/>
                  </a:lnTo>
                  <a:lnTo>
                    <a:pt x="4844058" y="5571247"/>
                  </a:lnTo>
                  <a:lnTo>
                    <a:pt x="4794106" y="5561690"/>
                  </a:lnTo>
                  <a:lnTo>
                    <a:pt x="4743985" y="5552869"/>
                  </a:lnTo>
                  <a:lnTo>
                    <a:pt x="4693719" y="5544790"/>
                  </a:lnTo>
                  <a:lnTo>
                    <a:pt x="4643331" y="5537454"/>
                  </a:lnTo>
                  <a:lnTo>
                    <a:pt x="4592844" y="5530865"/>
                  </a:lnTo>
                  <a:lnTo>
                    <a:pt x="4542283" y="5525028"/>
                  </a:lnTo>
                  <a:lnTo>
                    <a:pt x="4491669" y="5519944"/>
                  </a:lnTo>
                  <a:lnTo>
                    <a:pt x="4441027" y="5515618"/>
                  </a:lnTo>
                  <a:lnTo>
                    <a:pt x="4390380" y="5512054"/>
                  </a:lnTo>
                  <a:lnTo>
                    <a:pt x="4316831" y="5508726"/>
                  </a:lnTo>
                  <a:lnTo>
                    <a:pt x="4243644" y="5507609"/>
                  </a:lnTo>
                  <a:lnTo>
                    <a:pt x="4223716" y="5507653"/>
                  </a:lnTo>
                  <a:lnTo>
                    <a:pt x="4211569" y="5507675"/>
                  </a:lnTo>
                  <a:lnTo>
                    <a:pt x="4202248" y="5507684"/>
                  </a:lnTo>
                  <a:lnTo>
                    <a:pt x="4190800" y="5507685"/>
                  </a:lnTo>
                  <a:lnTo>
                    <a:pt x="4168777" y="5507680"/>
                  </a:lnTo>
                  <a:lnTo>
                    <a:pt x="4147728" y="5507666"/>
                  </a:lnTo>
                  <a:lnTo>
                    <a:pt x="4130574" y="5507642"/>
                  </a:lnTo>
                  <a:lnTo>
                    <a:pt x="4120238" y="5507609"/>
                  </a:lnTo>
                  <a:lnTo>
                    <a:pt x="4107792" y="5507583"/>
                  </a:lnTo>
                  <a:lnTo>
                    <a:pt x="4034725" y="5508699"/>
                  </a:lnTo>
                  <a:lnTo>
                    <a:pt x="3961781" y="5512015"/>
                  </a:lnTo>
                  <a:lnTo>
                    <a:pt x="3911068" y="5515583"/>
                  </a:lnTo>
                  <a:lnTo>
                    <a:pt x="3860372" y="5519912"/>
                  </a:lnTo>
                  <a:lnTo>
                    <a:pt x="3809717" y="5524997"/>
                  </a:lnTo>
                  <a:lnTo>
                    <a:pt x="3759125" y="5530836"/>
                  </a:lnTo>
                  <a:lnTo>
                    <a:pt x="3708617" y="5537425"/>
                  </a:lnTo>
                  <a:lnTo>
                    <a:pt x="3658216" y="5544761"/>
                  </a:lnTo>
                  <a:lnTo>
                    <a:pt x="3607944" y="5552840"/>
                  </a:lnTo>
                  <a:lnTo>
                    <a:pt x="3557823" y="5561659"/>
                  </a:lnTo>
                  <a:lnTo>
                    <a:pt x="3507877" y="5571214"/>
                  </a:lnTo>
                  <a:lnTo>
                    <a:pt x="3458126" y="5581503"/>
                  </a:lnTo>
                  <a:lnTo>
                    <a:pt x="3408594" y="5592521"/>
                  </a:lnTo>
                  <a:lnTo>
                    <a:pt x="3359491" y="5604174"/>
                  </a:lnTo>
                  <a:lnTo>
                    <a:pt x="3310558" y="5616481"/>
                  </a:lnTo>
                  <a:lnTo>
                    <a:pt x="3261802" y="5629436"/>
                  </a:lnTo>
                  <a:lnTo>
                    <a:pt x="3213230" y="5643036"/>
                  </a:lnTo>
                  <a:lnTo>
                    <a:pt x="3164849" y="5657277"/>
                  </a:lnTo>
                  <a:lnTo>
                    <a:pt x="3116668" y="5672155"/>
                  </a:lnTo>
                  <a:lnTo>
                    <a:pt x="3068694" y="5687667"/>
                  </a:lnTo>
                  <a:lnTo>
                    <a:pt x="3020934" y="5703810"/>
                  </a:lnTo>
                  <a:lnTo>
                    <a:pt x="2973395" y="5720578"/>
                  </a:lnTo>
                  <a:lnTo>
                    <a:pt x="2926085" y="5737969"/>
                  </a:lnTo>
                  <a:lnTo>
                    <a:pt x="2879011" y="5755978"/>
                  </a:lnTo>
                  <a:lnTo>
                    <a:pt x="2832181" y="5774602"/>
                  </a:lnTo>
                  <a:lnTo>
                    <a:pt x="2785603" y="5793838"/>
                  </a:lnTo>
                  <a:lnTo>
                    <a:pt x="2739283" y="5813681"/>
                  </a:lnTo>
                  <a:lnTo>
                    <a:pt x="2693229" y="5834127"/>
                  </a:lnTo>
                  <a:lnTo>
                    <a:pt x="2647449" y="5855174"/>
                  </a:lnTo>
                  <a:lnTo>
                    <a:pt x="2601949" y="5876816"/>
                  </a:lnTo>
                  <a:lnTo>
                    <a:pt x="2556738" y="5899051"/>
                  </a:lnTo>
                  <a:lnTo>
                    <a:pt x="2511823" y="5921875"/>
                  </a:lnTo>
                  <a:lnTo>
                    <a:pt x="2467211" y="5945283"/>
                  </a:lnTo>
                  <a:lnTo>
                    <a:pt x="2422910" y="5969272"/>
                  </a:lnTo>
                  <a:lnTo>
                    <a:pt x="2378927" y="5993839"/>
                  </a:lnTo>
                  <a:lnTo>
                    <a:pt x="2335269" y="6018979"/>
                  </a:lnTo>
                  <a:lnTo>
                    <a:pt x="2291944" y="6044690"/>
                  </a:lnTo>
                  <a:lnTo>
                    <a:pt x="2248960" y="6070966"/>
                  </a:lnTo>
                  <a:lnTo>
                    <a:pt x="2206323" y="6097804"/>
                  </a:lnTo>
                  <a:lnTo>
                    <a:pt x="2164042" y="6125202"/>
                  </a:lnTo>
                  <a:lnTo>
                    <a:pt x="2122123" y="6153153"/>
                  </a:lnTo>
                  <a:lnTo>
                    <a:pt x="2080575" y="6181656"/>
                  </a:lnTo>
                  <a:lnTo>
                    <a:pt x="2039404" y="6210707"/>
                  </a:lnTo>
                  <a:lnTo>
                    <a:pt x="1998618" y="6240301"/>
                  </a:lnTo>
                  <a:lnTo>
                    <a:pt x="1958225" y="6270434"/>
                  </a:lnTo>
                  <a:lnTo>
                    <a:pt x="1918231" y="6301104"/>
                  </a:lnTo>
                  <a:lnTo>
                    <a:pt x="1878644" y="6332306"/>
                  </a:lnTo>
                  <a:lnTo>
                    <a:pt x="1839473" y="6364036"/>
                  </a:lnTo>
                  <a:lnTo>
                    <a:pt x="1800723" y="6396291"/>
                  </a:lnTo>
                  <a:lnTo>
                    <a:pt x="1783565" y="6383807"/>
                  </a:lnTo>
                  <a:lnTo>
                    <a:pt x="1748399" y="6357166"/>
                  </a:lnTo>
                  <a:lnTo>
                    <a:pt x="1692086" y="6312566"/>
                  </a:lnTo>
                  <a:lnTo>
                    <a:pt x="1647956" y="6276384"/>
                  </a:lnTo>
                  <a:lnTo>
                    <a:pt x="1604325" y="6239545"/>
                  </a:lnTo>
                  <a:lnTo>
                    <a:pt x="1561354" y="6202184"/>
                  </a:lnTo>
                  <a:lnTo>
                    <a:pt x="1524497" y="6169325"/>
                  </a:lnTo>
                  <a:lnTo>
                    <a:pt x="1487932" y="6136078"/>
                  </a:lnTo>
                  <a:lnTo>
                    <a:pt x="1451666" y="6102452"/>
                  </a:lnTo>
                  <a:lnTo>
                    <a:pt x="1415707" y="6068455"/>
                  </a:lnTo>
                  <a:lnTo>
                    <a:pt x="1380062" y="6034095"/>
                  </a:lnTo>
                  <a:lnTo>
                    <a:pt x="1344738" y="5999378"/>
                  </a:lnTo>
                  <a:lnTo>
                    <a:pt x="1309745" y="5964314"/>
                  </a:lnTo>
                  <a:lnTo>
                    <a:pt x="1275088" y="5928909"/>
                  </a:lnTo>
                  <a:lnTo>
                    <a:pt x="1240775" y="5893172"/>
                  </a:lnTo>
                  <a:lnTo>
                    <a:pt x="1206815" y="5857110"/>
                  </a:lnTo>
                  <a:lnTo>
                    <a:pt x="1173215" y="5820731"/>
                  </a:lnTo>
                  <a:lnTo>
                    <a:pt x="1139981" y="5784043"/>
                  </a:lnTo>
                  <a:lnTo>
                    <a:pt x="1107123" y="5747053"/>
                  </a:lnTo>
                  <a:lnTo>
                    <a:pt x="1074647" y="5709770"/>
                  </a:lnTo>
                  <a:lnTo>
                    <a:pt x="1042561" y="5672201"/>
                  </a:lnTo>
                  <a:lnTo>
                    <a:pt x="1010872" y="5634355"/>
                  </a:lnTo>
                  <a:lnTo>
                    <a:pt x="977999" y="5594545"/>
                  </a:lnTo>
                  <a:lnTo>
                    <a:pt x="945574" y="5554376"/>
                  </a:lnTo>
                  <a:lnTo>
                    <a:pt x="913600" y="5513852"/>
                  </a:lnTo>
                  <a:lnTo>
                    <a:pt x="882082" y="5472979"/>
                  </a:lnTo>
                  <a:lnTo>
                    <a:pt x="851022" y="5431762"/>
                  </a:lnTo>
                  <a:lnTo>
                    <a:pt x="820423" y="5390207"/>
                  </a:lnTo>
                  <a:lnTo>
                    <a:pt x="790290" y="5348318"/>
                  </a:lnTo>
                  <a:lnTo>
                    <a:pt x="760626" y="5306100"/>
                  </a:lnTo>
                  <a:lnTo>
                    <a:pt x="731434" y="5263560"/>
                  </a:lnTo>
                  <a:lnTo>
                    <a:pt x="702717" y="5220702"/>
                  </a:lnTo>
                  <a:lnTo>
                    <a:pt x="674479" y="5177532"/>
                  </a:lnTo>
                  <a:lnTo>
                    <a:pt x="646724" y="5134054"/>
                  </a:lnTo>
                  <a:lnTo>
                    <a:pt x="619454" y="5090275"/>
                  </a:lnTo>
                  <a:lnTo>
                    <a:pt x="592673" y="5046200"/>
                  </a:lnTo>
                  <a:lnTo>
                    <a:pt x="566385" y="5001833"/>
                  </a:lnTo>
                  <a:lnTo>
                    <a:pt x="540593" y="4957180"/>
                  </a:lnTo>
                  <a:lnTo>
                    <a:pt x="515300" y="4912246"/>
                  </a:lnTo>
                  <a:lnTo>
                    <a:pt x="490510" y="4867037"/>
                  </a:lnTo>
                  <a:lnTo>
                    <a:pt x="466227" y="4821558"/>
                  </a:lnTo>
                  <a:lnTo>
                    <a:pt x="442453" y="4775813"/>
                  </a:lnTo>
                  <a:lnTo>
                    <a:pt x="419192" y="4729810"/>
                  </a:lnTo>
                  <a:lnTo>
                    <a:pt x="396809" y="4684265"/>
                  </a:lnTo>
                  <a:lnTo>
                    <a:pt x="375060" y="4638475"/>
                  </a:lnTo>
                  <a:lnTo>
                    <a:pt x="353947" y="4592443"/>
                  </a:lnTo>
                  <a:lnTo>
                    <a:pt x="333471" y="4546173"/>
                  </a:lnTo>
                  <a:lnTo>
                    <a:pt x="313633" y="4499670"/>
                  </a:lnTo>
                  <a:lnTo>
                    <a:pt x="294435" y="4452938"/>
                  </a:lnTo>
                  <a:lnTo>
                    <a:pt x="275878" y="4405982"/>
                  </a:lnTo>
                  <a:lnTo>
                    <a:pt x="257964" y="4358805"/>
                  </a:lnTo>
                  <a:lnTo>
                    <a:pt x="240693" y="4311412"/>
                  </a:lnTo>
                  <a:lnTo>
                    <a:pt x="224066" y="4263808"/>
                  </a:lnTo>
                  <a:lnTo>
                    <a:pt x="208086" y="4215996"/>
                  </a:lnTo>
                  <a:lnTo>
                    <a:pt x="192754" y="4167981"/>
                  </a:lnTo>
                  <a:lnTo>
                    <a:pt x="178070" y="4119767"/>
                  </a:lnTo>
                  <a:lnTo>
                    <a:pt x="164037" y="4071359"/>
                  </a:lnTo>
                  <a:lnTo>
                    <a:pt x="150654" y="4022760"/>
                  </a:lnTo>
                  <a:lnTo>
                    <a:pt x="137925" y="3973975"/>
                  </a:lnTo>
                  <a:lnTo>
                    <a:pt x="125850" y="3925009"/>
                  </a:lnTo>
                  <a:lnTo>
                    <a:pt x="114430" y="3875866"/>
                  </a:lnTo>
                  <a:lnTo>
                    <a:pt x="103666" y="3826550"/>
                  </a:lnTo>
                  <a:lnTo>
                    <a:pt x="93561" y="3777065"/>
                  </a:lnTo>
                  <a:lnTo>
                    <a:pt x="84115" y="3727415"/>
                  </a:lnTo>
                  <a:lnTo>
                    <a:pt x="75329" y="3677606"/>
                  </a:lnTo>
                  <a:lnTo>
                    <a:pt x="67206" y="3627640"/>
                  </a:lnTo>
                  <a:lnTo>
                    <a:pt x="59745" y="3577523"/>
                  </a:lnTo>
                  <a:lnTo>
                    <a:pt x="52949" y="3527259"/>
                  </a:lnTo>
                  <a:lnTo>
                    <a:pt x="52454" y="3523373"/>
                  </a:lnTo>
                  <a:lnTo>
                    <a:pt x="46256" y="3492881"/>
                  </a:lnTo>
                  <a:lnTo>
                    <a:pt x="36646" y="3437516"/>
                  </a:lnTo>
                  <a:lnTo>
                    <a:pt x="26160" y="3364213"/>
                  </a:lnTo>
                  <a:lnTo>
                    <a:pt x="19517" y="3308999"/>
                  </a:lnTo>
                  <a:lnTo>
                    <a:pt x="13883" y="3253621"/>
                  </a:lnTo>
                  <a:lnTo>
                    <a:pt x="9270" y="3198208"/>
                  </a:lnTo>
                  <a:lnTo>
                    <a:pt x="5692" y="3142894"/>
                  </a:lnTo>
                  <a:lnTo>
                    <a:pt x="3094" y="3092761"/>
                  </a:lnTo>
                  <a:lnTo>
                    <a:pt x="1279" y="3042630"/>
                  </a:lnTo>
                  <a:lnTo>
                    <a:pt x="248" y="2992509"/>
                  </a:lnTo>
                  <a:lnTo>
                    <a:pt x="0" y="2942407"/>
                  </a:lnTo>
                  <a:lnTo>
                    <a:pt x="533" y="2892331"/>
                  </a:lnTo>
                  <a:lnTo>
                    <a:pt x="1847" y="2842289"/>
                  </a:lnTo>
                  <a:lnTo>
                    <a:pt x="3941" y="2792290"/>
                  </a:lnTo>
                  <a:lnTo>
                    <a:pt x="6815" y="2742342"/>
                  </a:lnTo>
                  <a:lnTo>
                    <a:pt x="10468" y="2692452"/>
                  </a:lnTo>
                  <a:lnTo>
                    <a:pt x="14898" y="2642629"/>
                  </a:lnTo>
                  <a:lnTo>
                    <a:pt x="20106" y="2592881"/>
                  </a:lnTo>
                  <a:lnTo>
                    <a:pt x="26091" y="2543217"/>
                  </a:lnTo>
                  <a:lnTo>
                    <a:pt x="32851" y="2493644"/>
                  </a:lnTo>
                  <a:lnTo>
                    <a:pt x="40386" y="2444170"/>
                  </a:lnTo>
                  <a:lnTo>
                    <a:pt x="48695" y="2394803"/>
                  </a:lnTo>
                  <a:lnTo>
                    <a:pt x="57778" y="2345552"/>
                  </a:lnTo>
                  <a:lnTo>
                    <a:pt x="67633" y="2296425"/>
                  </a:lnTo>
                  <a:lnTo>
                    <a:pt x="78260" y="2247430"/>
                  </a:lnTo>
                  <a:lnTo>
                    <a:pt x="89688" y="2198152"/>
                  </a:lnTo>
                  <a:lnTo>
                    <a:pt x="102137" y="2149125"/>
                  </a:lnTo>
                  <a:lnTo>
                    <a:pt x="115596" y="2100370"/>
                  </a:lnTo>
                  <a:lnTo>
                    <a:pt x="130057" y="2051903"/>
                  </a:lnTo>
                  <a:lnTo>
                    <a:pt x="145510" y="2003746"/>
                  </a:lnTo>
                  <a:lnTo>
                    <a:pt x="161946" y="1955915"/>
                  </a:lnTo>
                  <a:lnTo>
                    <a:pt x="179357" y="1908430"/>
                  </a:lnTo>
                  <a:lnTo>
                    <a:pt x="197732" y="1861311"/>
                  </a:lnTo>
                  <a:lnTo>
                    <a:pt x="217062" y="1814576"/>
                  </a:lnTo>
                  <a:lnTo>
                    <a:pt x="237338" y="1768243"/>
                  </a:lnTo>
                  <a:lnTo>
                    <a:pt x="258551" y="1722332"/>
                  </a:lnTo>
                  <a:lnTo>
                    <a:pt x="280692" y="1676862"/>
                  </a:lnTo>
                  <a:lnTo>
                    <a:pt x="303751" y="1631851"/>
                  </a:lnTo>
                  <a:lnTo>
                    <a:pt x="327719" y="1587318"/>
                  </a:lnTo>
                  <a:lnTo>
                    <a:pt x="352587" y="1543283"/>
                  </a:lnTo>
                  <a:lnTo>
                    <a:pt x="378345" y="1499764"/>
                  </a:lnTo>
                  <a:lnTo>
                    <a:pt x="404984" y="1456781"/>
                  </a:lnTo>
                  <a:lnTo>
                    <a:pt x="432495" y="1414351"/>
                  </a:lnTo>
                  <a:lnTo>
                    <a:pt x="460869" y="1372494"/>
                  </a:lnTo>
                  <a:lnTo>
                    <a:pt x="490096" y="1331229"/>
                  </a:lnTo>
                  <a:lnTo>
                    <a:pt x="520168" y="1290574"/>
                  </a:lnTo>
                  <a:lnTo>
                    <a:pt x="551074" y="1250550"/>
                  </a:lnTo>
                  <a:lnTo>
                    <a:pt x="582806" y="1211173"/>
                  </a:lnTo>
                  <a:lnTo>
                    <a:pt x="614851" y="1173728"/>
                  </a:lnTo>
                  <a:lnTo>
                    <a:pt x="647641" y="1136941"/>
                  </a:lnTo>
                  <a:lnTo>
                    <a:pt x="681163" y="1100824"/>
                  </a:lnTo>
                  <a:lnTo>
                    <a:pt x="715407" y="1065387"/>
                  </a:lnTo>
                  <a:lnTo>
                    <a:pt x="750359" y="1030641"/>
                  </a:lnTo>
                  <a:lnTo>
                    <a:pt x="786009" y="996598"/>
                  </a:lnTo>
                  <a:lnTo>
                    <a:pt x="822344" y="963269"/>
                  </a:lnTo>
                  <a:lnTo>
                    <a:pt x="859353" y="930665"/>
                  </a:lnTo>
                  <a:lnTo>
                    <a:pt x="897023" y="898796"/>
                  </a:lnTo>
                  <a:lnTo>
                    <a:pt x="935345" y="867674"/>
                  </a:lnTo>
                  <a:lnTo>
                    <a:pt x="974304" y="837309"/>
                  </a:lnTo>
                  <a:lnTo>
                    <a:pt x="1013890" y="807714"/>
                  </a:lnTo>
                  <a:lnTo>
                    <a:pt x="1054091" y="778899"/>
                  </a:lnTo>
                  <a:lnTo>
                    <a:pt x="1094895" y="750874"/>
                  </a:lnTo>
                  <a:lnTo>
                    <a:pt x="1138428" y="722351"/>
                  </a:lnTo>
                  <a:lnTo>
                    <a:pt x="1182419" y="694554"/>
                  </a:lnTo>
                  <a:lnTo>
                    <a:pt x="1226858" y="667489"/>
                  </a:lnTo>
                  <a:lnTo>
                    <a:pt x="1271732" y="641160"/>
                  </a:lnTo>
                  <a:lnTo>
                    <a:pt x="1317033" y="615574"/>
                  </a:lnTo>
                  <a:lnTo>
                    <a:pt x="1362749" y="590735"/>
                  </a:lnTo>
                  <a:lnTo>
                    <a:pt x="1408869" y="566649"/>
                  </a:lnTo>
                  <a:lnTo>
                    <a:pt x="1455383" y="543321"/>
                  </a:lnTo>
                  <a:lnTo>
                    <a:pt x="1502281" y="520757"/>
                  </a:lnTo>
                  <a:lnTo>
                    <a:pt x="1549551" y="498962"/>
                  </a:lnTo>
                  <a:lnTo>
                    <a:pt x="1597183" y="477940"/>
                  </a:lnTo>
                  <a:lnTo>
                    <a:pt x="1645166" y="457698"/>
                  </a:lnTo>
                  <a:lnTo>
                    <a:pt x="1693490" y="438241"/>
                  </a:lnTo>
                  <a:lnTo>
                    <a:pt x="1742143" y="419574"/>
                  </a:lnTo>
                  <a:lnTo>
                    <a:pt x="1791116" y="401703"/>
                  </a:lnTo>
                  <a:lnTo>
                    <a:pt x="1840398" y="384632"/>
                  </a:lnTo>
                  <a:lnTo>
                    <a:pt x="1843459" y="383552"/>
                  </a:lnTo>
                  <a:lnTo>
                    <a:pt x="1887985" y="367017"/>
                  </a:lnTo>
                  <a:lnTo>
                    <a:pt x="1951037" y="345122"/>
                  </a:lnTo>
                  <a:lnTo>
                    <a:pt x="2014756" y="324180"/>
                  </a:lnTo>
                  <a:lnTo>
                    <a:pt x="2062215" y="309322"/>
                  </a:lnTo>
                  <a:lnTo>
                    <a:pt x="2109894" y="294816"/>
                  </a:lnTo>
                  <a:lnTo>
                    <a:pt x="2157766" y="280670"/>
                  </a:lnTo>
                  <a:lnTo>
                    <a:pt x="2205801" y="266890"/>
                  </a:lnTo>
                  <a:lnTo>
                    <a:pt x="2253973" y="253485"/>
                  </a:lnTo>
                  <a:lnTo>
                    <a:pt x="2302254" y="240463"/>
                  </a:lnTo>
                  <a:lnTo>
                    <a:pt x="2350614" y="227831"/>
                  </a:lnTo>
                  <a:lnTo>
                    <a:pt x="2399027" y="215597"/>
                  </a:lnTo>
                  <a:lnTo>
                    <a:pt x="2447463" y="203768"/>
                  </a:lnTo>
                  <a:lnTo>
                    <a:pt x="2495896" y="192354"/>
                  </a:lnTo>
                  <a:lnTo>
                    <a:pt x="2545507" y="181008"/>
                  </a:lnTo>
                  <a:lnTo>
                    <a:pt x="2595198" y="170004"/>
                  </a:lnTo>
                  <a:lnTo>
                    <a:pt x="2644967" y="159342"/>
                  </a:lnTo>
                  <a:lnTo>
                    <a:pt x="2694810" y="149022"/>
                  </a:lnTo>
                  <a:lnTo>
                    <a:pt x="2744725" y="139045"/>
                  </a:lnTo>
                  <a:lnTo>
                    <a:pt x="2794710" y="129411"/>
                  </a:lnTo>
                  <a:lnTo>
                    <a:pt x="2844762" y="120120"/>
                  </a:lnTo>
                  <a:lnTo>
                    <a:pt x="2894878" y="111173"/>
                  </a:lnTo>
                  <a:lnTo>
                    <a:pt x="2945056" y="102570"/>
                  </a:lnTo>
                  <a:lnTo>
                    <a:pt x="2995293" y="94310"/>
                  </a:lnTo>
                  <a:lnTo>
                    <a:pt x="3045587" y="86395"/>
                  </a:lnTo>
                  <a:lnTo>
                    <a:pt x="3095935" y="78825"/>
                  </a:lnTo>
                  <a:lnTo>
                    <a:pt x="3146334" y="71600"/>
                  </a:lnTo>
                  <a:lnTo>
                    <a:pt x="3196782" y="64720"/>
                  </a:lnTo>
                  <a:lnTo>
                    <a:pt x="3247277" y="58185"/>
                  </a:lnTo>
                  <a:lnTo>
                    <a:pt x="3297815" y="51997"/>
                  </a:lnTo>
                  <a:lnTo>
                    <a:pt x="3348394" y="46155"/>
                  </a:lnTo>
                  <a:lnTo>
                    <a:pt x="3399011" y="40659"/>
                  </a:lnTo>
                  <a:lnTo>
                    <a:pt x="3449665" y="35510"/>
                  </a:lnTo>
                  <a:lnTo>
                    <a:pt x="3500351" y="30708"/>
                  </a:lnTo>
                  <a:lnTo>
                    <a:pt x="3551069" y="26253"/>
                  </a:lnTo>
                  <a:lnTo>
                    <a:pt x="3601815" y="22146"/>
                  </a:lnTo>
                  <a:lnTo>
                    <a:pt x="3652586" y="18387"/>
                  </a:lnTo>
                  <a:lnTo>
                    <a:pt x="3703380" y="14977"/>
                  </a:lnTo>
                  <a:lnTo>
                    <a:pt x="3754194" y="11914"/>
                  </a:lnTo>
                  <a:lnTo>
                    <a:pt x="3805027" y="9201"/>
                  </a:lnTo>
                  <a:lnTo>
                    <a:pt x="3855874" y="6837"/>
                  </a:lnTo>
                  <a:lnTo>
                    <a:pt x="3906734" y="4822"/>
                  </a:lnTo>
                  <a:lnTo>
                    <a:pt x="3957604" y="3157"/>
                  </a:lnTo>
                  <a:lnTo>
                    <a:pt x="4008482" y="1842"/>
                  </a:lnTo>
                  <a:lnTo>
                    <a:pt x="4059364" y="877"/>
                  </a:lnTo>
                  <a:lnTo>
                    <a:pt x="4110248" y="263"/>
                  </a:lnTo>
                  <a:lnTo>
                    <a:pt x="4161132" y="0"/>
                  </a:lnTo>
                  <a:lnTo>
                    <a:pt x="4182875" y="25"/>
                  </a:lnTo>
                  <a:lnTo>
                    <a:pt x="4234023" y="238"/>
                  </a:lnTo>
                  <a:lnTo>
                    <a:pt x="4285169" y="805"/>
                  </a:lnTo>
                  <a:lnTo>
                    <a:pt x="4336311" y="1726"/>
                  </a:lnTo>
                  <a:lnTo>
                    <a:pt x="4387447" y="3000"/>
                  </a:lnTo>
                  <a:lnTo>
                    <a:pt x="4438573" y="4628"/>
                  </a:lnTo>
                  <a:lnTo>
                    <a:pt x="4489688" y="6608"/>
                  </a:lnTo>
                  <a:lnTo>
                    <a:pt x="4540788" y="8941"/>
                  </a:lnTo>
                  <a:lnTo>
                    <a:pt x="4591872" y="11627"/>
                  </a:lnTo>
                  <a:lnTo>
                    <a:pt x="4642936" y="14664"/>
                  </a:lnTo>
                  <a:lnTo>
                    <a:pt x="4693978" y="18053"/>
                  </a:lnTo>
                  <a:lnTo>
                    <a:pt x="4744996" y="21794"/>
                  </a:lnTo>
                  <a:lnTo>
                    <a:pt x="4795986" y="25885"/>
                  </a:lnTo>
                  <a:lnTo>
                    <a:pt x="4846947" y="30328"/>
                  </a:lnTo>
                  <a:lnTo>
                    <a:pt x="4897876" y="35120"/>
                  </a:lnTo>
                  <a:lnTo>
                    <a:pt x="4948769" y="40264"/>
                  </a:lnTo>
                  <a:lnTo>
                    <a:pt x="4999626" y="45757"/>
                  </a:lnTo>
                  <a:lnTo>
                    <a:pt x="5050442" y="51599"/>
                  </a:lnTo>
                  <a:lnTo>
                    <a:pt x="5101216" y="57791"/>
                  </a:lnTo>
                  <a:lnTo>
                    <a:pt x="5151944" y="64332"/>
                  </a:lnTo>
                  <a:lnTo>
                    <a:pt x="5202625" y="71221"/>
                  </a:lnTo>
                  <a:lnTo>
                    <a:pt x="5253256" y="78459"/>
                  </a:lnTo>
                  <a:lnTo>
                    <a:pt x="5303834" y="86045"/>
                  </a:lnTo>
                  <a:lnTo>
                    <a:pt x="5354357" y="93979"/>
                  </a:lnTo>
                  <a:lnTo>
                    <a:pt x="5404822" y="102260"/>
                  </a:lnTo>
                  <a:lnTo>
                    <a:pt x="5455226" y="110889"/>
                  </a:lnTo>
                  <a:lnTo>
                    <a:pt x="5505567" y="119864"/>
                  </a:lnTo>
                  <a:lnTo>
                    <a:pt x="5555842" y="129186"/>
                  </a:lnTo>
                  <a:lnTo>
                    <a:pt x="5606050" y="138854"/>
                  </a:lnTo>
                  <a:lnTo>
                    <a:pt x="5656186" y="148869"/>
                  </a:lnTo>
                  <a:lnTo>
                    <a:pt x="5706249" y="159228"/>
                  </a:lnTo>
                  <a:lnTo>
                    <a:pt x="5756236" y="169934"/>
                  </a:lnTo>
                  <a:lnTo>
                    <a:pt x="5806145" y="180984"/>
                  </a:lnTo>
                  <a:lnTo>
                    <a:pt x="5855973" y="192379"/>
                  </a:lnTo>
                  <a:lnTo>
                    <a:pt x="5904447" y="203801"/>
                  </a:lnTo>
                  <a:lnTo>
                    <a:pt x="5952916" y="215635"/>
                  </a:lnTo>
                  <a:lnTo>
                    <a:pt x="6001354" y="227874"/>
                  </a:lnTo>
                  <a:lnTo>
                    <a:pt x="6049736" y="240510"/>
                  </a:lnTo>
                  <a:lnTo>
                    <a:pt x="6098033" y="253538"/>
                  </a:lnTo>
                  <a:lnTo>
                    <a:pt x="6146221" y="266948"/>
                  </a:lnTo>
                  <a:lnTo>
                    <a:pt x="6194272" y="280733"/>
                  </a:lnTo>
                  <a:lnTo>
                    <a:pt x="6242160" y="294887"/>
                  </a:lnTo>
                  <a:lnTo>
                    <a:pt x="6289858" y="309401"/>
                  </a:lnTo>
                  <a:lnTo>
                    <a:pt x="6337341" y="324269"/>
                  </a:lnTo>
                  <a:lnTo>
                    <a:pt x="6400692" y="345092"/>
                  </a:lnTo>
                  <a:lnTo>
                    <a:pt x="6463909" y="367030"/>
                  </a:lnTo>
                  <a:lnTo>
                    <a:pt x="6510023" y="384136"/>
                  </a:lnTo>
                  <a:lnTo>
                    <a:pt x="6511560" y="384657"/>
                  </a:lnTo>
                  <a:lnTo>
                    <a:pt x="6560830" y="401724"/>
                  </a:lnTo>
                  <a:lnTo>
                    <a:pt x="6609794" y="419592"/>
                  </a:lnTo>
                  <a:lnTo>
                    <a:pt x="6658441" y="438258"/>
                  </a:lnTo>
                  <a:lnTo>
                    <a:pt x="6706761" y="457715"/>
                  </a:lnTo>
                  <a:lnTo>
                    <a:pt x="6754744" y="477959"/>
                  </a:lnTo>
                  <a:lnTo>
                    <a:pt x="6802380" y="498985"/>
                  </a:lnTo>
                  <a:lnTo>
                    <a:pt x="6849658" y="520787"/>
                  </a:lnTo>
                  <a:lnTo>
                    <a:pt x="6896568" y="543361"/>
                  </a:lnTo>
                  <a:lnTo>
                    <a:pt x="6943100" y="566702"/>
                  </a:lnTo>
                  <a:lnTo>
                    <a:pt x="6989245" y="590804"/>
                  </a:lnTo>
                  <a:lnTo>
                    <a:pt x="7034991" y="615663"/>
                  </a:lnTo>
                  <a:lnTo>
                    <a:pt x="7080329" y="641273"/>
                  </a:lnTo>
                  <a:lnTo>
                    <a:pt x="7125248" y="667630"/>
                  </a:lnTo>
                  <a:lnTo>
                    <a:pt x="7169739" y="694728"/>
                  </a:lnTo>
                  <a:lnTo>
                    <a:pt x="7213790" y="722562"/>
                  </a:lnTo>
                  <a:lnTo>
                    <a:pt x="7257392" y="751128"/>
                  </a:lnTo>
                  <a:lnTo>
                    <a:pt x="7298131" y="779107"/>
                  </a:lnTo>
                  <a:lnTo>
                    <a:pt x="7338276" y="807886"/>
                  </a:lnTo>
                  <a:lnTo>
                    <a:pt x="7377818" y="837453"/>
                  </a:lnTo>
                  <a:lnTo>
                    <a:pt x="7416745" y="867800"/>
                  </a:lnTo>
                  <a:lnTo>
                    <a:pt x="7455046" y="898917"/>
                  </a:lnTo>
                  <a:lnTo>
                    <a:pt x="7492710" y="930793"/>
                  </a:lnTo>
                  <a:lnTo>
                    <a:pt x="7529725" y="963418"/>
                  </a:lnTo>
                  <a:lnTo>
                    <a:pt x="7566081" y="996784"/>
                  </a:lnTo>
                  <a:lnTo>
                    <a:pt x="7601767" y="1030879"/>
                  </a:lnTo>
                  <a:lnTo>
                    <a:pt x="7636771" y="1065695"/>
                  </a:lnTo>
                  <a:lnTo>
                    <a:pt x="7671082" y="1101221"/>
                  </a:lnTo>
                  <a:lnTo>
                    <a:pt x="7704689" y="1137447"/>
                  </a:lnTo>
                  <a:lnTo>
                    <a:pt x="7737582" y="1174363"/>
                  </a:lnTo>
                  <a:lnTo>
                    <a:pt x="7769749" y="1211961"/>
                  </a:lnTo>
                  <a:lnTo>
                    <a:pt x="7801409" y="1251248"/>
                  </a:lnTo>
                  <a:lnTo>
                    <a:pt x="7832250" y="1291192"/>
                  </a:lnTo>
                  <a:lnTo>
                    <a:pt x="7862261" y="1331772"/>
                  </a:lnTo>
                  <a:lnTo>
                    <a:pt x="7891434" y="1372969"/>
                  </a:lnTo>
                  <a:lnTo>
                    <a:pt x="7919759" y="1414763"/>
                  </a:lnTo>
                  <a:lnTo>
                    <a:pt x="7947225" y="1457136"/>
                  </a:lnTo>
                  <a:lnTo>
                    <a:pt x="7973824" y="1500067"/>
                  </a:lnTo>
                  <a:lnTo>
                    <a:pt x="7999546" y="1543537"/>
                  </a:lnTo>
                  <a:lnTo>
                    <a:pt x="8024381" y="1587527"/>
                  </a:lnTo>
                  <a:lnTo>
                    <a:pt x="8048320" y="1632017"/>
                  </a:lnTo>
                  <a:lnTo>
                    <a:pt x="8071352" y="1676987"/>
                  </a:lnTo>
                  <a:lnTo>
                    <a:pt x="8093469" y="1722419"/>
                  </a:lnTo>
                  <a:lnTo>
                    <a:pt x="8114661" y="1768293"/>
                  </a:lnTo>
                  <a:lnTo>
                    <a:pt x="8134918" y="1814588"/>
                  </a:lnTo>
                  <a:lnTo>
                    <a:pt x="8154231" y="1861287"/>
                  </a:lnTo>
                  <a:lnTo>
                    <a:pt x="8172590" y="1908369"/>
                  </a:lnTo>
                  <a:lnTo>
                    <a:pt x="8189985" y="1955814"/>
                  </a:lnTo>
                  <a:lnTo>
                    <a:pt x="8206407" y="2003604"/>
                  </a:lnTo>
                  <a:lnTo>
                    <a:pt x="8221846" y="2051718"/>
                  </a:lnTo>
                  <a:lnTo>
                    <a:pt x="8236293" y="2100139"/>
                  </a:lnTo>
                  <a:lnTo>
                    <a:pt x="8249738" y="2148844"/>
                  </a:lnTo>
                  <a:lnTo>
                    <a:pt x="8262171" y="2197817"/>
                  </a:lnTo>
                  <a:lnTo>
                    <a:pt x="8273583" y="2247036"/>
                  </a:lnTo>
                  <a:lnTo>
                    <a:pt x="8284226" y="2296091"/>
                  </a:lnTo>
                  <a:lnTo>
                    <a:pt x="8294096" y="2345271"/>
                  </a:lnTo>
                  <a:lnTo>
                    <a:pt x="8303191" y="2394568"/>
                  </a:lnTo>
                  <a:lnTo>
                    <a:pt x="8311512" y="2443973"/>
                  </a:lnTo>
                  <a:lnTo>
                    <a:pt x="8319057" y="2493478"/>
                  </a:lnTo>
                  <a:lnTo>
                    <a:pt x="8325826" y="2543076"/>
                  </a:lnTo>
                  <a:lnTo>
                    <a:pt x="8331818" y="2592757"/>
                  </a:lnTo>
                  <a:lnTo>
                    <a:pt x="8337032" y="2642514"/>
                  </a:lnTo>
                  <a:lnTo>
                    <a:pt x="8341469" y="2692339"/>
                  </a:lnTo>
                  <a:lnTo>
                    <a:pt x="8345127" y="2742224"/>
                  </a:lnTo>
                  <a:lnTo>
                    <a:pt x="8348006" y="2792159"/>
                  </a:lnTo>
                  <a:lnTo>
                    <a:pt x="8350106" y="2842138"/>
                  </a:lnTo>
                  <a:lnTo>
                    <a:pt x="8351424" y="2892152"/>
                  </a:lnTo>
                  <a:lnTo>
                    <a:pt x="8351962" y="2942193"/>
                  </a:lnTo>
                  <a:lnTo>
                    <a:pt x="8351718" y="2992252"/>
                  </a:lnTo>
                  <a:lnTo>
                    <a:pt x="8350692" y="3042323"/>
                  </a:lnTo>
                  <a:lnTo>
                    <a:pt x="8348883" y="3092395"/>
                  </a:lnTo>
                  <a:lnTo>
                    <a:pt x="8346290" y="3142462"/>
                  </a:lnTo>
                  <a:lnTo>
                    <a:pt x="8342693" y="3198108"/>
                  </a:lnTo>
                  <a:lnTo>
                    <a:pt x="8338066" y="3253710"/>
                  </a:lnTo>
                  <a:lnTo>
                    <a:pt x="8332422" y="3309168"/>
                  </a:lnTo>
                  <a:lnTo>
                    <a:pt x="8325774" y="3364380"/>
                  </a:lnTo>
                  <a:lnTo>
                    <a:pt x="8318135" y="3419246"/>
                  </a:lnTo>
                  <a:lnTo>
                    <a:pt x="8309064" y="3474471"/>
                  </a:lnTo>
                  <a:lnTo>
                    <a:pt x="8299491" y="3523411"/>
                  </a:lnTo>
                  <a:lnTo>
                    <a:pt x="8298996" y="3527298"/>
                  </a:lnTo>
                  <a:lnTo>
                    <a:pt x="8292200" y="3577560"/>
                  </a:lnTo>
                  <a:lnTo>
                    <a:pt x="8284739" y="3627675"/>
                  </a:lnTo>
                  <a:lnTo>
                    <a:pt x="8276616" y="3677639"/>
                  </a:lnTo>
                  <a:lnTo>
                    <a:pt x="8267831" y="3727447"/>
                  </a:lnTo>
                  <a:lnTo>
                    <a:pt x="8258386" y="3777095"/>
                  </a:lnTo>
                  <a:lnTo>
                    <a:pt x="8248281" y="3826578"/>
                  </a:lnTo>
                  <a:lnTo>
                    <a:pt x="8237518" y="3875892"/>
                  </a:lnTo>
                  <a:lnTo>
                    <a:pt x="8226099" y="3925034"/>
                  </a:lnTo>
                  <a:lnTo>
                    <a:pt x="8214025" y="3973998"/>
                  </a:lnTo>
                  <a:lnTo>
                    <a:pt x="8201297" y="4022780"/>
                  </a:lnTo>
                  <a:lnTo>
                    <a:pt x="8187917" y="4071376"/>
                  </a:lnTo>
                  <a:lnTo>
                    <a:pt x="8173885" y="4119781"/>
                  </a:lnTo>
                  <a:lnTo>
                    <a:pt x="8159203" y="4167992"/>
                  </a:lnTo>
                  <a:lnTo>
                    <a:pt x="8143873" y="4216004"/>
                  </a:lnTo>
                  <a:lnTo>
                    <a:pt x="8127895" y="4263812"/>
                  </a:lnTo>
                  <a:lnTo>
                    <a:pt x="8111271" y="4311413"/>
                  </a:lnTo>
                  <a:lnTo>
                    <a:pt x="8094003" y="4358801"/>
                  </a:lnTo>
                  <a:lnTo>
                    <a:pt x="8076091" y="4405974"/>
                  </a:lnTo>
                  <a:lnTo>
                    <a:pt x="8057537" y="4452925"/>
                  </a:lnTo>
                  <a:lnTo>
                    <a:pt x="8038343" y="4499652"/>
                  </a:lnTo>
                  <a:lnTo>
                    <a:pt x="8018508" y="4546149"/>
                  </a:lnTo>
                  <a:lnTo>
                    <a:pt x="7998036" y="4592413"/>
                  </a:lnTo>
                  <a:lnTo>
                    <a:pt x="7976927" y="4638439"/>
                  </a:lnTo>
                  <a:lnTo>
                    <a:pt x="7955183" y="4684222"/>
                  </a:lnTo>
                  <a:lnTo>
                    <a:pt x="7932804" y="4729759"/>
                  </a:lnTo>
                  <a:lnTo>
                    <a:pt x="7909538" y="4775775"/>
                  </a:lnTo>
                  <a:lnTo>
                    <a:pt x="7885759" y="4821530"/>
                  </a:lnTo>
                  <a:lnTo>
                    <a:pt x="7861472" y="4867018"/>
                  </a:lnTo>
                  <a:lnTo>
                    <a:pt x="7836680" y="4912235"/>
                  </a:lnTo>
                  <a:lnTo>
                    <a:pt x="7811386" y="4957175"/>
                  </a:lnTo>
                  <a:lnTo>
                    <a:pt x="7785594" y="5001832"/>
                  </a:lnTo>
                  <a:lnTo>
                    <a:pt x="7759308" y="5046201"/>
                  </a:lnTo>
                  <a:lnTo>
                    <a:pt x="7732530" y="5090276"/>
                  </a:lnTo>
                  <a:lnTo>
                    <a:pt x="7705265" y="5134053"/>
                  </a:lnTo>
                  <a:lnTo>
                    <a:pt x="7677516" y="5177526"/>
                  </a:lnTo>
                  <a:lnTo>
                    <a:pt x="7649286" y="5220689"/>
                  </a:lnTo>
                  <a:lnTo>
                    <a:pt x="7620579" y="5263537"/>
                  </a:lnTo>
                  <a:lnTo>
                    <a:pt x="7591399" y="5306064"/>
                  </a:lnTo>
                  <a:lnTo>
                    <a:pt x="7561749" y="5348266"/>
                  </a:lnTo>
                  <a:lnTo>
                    <a:pt x="7531633" y="5390136"/>
                  </a:lnTo>
                  <a:lnTo>
                    <a:pt x="7501054" y="5431670"/>
                  </a:lnTo>
                  <a:lnTo>
                    <a:pt x="7470016" y="5472862"/>
                  </a:lnTo>
                  <a:lnTo>
                    <a:pt x="7438521" y="5513706"/>
                  </a:lnTo>
                  <a:lnTo>
                    <a:pt x="7406575" y="5554198"/>
                  </a:lnTo>
                  <a:lnTo>
                    <a:pt x="7374180" y="5594331"/>
                  </a:lnTo>
                  <a:lnTo>
                    <a:pt x="7341339" y="5634101"/>
                  </a:lnTo>
                  <a:lnTo>
                    <a:pt x="7309597" y="5672008"/>
                  </a:lnTo>
                  <a:lnTo>
                    <a:pt x="7277464" y="5709629"/>
                  </a:lnTo>
                  <a:lnTo>
                    <a:pt x="7244948" y="5746958"/>
                  </a:lnTo>
                  <a:lnTo>
                    <a:pt x="7212055" y="5783986"/>
                  </a:lnTo>
                  <a:lnTo>
                    <a:pt x="7178792" y="5820707"/>
                  </a:lnTo>
                  <a:lnTo>
                    <a:pt x="7145168" y="5857113"/>
                  </a:lnTo>
                  <a:lnTo>
                    <a:pt x="7111189" y="5893196"/>
                  </a:lnTo>
                  <a:lnTo>
                    <a:pt x="7076862" y="5928950"/>
                  </a:lnTo>
                  <a:lnTo>
                    <a:pt x="7042195" y="5964367"/>
                  </a:lnTo>
                  <a:lnTo>
                    <a:pt x="7007194" y="5999440"/>
                  </a:lnTo>
                  <a:lnTo>
                    <a:pt x="6971867" y="6034161"/>
                  </a:lnTo>
                  <a:lnTo>
                    <a:pt x="6936221" y="6068523"/>
                  </a:lnTo>
                  <a:lnTo>
                    <a:pt x="6900263" y="6102518"/>
                  </a:lnTo>
                  <a:lnTo>
                    <a:pt x="6864001" y="6136141"/>
                  </a:lnTo>
                  <a:lnTo>
                    <a:pt x="6827441" y="6169382"/>
                  </a:lnTo>
                  <a:lnTo>
                    <a:pt x="6790591" y="6202235"/>
                  </a:lnTo>
                  <a:lnTo>
                    <a:pt x="6747674" y="6239549"/>
                  </a:lnTo>
                  <a:lnTo>
                    <a:pt x="6704047" y="6276382"/>
                  </a:lnTo>
                  <a:lnTo>
                    <a:pt x="6659868" y="6312604"/>
                  </a:lnTo>
                  <a:lnTo>
                    <a:pt x="6615293" y="6348082"/>
                  </a:lnTo>
                  <a:lnTo>
                    <a:pt x="6579667" y="6375405"/>
                  </a:lnTo>
                  <a:lnTo>
                    <a:pt x="6567617" y="6384404"/>
                  </a:lnTo>
                  <a:lnTo>
                    <a:pt x="6551222" y="6396329"/>
                  </a:lnTo>
                  <a:close/>
                </a:path>
              </a:pathLst>
            </a:custGeom>
            <a:noFill/>
            <a:ln w="108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bject 27"/>
            <p:cNvSpPr/>
            <p:nvPr/>
          </p:nvSpPr>
          <p:spPr>
            <a:xfrm>
              <a:off x="1782360" y="1674720"/>
              <a:ext cx="8568000" cy="6623280"/>
            </a:xfrm>
            <a:custGeom>
              <a:avLst/>
              <a:gdLst/>
              <a:ahLst/>
              <a:rect l="l" t="t" r="r" b="b"/>
              <a:pathLst>
                <a:path w="8568055" h="6624320">
                  <a:moveTo>
                    <a:pt x="4227632" y="5723623"/>
                  </a:moveTo>
                  <a:lnTo>
                    <a:pt x="4151953" y="5724477"/>
                  </a:lnTo>
                  <a:lnTo>
                    <a:pt x="4076350" y="5727827"/>
                  </a:lnTo>
                  <a:lnTo>
                    <a:pt x="4027198" y="5731284"/>
                  </a:lnTo>
                  <a:lnTo>
                    <a:pt x="3978116" y="5735470"/>
                  </a:lnTo>
                  <a:lnTo>
                    <a:pt x="3929113" y="5740383"/>
                  </a:lnTo>
                  <a:lnTo>
                    <a:pt x="3880194" y="5746023"/>
                  </a:lnTo>
                  <a:lnTo>
                    <a:pt x="3831370" y="5752389"/>
                  </a:lnTo>
                  <a:lnTo>
                    <a:pt x="3782647" y="5759480"/>
                  </a:lnTo>
                  <a:lnTo>
                    <a:pt x="3734034" y="5767295"/>
                  </a:lnTo>
                  <a:lnTo>
                    <a:pt x="3685539" y="5775834"/>
                  </a:lnTo>
                  <a:lnTo>
                    <a:pt x="3637170" y="5785094"/>
                  </a:lnTo>
                  <a:lnTo>
                    <a:pt x="3588935" y="5795076"/>
                  </a:lnTo>
                  <a:lnTo>
                    <a:pt x="3540841" y="5805779"/>
                  </a:lnTo>
                  <a:lnTo>
                    <a:pt x="3492054" y="5817360"/>
                  </a:lnTo>
                  <a:lnTo>
                    <a:pt x="3443465" y="5829587"/>
                  </a:lnTo>
                  <a:lnTo>
                    <a:pt x="3395082" y="5842459"/>
                  </a:lnTo>
                  <a:lnTo>
                    <a:pt x="3346910" y="5855970"/>
                  </a:lnTo>
                  <a:lnTo>
                    <a:pt x="3298955" y="5870120"/>
                  </a:lnTo>
                  <a:lnTo>
                    <a:pt x="3251224" y="5884903"/>
                  </a:lnTo>
                  <a:lnTo>
                    <a:pt x="3203722" y="5900319"/>
                  </a:lnTo>
                  <a:lnTo>
                    <a:pt x="3156456" y="5916362"/>
                  </a:lnTo>
                  <a:lnTo>
                    <a:pt x="3109432" y="5933031"/>
                  </a:lnTo>
                  <a:lnTo>
                    <a:pt x="3062655" y="5950322"/>
                  </a:lnTo>
                  <a:lnTo>
                    <a:pt x="3016132" y="5968232"/>
                  </a:lnTo>
                  <a:lnTo>
                    <a:pt x="2969868" y="5986759"/>
                  </a:lnTo>
                  <a:lnTo>
                    <a:pt x="2923871" y="6005898"/>
                  </a:lnTo>
                  <a:lnTo>
                    <a:pt x="2878145" y="6025648"/>
                  </a:lnTo>
                  <a:lnTo>
                    <a:pt x="2832697" y="6046004"/>
                  </a:lnTo>
                  <a:lnTo>
                    <a:pt x="2787533" y="6066965"/>
                  </a:lnTo>
                  <a:lnTo>
                    <a:pt x="2742659" y="6088526"/>
                  </a:lnTo>
                  <a:lnTo>
                    <a:pt x="2698081" y="6110685"/>
                  </a:lnTo>
                  <a:lnTo>
                    <a:pt x="2653805" y="6133439"/>
                  </a:lnTo>
                  <a:lnTo>
                    <a:pt x="2609837" y="6156785"/>
                  </a:lnTo>
                  <a:lnTo>
                    <a:pt x="2566183" y="6180719"/>
                  </a:lnTo>
                  <a:lnTo>
                    <a:pt x="2522849" y="6205239"/>
                  </a:lnTo>
                  <a:lnTo>
                    <a:pt x="2479842" y="6230341"/>
                  </a:lnTo>
                  <a:lnTo>
                    <a:pt x="2437167" y="6256023"/>
                  </a:lnTo>
                  <a:lnTo>
                    <a:pt x="2394831" y="6282282"/>
                  </a:lnTo>
                  <a:lnTo>
                    <a:pt x="2352838" y="6309113"/>
                  </a:lnTo>
                  <a:lnTo>
                    <a:pt x="2311197" y="6336515"/>
                  </a:lnTo>
                  <a:lnTo>
                    <a:pt x="2269911" y="6364484"/>
                  </a:lnTo>
                  <a:lnTo>
                    <a:pt x="2228989" y="6393018"/>
                  </a:lnTo>
                  <a:lnTo>
                    <a:pt x="2188435" y="6422112"/>
                  </a:lnTo>
                  <a:lnTo>
                    <a:pt x="2148255" y="6451765"/>
                  </a:lnTo>
                  <a:lnTo>
                    <a:pt x="2108456" y="6481972"/>
                  </a:lnTo>
                  <a:lnTo>
                    <a:pt x="2069044" y="6512732"/>
                  </a:lnTo>
                  <a:lnTo>
                    <a:pt x="2030025" y="6544041"/>
                  </a:lnTo>
                  <a:lnTo>
                    <a:pt x="1991405" y="6575895"/>
                  </a:lnTo>
                  <a:lnTo>
                    <a:pt x="1953189" y="6608292"/>
                  </a:lnTo>
                  <a:lnTo>
                    <a:pt x="1934377" y="6619557"/>
                  </a:lnTo>
                  <a:lnTo>
                    <a:pt x="1913452" y="6623907"/>
                  </a:lnTo>
                  <a:lnTo>
                    <a:pt x="1892244" y="6621265"/>
                  </a:lnTo>
                  <a:lnTo>
                    <a:pt x="1872582" y="6611556"/>
                  </a:lnTo>
                  <a:lnTo>
                    <a:pt x="1828018" y="6579120"/>
                  </a:lnTo>
                  <a:lnTo>
                    <a:pt x="1790435" y="6550685"/>
                  </a:lnTo>
                  <a:lnTo>
                    <a:pt x="1741307" y="6511909"/>
                  </a:lnTo>
                  <a:lnTo>
                    <a:pt x="1704931" y="6482350"/>
                  </a:lnTo>
                  <a:lnTo>
                    <a:pt x="1668903" y="6452373"/>
                  </a:lnTo>
                  <a:lnTo>
                    <a:pt x="1633228" y="6421980"/>
                  </a:lnTo>
                  <a:lnTo>
                    <a:pt x="1597907" y="6391173"/>
                  </a:lnTo>
                  <a:lnTo>
                    <a:pt x="1560166" y="6357529"/>
                  </a:lnTo>
                  <a:lnTo>
                    <a:pt x="1522762" y="6323527"/>
                  </a:lnTo>
                  <a:lnTo>
                    <a:pt x="1485695" y="6289169"/>
                  </a:lnTo>
                  <a:lnTo>
                    <a:pt x="1448969" y="6254457"/>
                  </a:lnTo>
                  <a:lnTo>
                    <a:pt x="1412586" y="6219395"/>
                  </a:lnTo>
                  <a:lnTo>
                    <a:pt x="1376549" y="6183984"/>
                  </a:lnTo>
                  <a:lnTo>
                    <a:pt x="1340860" y="6148228"/>
                  </a:lnTo>
                  <a:lnTo>
                    <a:pt x="1305521" y="6112129"/>
                  </a:lnTo>
                  <a:lnTo>
                    <a:pt x="1270535" y="6075689"/>
                  </a:lnTo>
                  <a:lnTo>
                    <a:pt x="1235905" y="6038911"/>
                  </a:lnTo>
                  <a:lnTo>
                    <a:pt x="1201632" y="6001798"/>
                  </a:lnTo>
                  <a:lnTo>
                    <a:pt x="1167721" y="5964352"/>
                  </a:lnTo>
                  <a:lnTo>
                    <a:pt x="1134172" y="5926575"/>
                  </a:lnTo>
                  <a:lnTo>
                    <a:pt x="1100989" y="5888472"/>
                  </a:lnTo>
                  <a:lnTo>
                    <a:pt x="1068173" y="5850042"/>
                  </a:lnTo>
                  <a:lnTo>
                    <a:pt x="1035728" y="5811291"/>
                  </a:lnTo>
                  <a:lnTo>
                    <a:pt x="1003608" y="5772413"/>
                  </a:lnTo>
                  <a:lnTo>
                    <a:pt x="971912" y="5733210"/>
                  </a:lnTo>
                  <a:lnTo>
                    <a:pt x="940641" y="5693683"/>
                  </a:lnTo>
                  <a:lnTo>
                    <a:pt x="909800" y="5653836"/>
                  </a:lnTo>
                  <a:lnTo>
                    <a:pt x="879388" y="5613674"/>
                  </a:lnTo>
                  <a:lnTo>
                    <a:pt x="849410" y="5573200"/>
                  </a:lnTo>
                  <a:lnTo>
                    <a:pt x="819867" y="5532417"/>
                  </a:lnTo>
                  <a:lnTo>
                    <a:pt x="790762" y="5491328"/>
                  </a:lnTo>
                  <a:lnTo>
                    <a:pt x="762097" y="5449938"/>
                  </a:lnTo>
                  <a:lnTo>
                    <a:pt x="733875" y="5408250"/>
                  </a:lnTo>
                  <a:lnTo>
                    <a:pt x="706097" y="5366267"/>
                  </a:lnTo>
                  <a:lnTo>
                    <a:pt x="678766" y="5323993"/>
                  </a:lnTo>
                  <a:lnTo>
                    <a:pt x="651884" y="5281431"/>
                  </a:lnTo>
                  <a:lnTo>
                    <a:pt x="625454" y="5238586"/>
                  </a:lnTo>
                  <a:lnTo>
                    <a:pt x="599477" y="5195460"/>
                  </a:lnTo>
                  <a:lnTo>
                    <a:pt x="573957" y="5152057"/>
                  </a:lnTo>
                  <a:lnTo>
                    <a:pt x="548896" y="5108380"/>
                  </a:lnTo>
                  <a:lnTo>
                    <a:pt x="524295" y="5064434"/>
                  </a:lnTo>
                  <a:lnTo>
                    <a:pt x="500158" y="5020221"/>
                  </a:lnTo>
                  <a:lnTo>
                    <a:pt x="476486" y="4975745"/>
                  </a:lnTo>
                  <a:lnTo>
                    <a:pt x="453282" y="4931010"/>
                  </a:lnTo>
                  <a:lnTo>
                    <a:pt x="430548" y="4886020"/>
                  </a:lnTo>
                  <a:lnTo>
                    <a:pt x="408448" y="4841076"/>
                  </a:lnTo>
                  <a:lnTo>
                    <a:pt x="386942" y="4795873"/>
                  </a:lnTo>
                  <a:lnTo>
                    <a:pt x="366032" y="4750418"/>
                  </a:lnTo>
                  <a:lnTo>
                    <a:pt x="345721" y="4704717"/>
                  </a:lnTo>
                  <a:lnTo>
                    <a:pt x="326009" y="4658775"/>
                  </a:lnTo>
                  <a:lnTo>
                    <a:pt x="306900" y="4612599"/>
                  </a:lnTo>
                  <a:lnTo>
                    <a:pt x="288393" y="4566194"/>
                  </a:lnTo>
                  <a:lnTo>
                    <a:pt x="270492" y="4519567"/>
                  </a:lnTo>
                  <a:lnTo>
                    <a:pt x="253198" y="4472723"/>
                  </a:lnTo>
                  <a:lnTo>
                    <a:pt x="236513" y="4425668"/>
                  </a:lnTo>
                  <a:lnTo>
                    <a:pt x="220439" y="4378409"/>
                  </a:lnTo>
                  <a:lnTo>
                    <a:pt x="204977" y="4330951"/>
                  </a:lnTo>
                  <a:lnTo>
                    <a:pt x="190129" y="4283300"/>
                  </a:lnTo>
                  <a:lnTo>
                    <a:pt x="175897" y="4235462"/>
                  </a:lnTo>
                  <a:lnTo>
                    <a:pt x="162284" y="4187444"/>
                  </a:lnTo>
                  <a:lnTo>
                    <a:pt x="149290" y="4139251"/>
                  </a:lnTo>
                  <a:lnTo>
                    <a:pt x="136917" y="4090889"/>
                  </a:lnTo>
                  <a:lnTo>
                    <a:pt x="125168" y="4042364"/>
                  </a:lnTo>
                  <a:lnTo>
                    <a:pt x="114044" y="3993682"/>
                  </a:lnTo>
                  <a:lnTo>
                    <a:pt x="103546" y="3944849"/>
                  </a:lnTo>
                  <a:lnTo>
                    <a:pt x="93678" y="3895871"/>
                  </a:lnTo>
                  <a:lnTo>
                    <a:pt x="84440" y="3846754"/>
                  </a:lnTo>
                  <a:lnTo>
                    <a:pt x="75834" y="3797504"/>
                  </a:lnTo>
                  <a:lnTo>
                    <a:pt x="67862" y="3748126"/>
                  </a:lnTo>
                  <a:lnTo>
                    <a:pt x="60526" y="3698628"/>
                  </a:lnTo>
                  <a:lnTo>
                    <a:pt x="53828" y="3649014"/>
                  </a:lnTo>
                  <a:lnTo>
                    <a:pt x="48265" y="3621557"/>
                  </a:lnTo>
                  <a:lnTo>
                    <a:pt x="41264" y="3582408"/>
                  </a:lnTo>
                  <a:lnTo>
                    <a:pt x="35006" y="3543134"/>
                  </a:lnTo>
                  <a:lnTo>
                    <a:pt x="28317" y="3495621"/>
                  </a:lnTo>
                  <a:lnTo>
                    <a:pt x="22359" y="3448018"/>
                  </a:lnTo>
                  <a:lnTo>
                    <a:pt x="17133" y="3400332"/>
                  </a:lnTo>
                  <a:lnTo>
                    <a:pt x="12640" y="3352573"/>
                  </a:lnTo>
                  <a:lnTo>
                    <a:pt x="8882" y="3304748"/>
                  </a:lnTo>
                  <a:lnTo>
                    <a:pt x="5860" y="3256864"/>
                  </a:lnTo>
                  <a:lnTo>
                    <a:pt x="3181" y="3205130"/>
                  </a:lnTo>
                  <a:lnTo>
                    <a:pt x="1312" y="3153386"/>
                  </a:lnTo>
                  <a:lnTo>
                    <a:pt x="252" y="3101640"/>
                  </a:lnTo>
                  <a:lnTo>
                    <a:pt x="0" y="3049903"/>
                  </a:lnTo>
                  <a:lnTo>
                    <a:pt x="555" y="2998183"/>
                  </a:lnTo>
                  <a:lnTo>
                    <a:pt x="1917" y="2946490"/>
                  </a:lnTo>
                  <a:lnTo>
                    <a:pt x="4085" y="2894833"/>
                  </a:lnTo>
                  <a:lnTo>
                    <a:pt x="7058" y="2843223"/>
                  </a:lnTo>
                  <a:lnTo>
                    <a:pt x="10835" y="2791667"/>
                  </a:lnTo>
                  <a:lnTo>
                    <a:pt x="15416" y="2740177"/>
                  </a:lnTo>
                  <a:lnTo>
                    <a:pt x="20800" y="2688761"/>
                  </a:lnTo>
                  <a:lnTo>
                    <a:pt x="26986" y="2637428"/>
                  </a:lnTo>
                  <a:lnTo>
                    <a:pt x="33974" y="2586189"/>
                  </a:lnTo>
                  <a:lnTo>
                    <a:pt x="41762" y="2535052"/>
                  </a:lnTo>
                  <a:lnTo>
                    <a:pt x="50349" y="2484027"/>
                  </a:lnTo>
                  <a:lnTo>
                    <a:pt x="59736" y="2433124"/>
                  </a:lnTo>
                  <a:lnTo>
                    <a:pt x="69921" y="2382352"/>
                  </a:lnTo>
                  <a:lnTo>
                    <a:pt x="80904" y="2331720"/>
                  </a:lnTo>
                  <a:lnTo>
                    <a:pt x="92345" y="2282267"/>
                  </a:lnTo>
                  <a:lnTo>
                    <a:pt x="104745" y="2233100"/>
                  </a:lnTo>
                  <a:lnTo>
                    <a:pt x="118098" y="2184233"/>
                  </a:lnTo>
                  <a:lnTo>
                    <a:pt x="132398" y="2135680"/>
                  </a:lnTo>
                  <a:lnTo>
                    <a:pt x="147639" y="2087452"/>
                  </a:lnTo>
                  <a:lnTo>
                    <a:pt x="163814" y="2039563"/>
                  </a:lnTo>
                  <a:lnTo>
                    <a:pt x="180916" y="1992027"/>
                  </a:lnTo>
                  <a:lnTo>
                    <a:pt x="198940" y="1944856"/>
                  </a:lnTo>
                  <a:lnTo>
                    <a:pt x="217879" y="1898064"/>
                  </a:lnTo>
                  <a:lnTo>
                    <a:pt x="237727" y="1851663"/>
                  </a:lnTo>
                  <a:lnTo>
                    <a:pt x="258477" y="1805667"/>
                  </a:lnTo>
                  <a:lnTo>
                    <a:pt x="280123" y="1760089"/>
                  </a:lnTo>
                  <a:lnTo>
                    <a:pt x="302658" y="1714943"/>
                  </a:lnTo>
                  <a:lnTo>
                    <a:pt x="326077" y="1670240"/>
                  </a:lnTo>
                  <a:lnTo>
                    <a:pt x="350372" y="1625995"/>
                  </a:lnTo>
                  <a:lnTo>
                    <a:pt x="375538" y="1582221"/>
                  </a:lnTo>
                  <a:lnTo>
                    <a:pt x="401567" y="1538930"/>
                  </a:lnTo>
                  <a:lnTo>
                    <a:pt x="428455" y="1496136"/>
                  </a:lnTo>
                  <a:lnTo>
                    <a:pt x="456194" y="1453853"/>
                  </a:lnTo>
                  <a:lnTo>
                    <a:pt x="484777" y="1412092"/>
                  </a:lnTo>
                  <a:lnTo>
                    <a:pt x="514199" y="1370867"/>
                  </a:lnTo>
                  <a:lnTo>
                    <a:pt x="544454" y="1330192"/>
                  </a:lnTo>
                  <a:lnTo>
                    <a:pt x="575534" y="1290080"/>
                  </a:lnTo>
                  <a:lnTo>
                    <a:pt x="607434" y="1250543"/>
                  </a:lnTo>
                  <a:lnTo>
                    <a:pt x="641004" y="1211311"/>
                  </a:lnTo>
                  <a:lnTo>
                    <a:pt x="675338" y="1172784"/>
                  </a:lnTo>
                  <a:lnTo>
                    <a:pt x="710423" y="1134972"/>
                  </a:lnTo>
                  <a:lnTo>
                    <a:pt x="746249" y="1097886"/>
                  </a:lnTo>
                  <a:lnTo>
                    <a:pt x="782803" y="1061535"/>
                  </a:lnTo>
                  <a:lnTo>
                    <a:pt x="820073" y="1025932"/>
                  </a:lnTo>
                  <a:lnTo>
                    <a:pt x="858049" y="991085"/>
                  </a:lnTo>
                  <a:lnTo>
                    <a:pt x="896718" y="957007"/>
                  </a:lnTo>
                  <a:lnTo>
                    <a:pt x="936070" y="923707"/>
                  </a:lnTo>
                  <a:lnTo>
                    <a:pt x="976091" y="891195"/>
                  </a:lnTo>
                  <a:lnTo>
                    <a:pt x="1016772" y="859484"/>
                  </a:lnTo>
                  <a:lnTo>
                    <a:pt x="1058099" y="828582"/>
                  </a:lnTo>
                  <a:lnTo>
                    <a:pt x="1100063" y="798501"/>
                  </a:lnTo>
                  <a:lnTo>
                    <a:pt x="1142650" y="769251"/>
                  </a:lnTo>
                  <a:lnTo>
                    <a:pt x="1185078" y="741421"/>
                  </a:lnTo>
                  <a:lnTo>
                    <a:pt x="1227915" y="714264"/>
                  </a:lnTo>
                  <a:lnTo>
                    <a:pt x="1271152" y="687782"/>
                  </a:lnTo>
                  <a:lnTo>
                    <a:pt x="1314781" y="661982"/>
                  </a:lnTo>
                  <a:lnTo>
                    <a:pt x="1358794" y="636865"/>
                  </a:lnTo>
                  <a:lnTo>
                    <a:pt x="1403182" y="612437"/>
                  </a:lnTo>
                  <a:lnTo>
                    <a:pt x="1447938" y="588702"/>
                  </a:lnTo>
                  <a:lnTo>
                    <a:pt x="1493053" y="565662"/>
                  </a:lnTo>
                  <a:lnTo>
                    <a:pt x="1538519" y="543324"/>
                  </a:lnTo>
                  <a:lnTo>
                    <a:pt x="1584327" y="521689"/>
                  </a:lnTo>
                  <a:lnTo>
                    <a:pt x="1630470" y="500763"/>
                  </a:lnTo>
                  <a:lnTo>
                    <a:pt x="1676940" y="480550"/>
                  </a:lnTo>
                  <a:lnTo>
                    <a:pt x="1723727" y="461053"/>
                  </a:lnTo>
                  <a:lnTo>
                    <a:pt x="1770825" y="442276"/>
                  </a:lnTo>
                  <a:lnTo>
                    <a:pt x="1818224" y="424224"/>
                  </a:lnTo>
                  <a:lnTo>
                    <a:pt x="1865917" y="406900"/>
                  </a:lnTo>
                  <a:lnTo>
                    <a:pt x="1913895" y="390309"/>
                  </a:lnTo>
                  <a:lnTo>
                    <a:pt x="1959107" y="373532"/>
                  </a:lnTo>
                  <a:lnTo>
                    <a:pt x="2024322" y="350869"/>
                  </a:lnTo>
                  <a:lnTo>
                    <a:pt x="2089917" y="329311"/>
                  </a:lnTo>
                  <a:lnTo>
                    <a:pt x="2138376" y="314135"/>
                  </a:lnTo>
                  <a:lnTo>
                    <a:pt x="2186954" y="299348"/>
                  </a:lnTo>
                  <a:lnTo>
                    <a:pt x="2235649" y="284951"/>
                  </a:lnTo>
                  <a:lnTo>
                    <a:pt x="2284457" y="270944"/>
                  </a:lnTo>
                  <a:lnTo>
                    <a:pt x="2333376" y="257328"/>
                  </a:lnTo>
                  <a:lnTo>
                    <a:pt x="2382404" y="244105"/>
                  </a:lnTo>
                  <a:lnTo>
                    <a:pt x="2431536" y="231274"/>
                  </a:lnTo>
                  <a:lnTo>
                    <a:pt x="2480772" y="218837"/>
                  </a:lnTo>
                  <a:lnTo>
                    <a:pt x="2530108" y="206795"/>
                  </a:lnTo>
                  <a:lnTo>
                    <a:pt x="2579540" y="195148"/>
                  </a:lnTo>
                  <a:lnTo>
                    <a:pt x="2628449" y="183957"/>
                  </a:lnTo>
                  <a:lnTo>
                    <a:pt x="2677423" y="173094"/>
                  </a:lnTo>
                  <a:lnTo>
                    <a:pt x="2726460" y="162560"/>
                  </a:lnTo>
                  <a:lnTo>
                    <a:pt x="2775559" y="152355"/>
                  </a:lnTo>
                  <a:lnTo>
                    <a:pt x="2824717" y="142479"/>
                  </a:lnTo>
                  <a:lnTo>
                    <a:pt x="2873935" y="132932"/>
                  </a:lnTo>
                  <a:lnTo>
                    <a:pt x="2923209" y="123714"/>
                  </a:lnTo>
                  <a:lnTo>
                    <a:pt x="2972537" y="114825"/>
                  </a:lnTo>
                  <a:lnTo>
                    <a:pt x="3021920" y="106266"/>
                  </a:lnTo>
                  <a:lnTo>
                    <a:pt x="3071354" y="98037"/>
                  </a:lnTo>
                  <a:lnTo>
                    <a:pt x="3120838" y="90138"/>
                  </a:lnTo>
                  <a:lnTo>
                    <a:pt x="3170371" y="82570"/>
                  </a:lnTo>
                  <a:lnTo>
                    <a:pt x="3219950" y="75331"/>
                  </a:lnTo>
                  <a:lnTo>
                    <a:pt x="3269574" y="68424"/>
                  </a:lnTo>
                  <a:lnTo>
                    <a:pt x="3319242" y="61847"/>
                  </a:lnTo>
                  <a:lnTo>
                    <a:pt x="3368951" y="55601"/>
                  </a:lnTo>
                  <a:lnTo>
                    <a:pt x="3418701" y="49687"/>
                  </a:lnTo>
                  <a:lnTo>
                    <a:pt x="3468489" y="44103"/>
                  </a:lnTo>
                  <a:lnTo>
                    <a:pt x="3518313" y="38852"/>
                  </a:lnTo>
                  <a:lnTo>
                    <a:pt x="3568173" y="33932"/>
                  </a:lnTo>
                  <a:lnTo>
                    <a:pt x="3618066" y="29344"/>
                  </a:lnTo>
                  <a:lnTo>
                    <a:pt x="3667991" y="25089"/>
                  </a:lnTo>
                  <a:lnTo>
                    <a:pt x="3717946" y="21165"/>
                  </a:lnTo>
                  <a:lnTo>
                    <a:pt x="3767929" y="17575"/>
                  </a:lnTo>
                  <a:lnTo>
                    <a:pt x="3817939" y="14317"/>
                  </a:lnTo>
                  <a:lnTo>
                    <a:pt x="3867974" y="11392"/>
                  </a:lnTo>
                  <a:lnTo>
                    <a:pt x="3918033" y="8800"/>
                  </a:lnTo>
                  <a:lnTo>
                    <a:pt x="3968113" y="6541"/>
                  </a:lnTo>
                  <a:lnTo>
                    <a:pt x="4018213" y="4616"/>
                  </a:lnTo>
                  <a:lnTo>
                    <a:pt x="4068332" y="3024"/>
                  </a:lnTo>
                  <a:lnTo>
                    <a:pt x="4118468" y="1767"/>
                  </a:lnTo>
                  <a:lnTo>
                    <a:pt x="4168618" y="843"/>
                  </a:lnTo>
                  <a:lnTo>
                    <a:pt x="4218782" y="254"/>
                  </a:lnTo>
                  <a:lnTo>
                    <a:pt x="4268958" y="0"/>
                  </a:lnTo>
                  <a:lnTo>
                    <a:pt x="4276387" y="0"/>
                  </a:lnTo>
                  <a:lnTo>
                    <a:pt x="4283817" y="0"/>
                  </a:lnTo>
                  <a:lnTo>
                    <a:pt x="4341653" y="230"/>
                  </a:lnTo>
                  <a:lnTo>
                    <a:pt x="4392048" y="772"/>
                  </a:lnTo>
                  <a:lnTo>
                    <a:pt x="4442430" y="1652"/>
                  </a:lnTo>
                  <a:lnTo>
                    <a:pt x="4492796" y="2868"/>
                  </a:lnTo>
                  <a:lnTo>
                    <a:pt x="4543146" y="4422"/>
                  </a:lnTo>
                  <a:lnTo>
                    <a:pt x="4593478" y="6313"/>
                  </a:lnTo>
                  <a:lnTo>
                    <a:pt x="4643789" y="8540"/>
                  </a:lnTo>
                  <a:lnTo>
                    <a:pt x="4694079" y="11103"/>
                  </a:lnTo>
                  <a:lnTo>
                    <a:pt x="4744345" y="14003"/>
                  </a:lnTo>
                  <a:lnTo>
                    <a:pt x="4794586" y="17239"/>
                  </a:lnTo>
                  <a:lnTo>
                    <a:pt x="4844800" y="20810"/>
                  </a:lnTo>
                  <a:lnTo>
                    <a:pt x="4894986" y="24717"/>
                  </a:lnTo>
                  <a:lnTo>
                    <a:pt x="4945141" y="28960"/>
                  </a:lnTo>
                  <a:lnTo>
                    <a:pt x="4995264" y="33538"/>
                  </a:lnTo>
                  <a:lnTo>
                    <a:pt x="5045354" y="38450"/>
                  </a:lnTo>
                  <a:lnTo>
                    <a:pt x="5095409" y="43698"/>
                  </a:lnTo>
                  <a:lnTo>
                    <a:pt x="5145426" y="49280"/>
                  </a:lnTo>
                  <a:lnTo>
                    <a:pt x="5195405" y="55197"/>
                  </a:lnTo>
                  <a:lnTo>
                    <a:pt x="5245343" y="61448"/>
                  </a:lnTo>
                  <a:lnTo>
                    <a:pt x="5295240" y="68033"/>
                  </a:lnTo>
                  <a:lnTo>
                    <a:pt x="5345092" y="74951"/>
                  </a:lnTo>
                  <a:lnTo>
                    <a:pt x="5394899" y="82204"/>
                  </a:lnTo>
                  <a:lnTo>
                    <a:pt x="5444659" y="89790"/>
                  </a:lnTo>
                  <a:lnTo>
                    <a:pt x="5494370" y="97709"/>
                  </a:lnTo>
                  <a:lnTo>
                    <a:pt x="5544031" y="105961"/>
                  </a:lnTo>
                  <a:lnTo>
                    <a:pt x="5593639" y="114546"/>
                  </a:lnTo>
                  <a:lnTo>
                    <a:pt x="5643194" y="123464"/>
                  </a:lnTo>
                  <a:lnTo>
                    <a:pt x="5692693" y="132714"/>
                  </a:lnTo>
                  <a:lnTo>
                    <a:pt x="5742134" y="142296"/>
                  </a:lnTo>
                  <a:lnTo>
                    <a:pt x="5791517" y="152211"/>
                  </a:lnTo>
                  <a:lnTo>
                    <a:pt x="5840839" y="162457"/>
                  </a:lnTo>
                  <a:lnTo>
                    <a:pt x="5890098" y="173035"/>
                  </a:lnTo>
                  <a:lnTo>
                    <a:pt x="5939294" y="183945"/>
                  </a:lnTo>
                  <a:lnTo>
                    <a:pt x="5988424" y="195186"/>
                  </a:lnTo>
                  <a:lnTo>
                    <a:pt x="6037856" y="206832"/>
                  </a:lnTo>
                  <a:lnTo>
                    <a:pt x="6087191" y="218874"/>
                  </a:lnTo>
                  <a:lnTo>
                    <a:pt x="6136425" y="231310"/>
                  </a:lnTo>
                  <a:lnTo>
                    <a:pt x="6185557" y="244139"/>
                  </a:lnTo>
                  <a:lnTo>
                    <a:pt x="6234583" y="257362"/>
                  </a:lnTo>
                  <a:lnTo>
                    <a:pt x="6283501" y="270977"/>
                  </a:lnTo>
                  <a:lnTo>
                    <a:pt x="6332309" y="284984"/>
                  </a:lnTo>
                  <a:lnTo>
                    <a:pt x="6381005" y="299381"/>
                  </a:lnTo>
                  <a:lnTo>
                    <a:pt x="6429585" y="314170"/>
                  </a:lnTo>
                  <a:lnTo>
                    <a:pt x="6478047" y="329349"/>
                  </a:lnTo>
                  <a:lnTo>
                    <a:pt x="6543639" y="350905"/>
                  </a:lnTo>
                  <a:lnTo>
                    <a:pt x="6608869" y="373557"/>
                  </a:lnTo>
                  <a:lnTo>
                    <a:pt x="6654069" y="390334"/>
                  </a:lnTo>
                  <a:lnTo>
                    <a:pt x="6702047" y="406926"/>
                  </a:lnTo>
                  <a:lnTo>
                    <a:pt x="6749739" y="424250"/>
                  </a:lnTo>
                  <a:lnTo>
                    <a:pt x="6797138" y="442303"/>
                  </a:lnTo>
                  <a:lnTo>
                    <a:pt x="6844235" y="461080"/>
                  </a:lnTo>
                  <a:lnTo>
                    <a:pt x="6891022" y="480578"/>
                  </a:lnTo>
                  <a:lnTo>
                    <a:pt x="6937491" y="500792"/>
                  </a:lnTo>
                  <a:lnTo>
                    <a:pt x="6983634" y="521719"/>
                  </a:lnTo>
                  <a:lnTo>
                    <a:pt x="7029442" y="543355"/>
                  </a:lnTo>
                  <a:lnTo>
                    <a:pt x="7074908" y="565695"/>
                  </a:lnTo>
                  <a:lnTo>
                    <a:pt x="7120023" y="588735"/>
                  </a:lnTo>
                  <a:lnTo>
                    <a:pt x="7164780" y="612472"/>
                  </a:lnTo>
                  <a:lnTo>
                    <a:pt x="7209169" y="636901"/>
                  </a:lnTo>
                  <a:lnTo>
                    <a:pt x="7253183" y="662018"/>
                  </a:lnTo>
                  <a:lnTo>
                    <a:pt x="7296814" y="687819"/>
                  </a:lnTo>
                  <a:lnTo>
                    <a:pt x="7340054" y="714301"/>
                  </a:lnTo>
                  <a:lnTo>
                    <a:pt x="7382894" y="741459"/>
                  </a:lnTo>
                  <a:lnTo>
                    <a:pt x="7425327" y="769289"/>
                  </a:lnTo>
                  <a:lnTo>
                    <a:pt x="7467914" y="798539"/>
                  </a:lnTo>
                  <a:lnTo>
                    <a:pt x="7509876" y="828620"/>
                  </a:lnTo>
                  <a:lnTo>
                    <a:pt x="7551203" y="859521"/>
                  </a:lnTo>
                  <a:lnTo>
                    <a:pt x="7591882" y="891231"/>
                  </a:lnTo>
                  <a:lnTo>
                    <a:pt x="7631903" y="923742"/>
                  </a:lnTo>
                  <a:lnTo>
                    <a:pt x="7671252" y="957041"/>
                  </a:lnTo>
                  <a:lnTo>
                    <a:pt x="7709920" y="991119"/>
                  </a:lnTo>
                  <a:lnTo>
                    <a:pt x="7747893" y="1025964"/>
                  </a:lnTo>
                  <a:lnTo>
                    <a:pt x="7785162" y="1061568"/>
                  </a:lnTo>
                  <a:lnTo>
                    <a:pt x="7821713" y="1097918"/>
                  </a:lnTo>
                  <a:lnTo>
                    <a:pt x="7857536" y="1135005"/>
                  </a:lnTo>
                  <a:lnTo>
                    <a:pt x="7892619" y="1172818"/>
                  </a:lnTo>
                  <a:lnTo>
                    <a:pt x="7926950" y="1211347"/>
                  </a:lnTo>
                  <a:lnTo>
                    <a:pt x="7960518" y="1250581"/>
                  </a:lnTo>
                  <a:lnTo>
                    <a:pt x="7992419" y="1290119"/>
                  </a:lnTo>
                  <a:lnTo>
                    <a:pt x="8023501" y="1330233"/>
                  </a:lnTo>
                  <a:lnTo>
                    <a:pt x="8053757" y="1370909"/>
                  </a:lnTo>
                  <a:lnTo>
                    <a:pt x="8083181" y="1412134"/>
                  </a:lnTo>
                  <a:lnTo>
                    <a:pt x="8111767" y="1453896"/>
                  </a:lnTo>
                  <a:lnTo>
                    <a:pt x="8139507" y="1496180"/>
                  </a:lnTo>
                  <a:lnTo>
                    <a:pt x="8166396" y="1538974"/>
                  </a:lnTo>
                  <a:lnTo>
                    <a:pt x="8192428" y="1582265"/>
                  </a:lnTo>
                  <a:lnTo>
                    <a:pt x="8217595" y="1626039"/>
                  </a:lnTo>
                  <a:lnTo>
                    <a:pt x="8241891" y="1670284"/>
                  </a:lnTo>
                  <a:lnTo>
                    <a:pt x="8265311" y="1714986"/>
                  </a:lnTo>
                  <a:lnTo>
                    <a:pt x="8287847" y="1760132"/>
                  </a:lnTo>
                  <a:lnTo>
                    <a:pt x="8309494" y="1805710"/>
                  </a:lnTo>
                  <a:lnTo>
                    <a:pt x="8330244" y="1851705"/>
                  </a:lnTo>
                  <a:lnTo>
                    <a:pt x="8350092" y="1898105"/>
                  </a:lnTo>
                  <a:lnTo>
                    <a:pt x="8369031" y="1944897"/>
                  </a:lnTo>
                  <a:lnTo>
                    <a:pt x="8387054" y="1992067"/>
                  </a:lnTo>
                  <a:lnTo>
                    <a:pt x="8404155" y="2039603"/>
                  </a:lnTo>
                  <a:lnTo>
                    <a:pt x="8420328" y="2087491"/>
                  </a:lnTo>
                  <a:lnTo>
                    <a:pt x="8435567" y="2135719"/>
                  </a:lnTo>
                  <a:lnTo>
                    <a:pt x="8449865" y="2184272"/>
                  </a:lnTo>
                  <a:lnTo>
                    <a:pt x="8463215" y="2233138"/>
                  </a:lnTo>
                  <a:lnTo>
                    <a:pt x="8475611" y="2282305"/>
                  </a:lnTo>
                  <a:lnTo>
                    <a:pt x="8487047" y="2331758"/>
                  </a:lnTo>
                  <a:lnTo>
                    <a:pt x="8498034" y="2382391"/>
                  </a:lnTo>
                  <a:lnTo>
                    <a:pt x="8508222" y="2433165"/>
                  </a:lnTo>
                  <a:lnTo>
                    <a:pt x="8517612" y="2484068"/>
                  </a:lnTo>
                  <a:lnTo>
                    <a:pt x="8526202" y="2535092"/>
                  </a:lnTo>
                  <a:lnTo>
                    <a:pt x="8533991" y="2586228"/>
                  </a:lnTo>
                  <a:lnTo>
                    <a:pt x="8540980" y="2637466"/>
                  </a:lnTo>
                  <a:lnTo>
                    <a:pt x="8547166" y="2688797"/>
                  </a:lnTo>
                  <a:lnTo>
                    <a:pt x="8552551" y="2740212"/>
                  </a:lnTo>
                  <a:lnTo>
                    <a:pt x="8557132" y="2791701"/>
                  </a:lnTo>
                  <a:lnTo>
                    <a:pt x="8560909" y="2843255"/>
                  </a:lnTo>
                  <a:lnTo>
                    <a:pt x="8563882" y="2894864"/>
                  </a:lnTo>
                  <a:lnTo>
                    <a:pt x="8566049" y="2946519"/>
                  </a:lnTo>
                  <a:lnTo>
                    <a:pt x="8567411" y="2998212"/>
                  </a:lnTo>
                  <a:lnTo>
                    <a:pt x="8567966" y="3049932"/>
                  </a:lnTo>
                  <a:lnTo>
                    <a:pt x="8567713" y="3101670"/>
                  </a:lnTo>
                  <a:lnTo>
                    <a:pt x="8566652" y="3153418"/>
                  </a:lnTo>
                  <a:lnTo>
                    <a:pt x="8564783" y="3205165"/>
                  </a:lnTo>
                  <a:lnTo>
                    <a:pt x="8562104" y="3256902"/>
                  </a:lnTo>
                  <a:lnTo>
                    <a:pt x="8559083" y="3304786"/>
                  </a:lnTo>
                  <a:lnTo>
                    <a:pt x="8555329" y="3352610"/>
                  </a:lnTo>
                  <a:lnTo>
                    <a:pt x="8550841" y="3400367"/>
                  </a:lnTo>
                  <a:lnTo>
                    <a:pt x="8545617" y="3448048"/>
                  </a:lnTo>
                  <a:lnTo>
                    <a:pt x="8539656" y="3495644"/>
                  </a:lnTo>
                  <a:lnTo>
                    <a:pt x="8532957" y="3543147"/>
                  </a:lnTo>
                  <a:lnTo>
                    <a:pt x="8526693" y="3582438"/>
                  </a:lnTo>
                  <a:lnTo>
                    <a:pt x="8519686" y="3621595"/>
                  </a:lnTo>
                  <a:lnTo>
                    <a:pt x="8514123" y="3649052"/>
                  </a:lnTo>
                  <a:lnTo>
                    <a:pt x="8507425" y="3698666"/>
                  </a:lnTo>
                  <a:lnTo>
                    <a:pt x="8500089" y="3748164"/>
                  </a:lnTo>
                  <a:lnTo>
                    <a:pt x="8492117" y="3797541"/>
                  </a:lnTo>
                  <a:lnTo>
                    <a:pt x="8483512" y="3846791"/>
                  </a:lnTo>
                  <a:lnTo>
                    <a:pt x="8474273" y="3895908"/>
                  </a:lnTo>
                  <a:lnTo>
                    <a:pt x="8464405" y="3944885"/>
                  </a:lnTo>
                  <a:lnTo>
                    <a:pt x="8453908" y="3993718"/>
                  </a:lnTo>
                  <a:lnTo>
                    <a:pt x="8442784" y="4042399"/>
                  </a:lnTo>
                  <a:lnTo>
                    <a:pt x="8431035" y="4090924"/>
                  </a:lnTo>
                  <a:lnTo>
                    <a:pt x="8418662" y="4139285"/>
                  </a:lnTo>
                  <a:lnTo>
                    <a:pt x="8405668" y="4187478"/>
                  </a:lnTo>
                  <a:lnTo>
                    <a:pt x="8392055" y="4235496"/>
                  </a:lnTo>
                  <a:lnTo>
                    <a:pt x="8377824" y="4283333"/>
                  </a:lnTo>
                  <a:lnTo>
                    <a:pt x="8362976" y="4330984"/>
                  </a:lnTo>
                  <a:lnTo>
                    <a:pt x="8347515" y="4378441"/>
                  </a:lnTo>
                  <a:lnTo>
                    <a:pt x="8331441" y="4425701"/>
                  </a:lnTo>
                  <a:lnTo>
                    <a:pt x="8314757" y="4472755"/>
                  </a:lnTo>
                  <a:lnTo>
                    <a:pt x="8297463" y="4519599"/>
                  </a:lnTo>
                  <a:lnTo>
                    <a:pt x="8279563" y="4566227"/>
                  </a:lnTo>
                  <a:lnTo>
                    <a:pt x="8261057" y="4612632"/>
                  </a:lnTo>
                  <a:lnTo>
                    <a:pt x="8241948" y="4658809"/>
                  </a:lnTo>
                  <a:lnTo>
                    <a:pt x="8222238" y="4704751"/>
                  </a:lnTo>
                  <a:lnTo>
                    <a:pt x="8201928" y="4750453"/>
                  </a:lnTo>
                  <a:lnTo>
                    <a:pt x="8181019" y="4795909"/>
                  </a:lnTo>
                  <a:lnTo>
                    <a:pt x="8159515" y="4841112"/>
                  </a:lnTo>
                  <a:lnTo>
                    <a:pt x="8137416" y="4886058"/>
                  </a:lnTo>
                  <a:lnTo>
                    <a:pt x="8114684" y="4931049"/>
                  </a:lnTo>
                  <a:lnTo>
                    <a:pt x="8091481" y="4975784"/>
                  </a:lnTo>
                  <a:lnTo>
                    <a:pt x="8067810" y="5020260"/>
                  </a:lnTo>
                  <a:lnTo>
                    <a:pt x="8043673" y="5064473"/>
                  </a:lnTo>
                  <a:lnTo>
                    <a:pt x="8019073" y="5108420"/>
                  </a:lnTo>
                  <a:lnTo>
                    <a:pt x="7994012" y="5152097"/>
                  </a:lnTo>
                  <a:lnTo>
                    <a:pt x="7968492" y="5195501"/>
                  </a:lnTo>
                  <a:lnTo>
                    <a:pt x="7942516" y="5238628"/>
                  </a:lnTo>
                  <a:lnTo>
                    <a:pt x="7916086" y="5281474"/>
                  </a:lnTo>
                  <a:lnTo>
                    <a:pt x="7889203" y="5324037"/>
                  </a:lnTo>
                  <a:lnTo>
                    <a:pt x="7861872" y="5366311"/>
                  </a:lnTo>
                  <a:lnTo>
                    <a:pt x="7834093" y="5408295"/>
                  </a:lnTo>
                  <a:lnTo>
                    <a:pt x="7805870" y="5449984"/>
                  </a:lnTo>
                  <a:lnTo>
                    <a:pt x="7777205" y="5491375"/>
                  </a:lnTo>
                  <a:lnTo>
                    <a:pt x="7748099" y="5532465"/>
                  </a:lnTo>
                  <a:lnTo>
                    <a:pt x="7718556" y="5573248"/>
                  </a:lnTo>
                  <a:lnTo>
                    <a:pt x="7688577" y="5613723"/>
                  </a:lnTo>
                  <a:lnTo>
                    <a:pt x="7658165" y="5653886"/>
                  </a:lnTo>
                  <a:lnTo>
                    <a:pt x="7627323" y="5693733"/>
                  </a:lnTo>
                  <a:lnTo>
                    <a:pt x="7596052" y="5733260"/>
                  </a:lnTo>
                  <a:lnTo>
                    <a:pt x="7564356" y="5772464"/>
                  </a:lnTo>
                  <a:lnTo>
                    <a:pt x="7532236" y="5811342"/>
                  </a:lnTo>
                  <a:lnTo>
                    <a:pt x="7499791" y="5850091"/>
                  </a:lnTo>
                  <a:lnTo>
                    <a:pt x="7466976" y="5888518"/>
                  </a:lnTo>
                  <a:lnTo>
                    <a:pt x="7433793" y="5926620"/>
                  </a:lnTo>
                  <a:lnTo>
                    <a:pt x="7400245" y="5964395"/>
                  </a:lnTo>
                  <a:lnTo>
                    <a:pt x="7366334" y="6001840"/>
                  </a:lnTo>
                  <a:lnTo>
                    <a:pt x="7332063" y="6038951"/>
                  </a:lnTo>
                  <a:lnTo>
                    <a:pt x="7297434" y="6075728"/>
                  </a:lnTo>
                  <a:lnTo>
                    <a:pt x="7262449" y="6112167"/>
                  </a:lnTo>
                  <a:lnTo>
                    <a:pt x="7227112" y="6148265"/>
                  </a:lnTo>
                  <a:lnTo>
                    <a:pt x="7191424" y="6184020"/>
                  </a:lnTo>
                  <a:lnTo>
                    <a:pt x="7155387" y="6219429"/>
                  </a:lnTo>
                  <a:lnTo>
                    <a:pt x="7119005" y="6254490"/>
                  </a:lnTo>
                  <a:lnTo>
                    <a:pt x="7082280" y="6289200"/>
                  </a:lnTo>
                  <a:lnTo>
                    <a:pt x="7045214" y="6323556"/>
                  </a:lnTo>
                  <a:lnTo>
                    <a:pt x="7007810" y="6357557"/>
                  </a:lnTo>
                  <a:lnTo>
                    <a:pt x="6970070" y="6391198"/>
                  </a:lnTo>
                  <a:lnTo>
                    <a:pt x="6934746" y="6422012"/>
                  </a:lnTo>
                  <a:lnTo>
                    <a:pt x="6899065" y="6452409"/>
                  </a:lnTo>
                  <a:lnTo>
                    <a:pt x="6863032" y="6482388"/>
                  </a:lnTo>
                  <a:lnTo>
                    <a:pt x="6826653" y="6511947"/>
                  </a:lnTo>
                  <a:lnTo>
                    <a:pt x="6789933" y="6541084"/>
                  </a:lnTo>
                  <a:lnTo>
                    <a:pt x="6752532" y="6569762"/>
                  </a:lnTo>
                  <a:lnTo>
                    <a:pt x="6695394" y="6611594"/>
                  </a:lnTo>
                  <a:lnTo>
                    <a:pt x="6654507" y="6623948"/>
                  </a:lnTo>
                  <a:lnTo>
                    <a:pt x="6633580" y="6619592"/>
                  </a:lnTo>
                  <a:lnTo>
                    <a:pt x="6614762" y="6608318"/>
                  </a:lnTo>
                  <a:lnTo>
                    <a:pt x="6576547" y="6575921"/>
                  </a:lnTo>
                  <a:lnTo>
                    <a:pt x="6537926" y="6544068"/>
                  </a:lnTo>
                  <a:lnTo>
                    <a:pt x="6498907" y="6512760"/>
                  </a:lnTo>
                  <a:lnTo>
                    <a:pt x="6459495" y="6482002"/>
                  </a:lnTo>
                  <a:lnTo>
                    <a:pt x="6419697" y="6451795"/>
                  </a:lnTo>
                  <a:lnTo>
                    <a:pt x="6379518" y="6422143"/>
                  </a:lnTo>
                  <a:lnTo>
                    <a:pt x="6338964" y="6393049"/>
                  </a:lnTo>
                  <a:lnTo>
                    <a:pt x="6298041" y="6364516"/>
                  </a:lnTo>
                  <a:lnTo>
                    <a:pt x="6256757" y="6336548"/>
                  </a:lnTo>
                  <a:lnTo>
                    <a:pt x="6215115" y="6309146"/>
                  </a:lnTo>
                  <a:lnTo>
                    <a:pt x="6173124" y="6282315"/>
                  </a:lnTo>
                  <a:lnTo>
                    <a:pt x="6130788" y="6256058"/>
                  </a:lnTo>
                  <a:lnTo>
                    <a:pt x="6088113" y="6230376"/>
                  </a:lnTo>
                  <a:lnTo>
                    <a:pt x="6045107" y="6205274"/>
                  </a:lnTo>
                  <a:lnTo>
                    <a:pt x="6001774" y="6180755"/>
                  </a:lnTo>
                  <a:lnTo>
                    <a:pt x="5958121" y="6156821"/>
                  </a:lnTo>
                  <a:lnTo>
                    <a:pt x="5914154" y="6133476"/>
                  </a:lnTo>
                  <a:lnTo>
                    <a:pt x="5869879" y="6110722"/>
                  </a:lnTo>
                  <a:lnTo>
                    <a:pt x="5825301" y="6088563"/>
                  </a:lnTo>
                  <a:lnTo>
                    <a:pt x="5780428" y="6067002"/>
                  </a:lnTo>
                  <a:lnTo>
                    <a:pt x="5735265" y="6046042"/>
                  </a:lnTo>
                  <a:lnTo>
                    <a:pt x="5689818" y="6025685"/>
                  </a:lnTo>
                  <a:lnTo>
                    <a:pt x="5644093" y="6005936"/>
                  </a:lnTo>
                  <a:lnTo>
                    <a:pt x="5598096" y="5986796"/>
                  </a:lnTo>
                  <a:lnTo>
                    <a:pt x="5551834" y="5968270"/>
                  </a:lnTo>
                  <a:lnTo>
                    <a:pt x="5505311" y="5950360"/>
                  </a:lnTo>
                  <a:lnTo>
                    <a:pt x="5458535" y="5933069"/>
                  </a:lnTo>
                  <a:lnTo>
                    <a:pt x="5411512" y="5916400"/>
                  </a:lnTo>
                  <a:lnTo>
                    <a:pt x="5364247" y="5900357"/>
                  </a:lnTo>
                  <a:lnTo>
                    <a:pt x="5316746" y="5884941"/>
                  </a:lnTo>
                  <a:lnTo>
                    <a:pt x="5269016" y="5870158"/>
                  </a:lnTo>
                  <a:lnTo>
                    <a:pt x="5221063" y="5856008"/>
                  </a:lnTo>
                  <a:lnTo>
                    <a:pt x="5172892" y="5842497"/>
                  </a:lnTo>
                  <a:lnTo>
                    <a:pt x="5124509" y="5829626"/>
                  </a:lnTo>
                  <a:lnTo>
                    <a:pt x="5075922" y="5817398"/>
                  </a:lnTo>
                  <a:lnTo>
                    <a:pt x="5027135" y="5805817"/>
                  </a:lnTo>
                  <a:lnTo>
                    <a:pt x="4979039" y="5795114"/>
                  </a:lnTo>
                  <a:lnTo>
                    <a:pt x="4930801" y="5785131"/>
                  </a:lnTo>
                  <a:lnTo>
                    <a:pt x="4882429" y="5775869"/>
                  </a:lnTo>
                  <a:lnTo>
                    <a:pt x="4833933" y="5767330"/>
                  </a:lnTo>
                  <a:lnTo>
                    <a:pt x="4785319" y="5759513"/>
                  </a:lnTo>
                  <a:lnTo>
                    <a:pt x="4736595" y="5752420"/>
                  </a:lnTo>
                  <a:lnTo>
                    <a:pt x="4687770" y="5746053"/>
                  </a:lnTo>
                  <a:lnTo>
                    <a:pt x="4638852" y="5740411"/>
                  </a:lnTo>
                  <a:lnTo>
                    <a:pt x="4589847" y="5735496"/>
                  </a:lnTo>
                  <a:lnTo>
                    <a:pt x="4540766" y="5731310"/>
                  </a:lnTo>
                  <a:lnTo>
                    <a:pt x="4491614" y="5727852"/>
                  </a:lnTo>
                  <a:lnTo>
                    <a:pt x="4416003" y="5724517"/>
                  </a:lnTo>
                  <a:lnTo>
                    <a:pt x="4340345" y="5723648"/>
                  </a:lnTo>
                  <a:lnTo>
                    <a:pt x="4318976" y="5723698"/>
                  </a:lnTo>
                  <a:lnTo>
                    <a:pt x="4283979" y="5723702"/>
                  </a:lnTo>
                  <a:lnTo>
                    <a:pt x="4248987" y="5723673"/>
                  </a:lnTo>
                  <a:lnTo>
                    <a:pt x="4227632" y="5723623"/>
                  </a:lnTo>
                  <a:close/>
                </a:path>
              </a:pathLst>
            </a:custGeom>
            <a:noFill/>
            <a:ln w="1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5640" indent="-3938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577880" indent="-314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20968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2:44:20Z</dcterms:created>
  <dc:creator>ugo</dc:creator>
  <dc:description/>
  <dc:language>en-US</dc:language>
  <cp:lastModifiedBy/>
  <cp:lastPrinted>2017-04-03T10:06:25Z</cp:lastPrinted>
  <dcterms:modified xsi:type="dcterms:W3CDTF">2024-08-22T09:08:29Z</dcterms:modified>
  <cp:revision>22</cp:revision>
  <dc:subject/>
  <dc:title/>
</cp:coreProperties>
</file>