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suprint.jp/studio/design_inquiry/regist.php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1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zh-TW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zh-TW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3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" name="Group 133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6" name="Line 55"/>
            <p:cNvSpPr/>
            <p:nvPr/>
          </p:nvSpPr>
          <p:spPr>
            <a:xfrm>
              <a:off x="41083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56"/>
            <p:cNvSpPr/>
            <p:nvPr/>
          </p:nvSpPr>
          <p:spPr>
            <a:xfrm>
              <a:off x="94536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9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1228104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12281040" y="914400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26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28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31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33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36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38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78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zh-TW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zh-TW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80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Group 133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83" name="Line 55"/>
            <p:cNvSpPr/>
            <p:nvPr/>
          </p:nvSpPr>
          <p:spPr>
            <a:xfrm>
              <a:off x="41083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56"/>
            <p:cNvSpPr/>
            <p:nvPr/>
          </p:nvSpPr>
          <p:spPr>
            <a:xfrm>
              <a:off x="94536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86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2"/>
          <p:cNvSpPr/>
          <p:nvPr/>
        </p:nvSpPr>
        <p:spPr>
          <a:xfrm>
            <a:off x="1228104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3"/>
          <p:cNvSpPr/>
          <p:nvPr/>
        </p:nvSpPr>
        <p:spPr>
          <a:xfrm>
            <a:off x="12281040" y="914400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103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105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108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110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113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115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グループ化 42"/>
          <p:cNvGrpSpPr/>
          <p:nvPr/>
        </p:nvGrpSpPr>
        <p:grpSpPr>
          <a:xfrm>
            <a:off x="0" y="54000"/>
            <a:ext cx="12123720" cy="8942400"/>
            <a:chOff x="0" y="54000"/>
            <a:chExt cx="12123720" cy="8942400"/>
          </a:xfrm>
        </p:grpSpPr>
        <p:grpSp>
          <p:nvGrpSpPr>
            <p:cNvPr id="119" name="グループ化 43"/>
            <p:cNvGrpSpPr/>
            <p:nvPr/>
          </p:nvGrpSpPr>
          <p:grpSpPr>
            <a:xfrm>
              <a:off x="0" y="54000"/>
              <a:ext cx="12123720" cy="8942400"/>
              <a:chOff x="0" y="54000"/>
              <a:chExt cx="12123720" cy="8942400"/>
            </a:xfrm>
          </p:grpSpPr>
          <p:grpSp>
            <p:nvGrpSpPr>
              <p:cNvPr id="120" name="Group 134"/>
              <p:cNvGrpSpPr/>
              <p:nvPr/>
            </p:nvGrpSpPr>
            <p:grpSpPr>
              <a:xfrm>
                <a:off x="0" y="54000"/>
                <a:ext cx="12123720" cy="8942400"/>
                <a:chOff x="0" y="54000"/>
                <a:chExt cx="12123720" cy="8942400"/>
              </a:xfrm>
            </p:grpSpPr>
            <p:grpSp>
              <p:nvGrpSpPr>
                <p:cNvPr id="121" name="Group 71"/>
                <p:cNvGrpSpPr/>
                <p:nvPr/>
              </p:nvGrpSpPr>
              <p:grpSpPr>
                <a:xfrm>
                  <a:off x="61920" y="2800440"/>
                  <a:ext cx="1260360" cy="539640"/>
                  <a:chOff x="61920" y="2800440"/>
                  <a:chExt cx="1260360" cy="539640"/>
                </a:xfrm>
              </p:grpSpPr>
              <p:sp>
                <p:nvSpPr>
                  <p:cNvPr id="122" name="Line 72"/>
                  <p:cNvSpPr/>
                  <p:nvPr/>
                </p:nvSpPr>
                <p:spPr>
                  <a:xfrm>
                    <a:off x="871560" y="3070440"/>
                    <a:ext cx="45072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Text Box 73"/>
                  <p:cNvSpPr/>
                  <p:nvPr/>
                </p:nvSpPr>
                <p:spPr>
                  <a:xfrm>
                    <a:off x="61920" y="2800440"/>
                    <a:ext cx="936360" cy="5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フチ無印刷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まで伸ば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4" name="Picture 77" descr="ぬりたし説明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3421080"/>
                  <a:ext cx="1017720" cy="280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5" name="Group 94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126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A4</a:t>
                    </a:r>
                    <a:r>
                      <a:rPr b="0" lang="ja-JP" sz="1100" spc="-1" strike="noStrike">
                        <a:solidFill>
                          <a:srgbClr val="000000"/>
                        </a:solidFill>
                        <a:latin typeface="Arial"/>
                      </a:rPr>
                      <a:t>チラシ 右 表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外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つ折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展開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297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仕上り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74.25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1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外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黒い線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まで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背景や画像を伸ばして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ください。（左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切れては困る絵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文字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内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水色の線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の中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に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など変換が正常に出来ない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、トンボの移動、変形などなさらないよう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説明用の枠などは削除してください。（削除の仕方は同封の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でご確認いただけます。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を作成する際は、テンプレートと同じサイズで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が作成されている事をご確認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28" name="Picture 91" descr="新Suprintロゴ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60" y="601560"/>
                    <a:ext cx="543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29" name="Group 130"/>
                <p:cNvGrpSpPr/>
                <p:nvPr/>
              </p:nvGrpSpPr>
              <p:grpSpPr>
                <a:xfrm>
                  <a:off x="61920" y="1546200"/>
                  <a:ext cx="11953800" cy="7342200"/>
                  <a:chOff x="61920" y="1546200"/>
                  <a:chExt cx="11953800" cy="7342200"/>
                </a:xfrm>
              </p:grpSpPr>
              <p:grpSp>
                <p:nvGrpSpPr>
                  <p:cNvPr id="130" name="Group 68"/>
                  <p:cNvGrpSpPr/>
                  <p:nvPr/>
                </p:nvGrpSpPr>
                <p:grpSpPr>
                  <a:xfrm>
                    <a:off x="61920" y="1987560"/>
                    <a:ext cx="1476360" cy="684360"/>
                    <a:chOff x="61920" y="1987560"/>
                    <a:chExt cx="1476360" cy="684360"/>
                  </a:xfrm>
                </p:grpSpPr>
                <p:sp>
                  <p:nvSpPr>
                    <p:cNvPr id="131" name="Line 69"/>
                    <p:cNvSpPr/>
                    <p:nvPr/>
                  </p:nvSpPr>
                  <p:spPr>
                    <a:xfrm>
                      <a:off x="871560" y="2328480"/>
                      <a:ext cx="66672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Text Box 70"/>
                    <p:cNvSpPr/>
                    <p:nvPr/>
                  </p:nvSpPr>
                  <p:spPr>
                    <a:xfrm>
                      <a:off x="61920" y="1987560"/>
                      <a:ext cx="93636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" name="Group 129"/>
                  <p:cNvGrpSpPr/>
                  <p:nvPr/>
                </p:nvGrpSpPr>
                <p:grpSpPr>
                  <a:xfrm>
                    <a:off x="1546200" y="1546200"/>
                    <a:ext cx="10469520" cy="7342200"/>
                    <a:chOff x="1546200" y="1546200"/>
                    <a:chExt cx="10469520" cy="7342200"/>
                  </a:xfrm>
                </p:grpSpPr>
                <p:sp>
                  <p:nvSpPr>
                    <p:cNvPr id="134" name="Rectangle 20"/>
                    <p:cNvSpPr/>
                    <p:nvPr/>
                  </p:nvSpPr>
                  <p:spPr>
                    <a:xfrm>
                      <a:off x="1546200" y="1546200"/>
                      <a:ext cx="245448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Rectangle 101"/>
                    <p:cNvSpPr/>
                    <p:nvPr/>
                  </p:nvSpPr>
                  <p:spPr>
                    <a:xfrm>
                      <a:off x="4216320" y="1546200"/>
                      <a:ext cx="245448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Rectangle 106"/>
                    <p:cNvSpPr/>
                    <p:nvPr/>
                  </p:nvSpPr>
                  <p:spPr>
                    <a:xfrm>
                      <a:off x="6891480" y="1546200"/>
                      <a:ext cx="245412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Rectangle 109"/>
                    <p:cNvSpPr/>
                    <p:nvPr/>
                  </p:nvSpPr>
                  <p:spPr>
                    <a:xfrm>
                      <a:off x="9561600" y="1546200"/>
                      <a:ext cx="245412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8" name="Group 132"/>
                <p:cNvGrpSpPr/>
                <p:nvPr/>
              </p:nvGrpSpPr>
              <p:grpSpPr>
                <a:xfrm>
                  <a:off x="61920" y="1314360"/>
                  <a:ext cx="12061800" cy="7682040"/>
                  <a:chOff x="61920" y="1314360"/>
                  <a:chExt cx="12061800" cy="7682040"/>
                </a:xfrm>
              </p:grpSpPr>
              <p:grpSp>
                <p:nvGrpSpPr>
                  <p:cNvPr id="139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140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仕上がり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でカット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" name="Group 131"/>
                  <p:cNvGrpSpPr/>
                  <p:nvPr/>
                </p:nvGrpSpPr>
                <p:grpSpPr>
                  <a:xfrm>
                    <a:off x="1438200" y="1438200"/>
                    <a:ext cx="10685520" cy="7558200"/>
                    <a:chOff x="1438200" y="1438200"/>
                    <a:chExt cx="10685520" cy="7558200"/>
                  </a:xfrm>
                </p:grpSpPr>
                <p:sp>
                  <p:nvSpPr>
                    <p:cNvPr id="143" name="Rectangle 19"/>
                    <p:cNvSpPr/>
                    <p:nvPr/>
                  </p:nvSpPr>
                  <p:spPr>
                    <a:xfrm>
                      <a:off x="1438200" y="1438200"/>
                      <a:ext cx="26701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Rectangle 102"/>
                    <p:cNvSpPr/>
                    <p:nvPr/>
                  </p:nvSpPr>
                  <p:spPr>
                    <a:xfrm>
                      <a:off x="4108320" y="1438200"/>
                      <a:ext cx="267048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Rectangle 107"/>
                    <p:cNvSpPr/>
                    <p:nvPr/>
                  </p:nvSpPr>
                  <p:spPr>
                    <a:xfrm>
                      <a:off x="6783480" y="1438200"/>
                      <a:ext cx="26701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Rectangle 110"/>
                    <p:cNvSpPr/>
                    <p:nvPr/>
                  </p:nvSpPr>
                  <p:spPr>
                    <a:xfrm>
                      <a:off x="9453600" y="1438200"/>
                      <a:ext cx="26701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pic>
            <p:nvPicPr>
              <p:cNvPr id="147" name="Picture 135" descr="外4右"/>
              <p:cNvPicPr/>
              <p:nvPr/>
            </p:nvPicPr>
            <p:blipFill>
              <a:blip r:embed="rId4"/>
              <a:stretch/>
            </p:blipFill>
            <p:spPr>
              <a:xfrm>
                <a:off x="5408640" y="114120"/>
                <a:ext cx="226800" cy="812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8" name="図 44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121440" y="71280"/>
              <a:ext cx="38131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User</dc:creator>
  <dc:description/>
  <dc:language>en-US</dc:language>
  <cp:lastModifiedBy>ugo-99</cp:lastModifiedBy>
  <dcterms:modified xsi:type="dcterms:W3CDTF">2015-08-25T08:12:51Z</dcterms:modified>
  <cp:revision>14</cp:revision>
  <dc:subject/>
  <dc:title>スライド 1</dc:title>
</cp:coreProperties>
</file>