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pic>
          <p:nvPicPr>
            <p:cNvPr id="119" name="図 43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グループ化 44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1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2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3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5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6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7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9" name="Picture 68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0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1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2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5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4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4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8" name="Picture 108" descr="外4天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377640"/>
                <a:ext cx="806400" cy="22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7:53Z</dcterms:modified>
  <cp:revision>10</cp:revision>
  <dc:subject/>
  <dc:title>スライド 1</dc:title>
</cp:coreProperties>
</file>