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1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6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6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8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1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3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6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8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78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80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83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914400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9144000" y="122810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103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05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08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10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13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115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0366200" cy="12069720"/>
            <a:chOff x="0" y="54000"/>
            <a:chExt cx="10366200" cy="1206972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8997840" cy="12069720"/>
              <a:chOff x="0" y="54000"/>
              <a:chExt cx="8997840" cy="12069720"/>
            </a:xfrm>
          </p:grpSpPr>
          <p:grpSp>
            <p:nvGrpSpPr>
              <p:cNvPr id="120" name="Group 107"/>
              <p:cNvGrpSpPr/>
              <p:nvPr/>
            </p:nvGrpSpPr>
            <p:grpSpPr>
              <a:xfrm>
                <a:off x="0" y="54000"/>
                <a:ext cx="8997840" cy="12069720"/>
                <a:chOff x="0" y="54000"/>
                <a:chExt cx="8997840" cy="1206972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65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地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68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05"/>
                <p:cNvGrpSpPr/>
                <p:nvPr/>
              </p:nvGrpSpPr>
              <p:grpSpPr>
                <a:xfrm>
                  <a:off x="61920" y="1547640"/>
                  <a:ext cx="8827920" cy="10469880"/>
                  <a:chOff x="61920" y="1547640"/>
                  <a:chExt cx="8827920" cy="1046988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03"/>
                  <p:cNvGrpSpPr/>
                  <p:nvPr/>
                </p:nvGrpSpPr>
                <p:grpSpPr>
                  <a:xfrm>
                    <a:off x="1547640" y="1547640"/>
                    <a:ext cx="7342200" cy="10469880"/>
                    <a:chOff x="1547640" y="1547640"/>
                    <a:chExt cx="7342200" cy="1046988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7640" y="15476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74"/>
                    <p:cNvSpPr/>
                    <p:nvPr/>
                  </p:nvSpPr>
                  <p:spPr>
                    <a:xfrm>
                      <a:off x="1547640" y="42181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78"/>
                    <p:cNvSpPr/>
                    <p:nvPr/>
                  </p:nvSpPr>
                  <p:spPr>
                    <a:xfrm>
                      <a:off x="1547640" y="6892920"/>
                      <a:ext cx="7342200" cy="2454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81"/>
                    <p:cNvSpPr/>
                    <p:nvPr/>
                  </p:nvSpPr>
                  <p:spPr>
                    <a:xfrm>
                      <a:off x="1547640" y="9563040"/>
                      <a:ext cx="7342200" cy="2454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06"/>
                <p:cNvGrpSpPr/>
                <p:nvPr/>
              </p:nvGrpSpPr>
              <p:grpSpPr>
                <a:xfrm>
                  <a:off x="61920" y="1314360"/>
                  <a:ext cx="8935920" cy="10809360"/>
                  <a:chOff x="61920" y="1314360"/>
                  <a:chExt cx="8935920" cy="1080936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04"/>
                  <p:cNvGrpSpPr/>
                  <p:nvPr/>
                </p:nvGrpSpPr>
                <p:grpSpPr>
                  <a:xfrm>
                    <a:off x="1440000" y="1438200"/>
                    <a:ext cx="7557840" cy="10685520"/>
                    <a:chOff x="1440000" y="1438200"/>
                    <a:chExt cx="7557840" cy="1068552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40000" y="14382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75"/>
                    <p:cNvSpPr/>
                    <p:nvPr/>
                  </p:nvSpPr>
                  <p:spPr>
                    <a:xfrm>
                      <a:off x="1440000" y="4108320"/>
                      <a:ext cx="7557840" cy="26704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79"/>
                    <p:cNvSpPr/>
                    <p:nvPr/>
                  </p:nvSpPr>
                  <p:spPr>
                    <a:xfrm>
                      <a:off x="1440000" y="678348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82"/>
                    <p:cNvSpPr/>
                    <p:nvPr/>
                  </p:nvSpPr>
                  <p:spPr>
                    <a:xfrm>
                      <a:off x="1440000" y="9453600"/>
                      <a:ext cx="7557840" cy="26701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08" descr="巻き4地"/>
              <p:cNvPicPr/>
              <p:nvPr/>
            </p:nvPicPr>
            <p:blipFill>
              <a:blip r:embed="rId4"/>
              <a:stretch/>
            </p:blipFill>
            <p:spPr>
              <a:xfrm>
                <a:off x="5400720" y="377640"/>
                <a:ext cx="755640" cy="244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User</dc:creator>
  <dc:description/>
  <dc:language>en-US</dc:language>
  <cp:lastModifiedBy>ugo-99</cp:lastModifiedBy>
  <dcterms:modified xsi:type="dcterms:W3CDTF">2015-08-25T07:39:20Z</dcterms:modified>
  <cp:revision>10</cp:revision>
  <dc:subject/>
  <dc:title>スライド 1</dc:title>
</cp:coreProperties>
</file>