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1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3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57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8636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5037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72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24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26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67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69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57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2" name="Line 24"/>
            <p:cNvSpPr/>
            <p:nvPr/>
          </p:nvSpPr>
          <p:spPr>
            <a:xfrm>
              <a:off x="1079640" y="8636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>
              <a:off x="1079640" y="5037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75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2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90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92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グループ化 31"/>
          <p:cNvGrpSpPr/>
          <p:nvPr/>
        </p:nvGrpSpPr>
        <p:grpSpPr>
          <a:xfrm>
            <a:off x="0" y="54000"/>
            <a:ext cx="10366200" cy="12074040"/>
            <a:chOff x="0" y="54000"/>
            <a:chExt cx="10366200" cy="12074040"/>
          </a:xfrm>
        </p:grpSpPr>
        <p:grpSp>
          <p:nvGrpSpPr>
            <p:cNvPr id="97" name="グループ化 32"/>
            <p:cNvGrpSpPr/>
            <p:nvPr/>
          </p:nvGrpSpPr>
          <p:grpSpPr>
            <a:xfrm>
              <a:off x="0" y="54000"/>
              <a:ext cx="9427320" cy="12074040"/>
              <a:chOff x="0" y="54000"/>
              <a:chExt cx="9427320" cy="12074040"/>
            </a:xfrm>
          </p:grpSpPr>
          <p:grpSp>
            <p:nvGrpSpPr>
              <p:cNvPr id="98" name="グループ化 34"/>
              <p:cNvGrpSpPr/>
              <p:nvPr/>
            </p:nvGrpSpPr>
            <p:grpSpPr>
              <a:xfrm>
                <a:off x="61560" y="1546200"/>
                <a:ext cx="8828280" cy="3382920"/>
                <a:chOff x="61560" y="1546200"/>
                <a:chExt cx="8828280" cy="3382920"/>
              </a:xfrm>
            </p:grpSpPr>
            <p:sp>
              <p:nvSpPr>
                <p:cNvPr id="99" name="Rectangle 32"/>
                <p:cNvSpPr/>
                <p:nvPr/>
              </p:nvSpPr>
              <p:spPr>
                <a:xfrm>
                  <a:off x="1547280" y="1546200"/>
                  <a:ext cx="7342560" cy="3382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68"/>
                <p:cNvGrpSpPr/>
                <p:nvPr/>
              </p:nvGrpSpPr>
              <p:grpSpPr>
                <a:xfrm>
                  <a:off x="61560" y="1987560"/>
                  <a:ext cx="1476360" cy="684000"/>
                  <a:chOff x="61560" y="1987560"/>
                  <a:chExt cx="1476360" cy="684000"/>
                </a:xfrm>
              </p:grpSpPr>
              <p:sp>
                <p:nvSpPr>
                  <p:cNvPr id="101" name="Line 69"/>
                  <p:cNvSpPr/>
                  <p:nvPr/>
                </p:nvSpPr>
                <p:spPr>
                  <a:xfrm>
                    <a:off x="87120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Text Box 70"/>
                  <p:cNvSpPr/>
                  <p:nvPr/>
                </p:nvSpPr>
                <p:spPr>
                  <a:xfrm>
                    <a:off x="61560" y="198756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Group 71"/>
              <p:cNvGrpSpPr/>
              <p:nvPr/>
            </p:nvGrpSpPr>
            <p:grpSpPr>
              <a:xfrm>
                <a:off x="61560" y="2800080"/>
                <a:ext cx="1260360" cy="539640"/>
                <a:chOff x="61560" y="2800080"/>
                <a:chExt cx="1260360" cy="539640"/>
              </a:xfrm>
            </p:grpSpPr>
            <p:sp>
              <p:nvSpPr>
                <p:cNvPr id="104" name="Line 72"/>
                <p:cNvSpPr/>
                <p:nvPr/>
              </p:nvSpPr>
              <p:spPr>
                <a:xfrm>
                  <a:off x="871200" y="307008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 Box 73"/>
                <p:cNvSpPr/>
                <p:nvPr/>
              </p:nvSpPr>
              <p:spPr>
                <a:xfrm>
                  <a:off x="61560" y="280008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グループ化 36"/>
              <p:cNvGrpSpPr/>
              <p:nvPr/>
            </p:nvGrpSpPr>
            <p:grpSpPr>
              <a:xfrm>
                <a:off x="61560" y="1314360"/>
                <a:ext cx="8935920" cy="3722760"/>
                <a:chOff x="61560" y="1314360"/>
                <a:chExt cx="8935920" cy="3722760"/>
              </a:xfrm>
            </p:grpSpPr>
            <p:sp>
              <p:nvSpPr>
                <p:cNvPr id="107" name="Rectangle 31"/>
                <p:cNvSpPr/>
                <p:nvPr/>
              </p:nvSpPr>
              <p:spPr>
                <a:xfrm>
                  <a:off x="1439280" y="1437840"/>
                  <a:ext cx="7558200" cy="359928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Group 74"/>
                <p:cNvGrpSpPr/>
                <p:nvPr/>
              </p:nvGrpSpPr>
              <p:grpSpPr>
                <a:xfrm>
                  <a:off x="61560" y="1314360"/>
                  <a:ext cx="1368360" cy="544320"/>
                  <a:chOff x="61560" y="1314360"/>
                  <a:chExt cx="1368360" cy="544320"/>
                </a:xfrm>
              </p:grpSpPr>
              <p:sp>
                <p:nvSpPr>
                  <p:cNvPr id="109" name="Line 75"/>
                  <p:cNvSpPr/>
                  <p:nvPr/>
                </p:nvSpPr>
                <p:spPr>
                  <a:xfrm>
                    <a:off x="871200" y="158724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Text Box 76"/>
                  <p:cNvSpPr/>
                  <p:nvPr/>
                </p:nvSpPr>
                <p:spPr>
                  <a:xfrm>
                    <a:off x="61560" y="131436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11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0" y="342108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" name="Group 68"/>
              <p:cNvGrpSpPr/>
              <p:nvPr/>
            </p:nvGrpSpPr>
            <p:grpSpPr>
              <a:xfrm>
                <a:off x="53640" y="54000"/>
                <a:ext cx="5065560" cy="900000"/>
                <a:chOff x="53640" y="54000"/>
                <a:chExt cx="5065560" cy="900000"/>
              </a:xfrm>
            </p:grpSpPr>
            <p:sp>
              <p:nvSpPr>
                <p:cNvPr id="113" name="Rectangle 65"/>
                <p:cNvSpPr/>
                <p:nvPr/>
              </p:nvSpPr>
              <p:spPr>
                <a:xfrm>
                  <a:off x="5364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0" lang="ja-JP" sz="1100" spc="-1" strike="noStrike">
                      <a:solidFill>
                        <a:srgbClr val="000000"/>
                      </a:solidFill>
                      <a:latin typeface="Arial"/>
                    </a:rPr>
                    <a:t>チラシ 地 表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800" spc="-1" strike="noStrike">
                      <a:solidFill>
                        <a:srgbClr val="000000"/>
                      </a:solidFill>
                      <a:latin typeface="Arial"/>
                    </a:rPr>
                    <a:t>巻き３つ折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展開サイズ 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97×210mm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仕上りサイズ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00×210mm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67"/>
                <p:cNvSpPr/>
                <p:nvPr/>
              </p:nvSpPr>
              <p:spPr>
                <a:xfrm>
                  <a:off x="138384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は、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外側の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黒い線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まで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背景や画像を伸ばして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くだ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切れては困る絵柄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文字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は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内側の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水色の線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の中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に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など変換が正常に出来ない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や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ゴシック"/>
                      <a:ea typeface="Times New Roman"/>
                    </a:rPr>
                    <a:t>、トンボの移動、変形などなさらないよう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説明用の枠などは削除してください。（削除の仕方は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でご確認いただけます。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を作成する際は、テンプレートと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が作成されている事をご確認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5" name="Picture 71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000" y="601560"/>
                  <a:ext cx="54324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6" name="Picture 74" descr="巻き三地"/>
              <p:cNvPicPr/>
              <p:nvPr/>
            </p:nvPicPr>
            <p:blipFill>
              <a:blip r:embed="rId4"/>
              <a:stretch/>
            </p:blipFill>
            <p:spPr>
              <a:xfrm>
                <a:off x="5359320" y="306360"/>
                <a:ext cx="81756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Rectangle 33"/>
              <p:cNvSpPr/>
              <p:nvPr/>
            </p:nvSpPr>
            <p:spPr>
              <a:xfrm>
                <a:off x="1439640" y="5037120"/>
                <a:ext cx="7558200" cy="359892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4"/>
              <p:cNvSpPr/>
              <p:nvPr/>
            </p:nvSpPr>
            <p:spPr>
              <a:xfrm>
                <a:off x="1547640" y="5145120"/>
                <a:ext cx="7342200" cy="3382920"/>
              </a:xfrm>
              <a:prstGeom prst="rect">
                <a:avLst/>
              </a:prstGeom>
              <a:noFill/>
              <a:ln w="3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55"/>
              <p:cNvGrpSpPr/>
              <p:nvPr/>
            </p:nvGrpSpPr>
            <p:grpSpPr>
              <a:xfrm>
                <a:off x="1439640" y="8636040"/>
                <a:ext cx="7987680" cy="3492000"/>
                <a:chOff x="1439640" y="8636040"/>
                <a:chExt cx="7987680" cy="3492000"/>
              </a:xfrm>
            </p:grpSpPr>
            <p:grpSp>
              <p:nvGrpSpPr>
                <p:cNvPr id="120" name="Group 51"/>
                <p:cNvGrpSpPr/>
                <p:nvPr/>
              </p:nvGrpSpPr>
              <p:grpSpPr>
                <a:xfrm>
                  <a:off x="9104040" y="8636040"/>
                  <a:ext cx="323280" cy="3490560"/>
                  <a:chOff x="9104040" y="8636040"/>
                  <a:chExt cx="323280" cy="3490560"/>
                </a:xfrm>
              </p:grpSpPr>
              <p:sp>
                <p:nvSpPr>
                  <p:cNvPr id="121" name="Text Box 36"/>
                  <p:cNvSpPr/>
                  <p:nvPr/>
                </p:nvSpPr>
                <p:spPr>
                  <a:xfrm>
                    <a:off x="9104040" y="8636040"/>
                    <a:ext cx="179280" cy="34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60000" bIns="360000" anchor="t" anchorCtr="1" vert="eaVert">
                    <a:noAutofit/>
                  </a:bodyPr>
                  <a:p>
                    <a:pPr algn="ctr">
                      <a:spcBef>
                        <a:spcPts val="624"/>
                      </a:spcBef>
                      <a:tabLst>
                        <a:tab algn="l" pos="0"/>
                        <a:tab algn="l" pos="1371600"/>
                        <a:tab algn="l" pos="2743200"/>
                        <a:tab algn="l" pos="4114800"/>
                        <a:tab algn="l" pos="5486400"/>
                        <a:tab algn="l" pos="6858000"/>
                        <a:tab algn="l" pos="8229600"/>
                        <a:tab algn="l" pos="96012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〈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Arial"/>
                      </a:rPr>
                      <a:t>中に巻き込まれる面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〉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2" name="Group 46"/>
                  <p:cNvGrpSpPr/>
                  <p:nvPr/>
                </p:nvGrpSpPr>
                <p:grpSpPr>
                  <a:xfrm>
                    <a:off x="9282960" y="8636040"/>
                    <a:ext cx="144360" cy="3490560"/>
                    <a:chOff x="9282960" y="8636040"/>
                    <a:chExt cx="144360" cy="3490560"/>
                  </a:xfrm>
                </p:grpSpPr>
                <p:sp>
                  <p:nvSpPr>
                    <p:cNvPr id="123" name="Line 39"/>
                    <p:cNvSpPr/>
                    <p:nvPr/>
                  </p:nvSpPr>
                  <p:spPr>
                    <a:xfrm>
                      <a:off x="9356400" y="8636040"/>
                      <a:ext cx="0" cy="3490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Text Box 44"/>
                    <p:cNvSpPr/>
                    <p:nvPr/>
                  </p:nvSpPr>
                  <p:spPr>
                    <a:xfrm rot="5400000">
                      <a:off x="9103680" y="10308960"/>
                      <a:ext cx="502920" cy="14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371600"/>
                          <a:tab algn="l" pos="2743200"/>
                          <a:tab algn="l" pos="4114800"/>
                          <a:tab algn="l" pos="5486400"/>
                          <a:tab algn="l" pos="6858000"/>
                          <a:tab algn="l" pos="8229600"/>
                          <a:tab algn="l" pos="9601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5" name="Rectangle 19"/>
                <p:cNvSpPr/>
                <p:nvPr/>
              </p:nvSpPr>
              <p:spPr>
                <a:xfrm>
                  <a:off x="1439640" y="8637480"/>
                  <a:ext cx="7557840" cy="3490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20"/>
                <p:cNvSpPr/>
                <p:nvPr/>
              </p:nvSpPr>
              <p:spPr>
                <a:xfrm>
                  <a:off x="1547280" y="8745120"/>
                  <a:ext cx="7342200" cy="3274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7" name="図 1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32:30Z</dcterms:modified>
  <cp:revision>13</cp:revision>
  <dc:subject/>
  <dc:title>スライド 1</dc:title>
</cp:coreProperties>
</file>