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59338" cy="828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3000" y="444564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84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72188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20040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4300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72188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20040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43000" y="330120"/>
            <a:ext cx="437364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484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3000" y="444564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484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72188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00400" y="193752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4300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172188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3200400" y="4445640"/>
            <a:ext cx="14079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43000" y="330120"/>
            <a:ext cx="437364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84000" y="444564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84000" y="1937520"/>
            <a:ext cx="21340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" y="4445640"/>
            <a:ext cx="43736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41403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6838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69483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243036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342108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352908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2197080" cy="56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6"/>
          <p:cNvSpPr/>
          <p:nvPr/>
        </p:nvSpPr>
        <p:spPr>
          <a:xfrm>
            <a:off x="1079640" y="1332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7"/>
          <p:cNvSpPr/>
          <p:nvPr/>
        </p:nvSpPr>
        <p:spPr>
          <a:xfrm>
            <a:off x="1079640" y="1440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1079640" y="41403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1079640" y="6838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>
            <a:off x="1079640" y="69483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1"/>
          <p:cNvSpPr/>
          <p:nvPr/>
        </p:nvSpPr>
        <p:spPr>
          <a:xfrm>
            <a:off x="133200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144000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3"/>
          <p:cNvSpPr/>
          <p:nvPr/>
        </p:nvSpPr>
        <p:spPr>
          <a:xfrm>
            <a:off x="243036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4"/>
          <p:cNvSpPr/>
          <p:nvPr/>
        </p:nvSpPr>
        <p:spPr>
          <a:xfrm>
            <a:off x="342108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3529080" y="1079640"/>
            <a:ext cx="0" cy="612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6"/>
          <p:cNvSpPr/>
          <p:nvPr/>
        </p:nvSpPr>
        <p:spPr>
          <a:xfrm>
            <a:off x="1332000" y="1332000"/>
            <a:ext cx="2197080" cy="56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17"/>
          <p:cNvGrpSpPr/>
          <p:nvPr/>
        </p:nvGrpSpPr>
        <p:grpSpPr>
          <a:xfrm>
            <a:off x="-17640" y="36360"/>
            <a:ext cx="4842000" cy="8202600"/>
            <a:chOff x="-17640" y="36360"/>
            <a:chExt cx="4842000" cy="8202600"/>
          </a:xfrm>
        </p:grpSpPr>
        <p:sp>
          <p:nvSpPr>
            <p:cNvPr id="61" name="正方形/長方形 18"/>
            <p:cNvSpPr/>
            <p:nvPr/>
          </p:nvSpPr>
          <p:spPr>
            <a:xfrm>
              <a:off x="1440000" y="1440000"/>
              <a:ext cx="1980720" cy="54007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正方形/長方形 20"/>
            <p:cNvSpPr/>
            <p:nvPr/>
          </p:nvSpPr>
          <p:spPr>
            <a:xfrm>
              <a:off x="1548000" y="1548000"/>
              <a:ext cx="1764720" cy="5184360"/>
            </a:xfrm>
            <a:prstGeom prst="rect">
              <a:avLst/>
            </a:prstGeom>
            <a:noFill/>
            <a:ln w="3240">
              <a:solidFill>
                <a:srgbClr val="00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" name="Group 80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64" name="Line 81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Text Box 82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6" name="Picture 88" descr="ぬりたし説明"/>
            <p:cNvPicPr/>
            <p:nvPr/>
          </p:nvPicPr>
          <p:blipFill>
            <a:blip r:embed="rId2"/>
            <a:stretch/>
          </p:blipFill>
          <p:spPr>
            <a:xfrm>
              <a:off x="-17640" y="3952800"/>
              <a:ext cx="1008000" cy="277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Group 43"/>
            <p:cNvGrpSpPr/>
            <p:nvPr/>
          </p:nvGrpSpPr>
          <p:grpSpPr>
            <a:xfrm>
              <a:off x="36360" y="36360"/>
              <a:ext cx="4788000" cy="900000"/>
              <a:chOff x="36360" y="36360"/>
              <a:chExt cx="4788000" cy="900000"/>
            </a:xfrm>
          </p:grpSpPr>
          <p:sp>
            <p:nvSpPr>
              <p:cNvPr id="68" name="Rectangle 65"/>
              <p:cNvSpPr/>
              <p:nvPr/>
            </p:nvSpPr>
            <p:spPr>
              <a:xfrm>
                <a:off x="36360" y="36360"/>
                <a:ext cx="107964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チケット　縦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財布サイズ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150×55mm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Text Box 67"/>
              <p:cNvSpPr/>
              <p:nvPr/>
            </p:nvSpPr>
            <p:spPr>
              <a:xfrm>
                <a:off x="1116000" y="36360"/>
                <a:ext cx="3708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0" name="Picture 46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694800"/>
                <a:ext cx="32544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Group 85"/>
            <p:cNvGrpSpPr/>
            <p:nvPr/>
          </p:nvGrpSpPr>
          <p:grpSpPr>
            <a:xfrm>
              <a:off x="61920" y="1314360"/>
              <a:ext cx="1368360" cy="544320"/>
              <a:chOff x="61920" y="1314360"/>
              <a:chExt cx="1368360" cy="544320"/>
            </a:xfrm>
          </p:grpSpPr>
          <p:sp>
            <p:nvSpPr>
              <p:cNvPr id="72" name="Line 86"/>
              <p:cNvSpPr/>
              <p:nvPr/>
            </p:nvSpPr>
            <p:spPr>
              <a:xfrm>
                <a:off x="871560" y="1587240"/>
                <a:ext cx="55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Text Box 87"/>
              <p:cNvSpPr/>
              <p:nvPr/>
            </p:nvSpPr>
            <p:spPr>
              <a:xfrm>
                <a:off x="61920" y="1314360"/>
                <a:ext cx="93636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グループ化 25"/>
            <p:cNvGrpSpPr/>
            <p:nvPr/>
          </p:nvGrpSpPr>
          <p:grpSpPr>
            <a:xfrm>
              <a:off x="61920" y="1987560"/>
              <a:ext cx="1476360" cy="543600"/>
              <a:chOff x="61920" y="1987560"/>
              <a:chExt cx="1476360" cy="543600"/>
            </a:xfrm>
          </p:grpSpPr>
          <p:sp>
            <p:nvSpPr>
              <p:cNvPr id="75" name="Line 78"/>
              <p:cNvSpPr/>
              <p:nvPr/>
            </p:nvSpPr>
            <p:spPr>
              <a:xfrm>
                <a:off x="871560" y="2259360"/>
                <a:ext cx="666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Text Box 79"/>
              <p:cNvSpPr/>
              <p:nvPr/>
            </p:nvSpPr>
            <p:spPr>
              <a:xfrm>
                <a:off x="61920" y="1987560"/>
                <a:ext cx="936720" cy="54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切れては困る物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水色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の線の内側に配置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グループ化 26"/>
            <p:cNvGrpSpPr/>
            <p:nvPr/>
          </p:nvGrpSpPr>
          <p:grpSpPr>
            <a:xfrm>
              <a:off x="47520" y="7302960"/>
              <a:ext cx="4752000" cy="936000"/>
              <a:chOff x="47520" y="7302960"/>
              <a:chExt cx="4752000" cy="936000"/>
            </a:xfrm>
          </p:grpSpPr>
          <p:sp>
            <p:nvSpPr>
              <p:cNvPr id="78" name="Text Box 63"/>
              <p:cNvSpPr/>
              <p:nvPr/>
            </p:nvSpPr>
            <p:spPr>
              <a:xfrm>
                <a:off x="47520" y="7302960"/>
                <a:ext cx="4752000" cy="93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908000" tIns="18000" bIns="72000" anchor="t">
                <a:noAutofit/>
              </a:bodyPr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ミシン目を入れる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ナンバリングの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＋数字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6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ケタ表記で、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場合でも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00000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ように必ずゼロが付きます。番号は全て開始番号から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連番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対応とな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タテ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10mm×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ヨコ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3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の固定サイズ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その中にセンター揃えで配置され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必ず白で抜けた状態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作成してください。同時に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文字の書体は固定で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色は黒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印刷となります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9" name="図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2936160" y="7321680"/>
                <a:ext cx="92736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図 29" descr=""/>
              <p:cNvPicPr/>
              <p:nvPr/>
            </p:nvPicPr>
            <p:blipFill>
              <a:blip r:embed="rId5"/>
              <a:srcRect l="0" t="0" r="0" b="23914"/>
              <a:stretch/>
            </p:blipFill>
            <p:spPr>
              <a:xfrm>
                <a:off x="3884040" y="7319160"/>
                <a:ext cx="897120" cy="31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図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3938040" y="7642080"/>
                <a:ext cx="853560" cy="58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000" y="330120"/>
            <a:ext cx="43736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43000" y="1937520"/>
            <a:ext cx="43736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01:31:01Z</dcterms:created>
  <dc:creator>ugo-99</dc:creator>
  <dc:description/>
  <dc:language>en-US</dc:language>
  <cp:lastModifiedBy>ugo-99</cp:lastModifiedBy>
  <dcterms:modified xsi:type="dcterms:W3CDTF">2016-06-23T09:03:02Z</dcterms:modified>
  <cp:revision>2</cp:revision>
  <dc:subject/>
  <dc:title>PowerPoint プレゼンテーション</dc:title>
</cp:coreProperties>
</file>