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280400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3328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5292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1400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3328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5292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4000" y="193680"/>
            <a:ext cx="74516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3328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52920" y="113724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400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3328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52920" y="2609280"/>
            <a:ext cx="2399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4000" y="193680"/>
            <a:ext cx="74516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32520" y="260928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2520" y="1137240"/>
            <a:ext cx="3636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2609280"/>
            <a:ext cx="7451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243036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3421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3529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4140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68389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6948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5616360" cy="219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243036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3421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3529080"/>
            <a:ext cx="612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4140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68389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6948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5616360" cy="219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54000" y="54000"/>
            <a:ext cx="8226360" cy="4772160"/>
            <a:chOff x="54000" y="54000"/>
            <a:chExt cx="8226360" cy="4772160"/>
          </a:xfrm>
        </p:grpSpPr>
        <p:grpSp>
          <p:nvGrpSpPr>
            <p:cNvPr id="61" name="Group 80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62" name="Line 81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82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7272360" y="1079280"/>
              <a:ext cx="1008000" cy="277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3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66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チケット　横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財布サイズ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0×55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8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5160"/>
                <a:ext cx="325440" cy="2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グループ化 23"/>
            <p:cNvGrpSpPr/>
            <p:nvPr/>
          </p:nvGrpSpPr>
          <p:grpSpPr>
            <a:xfrm>
              <a:off x="61920" y="1314360"/>
              <a:ext cx="6778440" cy="2106360"/>
              <a:chOff x="61920" y="1314360"/>
              <a:chExt cx="6778440" cy="2106360"/>
            </a:xfrm>
          </p:grpSpPr>
          <p:sp>
            <p:nvSpPr>
              <p:cNvPr id="71" name="正方形/長方形 34"/>
              <p:cNvSpPr/>
              <p:nvPr/>
            </p:nvSpPr>
            <p:spPr>
              <a:xfrm>
                <a:off x="1440000" y="1440000"/>
                <a:ext cx="5400360" cy="198072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2" name="Group 85"/>
              <p:cNvGrpSpPr/>
              <p:nvPr/>
            </p:nvGrpSpPr>
            <p:grpSpPr>
              <a:xfrm>
                <a:off x="61920" y="1314360"/>
                <a:ext cx="1368360" cy="544320"/>
                <a:chOff x="61920" y="1314360"/>
                <a:chExt cx="1368360" cy="544320"/>
              </a:xfrm>
            </p:grpSpPr>
            <p:sp>
              <p:nvSpPr>
                <p:cNvPr id="73" name="Line 86"/>
                <p:cNvSpPr/>
                <p:nvPr/>
              </p:nvSpPr>
              <p:spPr>
                <a:xfrm>
                  <a:off x="871560" y="158724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 Box 87"/>
                <p:cNvSpPr/>
                <p:nvPr/>
              </p:nvSpPr>
              <p:spPr>
                <a:xfrm>
                  <a:off x="61920" y="131436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" name="グループ化 24"/>
            <p:cNvGrpSpPr/>
            <p:nvPr/>
          </p:nvGrpSpPr>
          <p:grpSpPr>
            <a:xfrm>
              <a:off x="61920" y="1548360"/>
              <a:ext cx="6670440" cy="1764720"/>
              <a:chOff x="61920" y="1548360"/>
              <a:chExt cx="6670440" cy="1764720"/>
            </a:xfrm>
          </p:grpSpPr>
          <p:sp>
            <p:nvSpPr>
              <p:cNvPr id="76" name="正方形/長方形 30"/>
              <p:cNvSpPr/>
              <p:nvPr/>
            </p:nvSpPr>
            <p:spPr>
              <a:xfrm>
                <a:off x="1548000" y="1548360"/>
                <a:ext cx="5184360" cy="1764720"/>
              </a:xfrm>
              <a:prstGeom prst="rect">
                <a:avLst/>
              </a:prstGeom>
              <a:noFill/>
              <a:ln w="3240">
                <a:solidFill>
                  <a:srgbClr val="00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7" name="グループ化 31"/>
              <p:cNvGrpSpPr/>
              <p:nvPr/>
            </p:nvGrpSpPr>
            <p:grpSpPr>
              <a:xfrm>
                <a:off x="61920" y="1987560"/>
                <a:ext cx="1476360" cy="543600"/>
                <a:chOff x="61920" y="1987560"/>
                <a:chExt cx="1476360" cy="543600"/>
              </a:xfrm>
            </p:grpSpPr>
            <p:sp>
              <p:nvSpPr>
                <p:cNvPr id="78" name="Line 78"/>
                <p:cNvSpPr/>
                <p:nvPr/>
              </p:nvSpPr>
              <p:spPr>
                <a:xfrm>
                  <a:off x="871560" y="225936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Text Box 79"/>
                <p:cNvSpPr/>
                <p:nvPr/>
              </p:nvSpPr>
              <p:spPr>
                <a:xfrm>
                  <a:off x="61920" y="1987560"/>
                  <a:ext cx="936720" cy="54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0" name="グループ化 25"/>
            <p:cNvGrpSpPr/>
            <p:nvPr/>
          </p:nvGrpSpPr>
          <p:grpSpPr>
            <a:xfrm>
              <a:off x="1028880" y="3890160"/>
              <a:ext cx="6222240" cy="936000"/>
              <a:chOff x="1028880" y="3890160"/>
              <a:chExt cx="6222240" cy="936000"/>
            </a:xfrm>
          </p:grpSpPr>
          <p:sp>
            <p:nvSpPr>
              <p:cNvPr id="81" name="Text Box 63"/>
              <p:cNvSpPr/>
              <p:nvPr/>
            </p:nvSpPr>
            <p:spPr>
              <a:xfrm>
                <a:off x="1028880" y="3890160"/>
                <a:ext cx="622224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 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注意点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1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の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2" name="図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02000" y="391608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図 28" descr=""/>
              <p:cNvPicPr/>
              <p:nvPr/>
            </p:nvPicPr>
            <p:blipFill>
              <a:blip r:embed="rId7"/>
              <a:srcRect l="0" t="0" r="0" b="23914"/>
              <a:stretch/>
            </p:blipFill>
            <p:spPr>
              <a:xfrm>
                <a:off x="6198840" y="3916080"/>
                <a:ext cx="89676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図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6255360" y="423252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4000" y="193680"/>
            <a:ext cx="7451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4000" y="1137240"/>
            <a:ext cx="7451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1160" indent="-281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09480" indent="-233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3816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2920" indent="-187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68912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68912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689120" indent="-18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26:27Z</dcterms:created>
  <dc:creator>ugo-99</dc:creator>
  <dc:description/>
  <dc:language>en-US</dc:language>
  <cp:lastModifiedBy>ugo-99</cp:lastModifiedBy>
  <dcterms:modified xsi:type="dcterms:W3CDTF">2016-06-23T09:03:23Z</dcterms:modified>
  <cp:revision>2</cp:revision>
  <dc:subject/>
  <dc:title>PowerPoint プレゼンテーション</dc:title>
</cp:coreProperties>
</file>