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5219700" cy="8999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4697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61000" y="4832280"/>
            <a:ext cx="4697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667960" y="210600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61000" y="483228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667960" y="483228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151236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849320" y="2106000"/>
            <a:ext cx="151236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437640" y="2106000"/>
            <a:ext cx="151236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61000" y="4832280"/>
            <a:ext cx="151236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1849320" y="4832280"/>
            <a:ext cx="151236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3437640" y="4832280"/>
            <a:ext cx="151236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61000" y="2106000"/>
            <a:ext cx="4697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4697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229212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667960" y="2106000"/>
            <a:ext cx="229212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61000" y="358920"/>
            <a:ext cx="4697640" cy="69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667960" y="2106000"/>
            <a:ext cx="229212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61000" y="483228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61000" y="2106000"/>
            <a:ext cx="4697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229212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667960" y="210600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67960" y="483228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67960" y="210600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61000" y="4832280"/>
            <a:ext cx="4697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4697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61000" y="4832280"/>
            <a:ext cx="4697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667960" y="210600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1000" y="483228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2667960" y="483228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151236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849320" y="2106000"/>
            <a:ext cx="151236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437640" y="2106000"/>
            <a:ext cx="151236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61000" y="4832280"/>
            <a:ext cx="151236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1849320" y="4832280"/>
            <a:ext cx="151236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3437640" y="4832280"/>
            <a:ext cx="151236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4697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229212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667960" y="2106000"/>
            <a:ext cx="229212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61000" y="358920"/>
            <a:ext cx="4697640" cy="69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667960" y="2106000"/>
            <a:ext cx="229212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1000" y="483228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229212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67960" y="210600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67960" y="483228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1000" y="210600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67960" y="2106000"/>
            <a:ext cx="22921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1000" y="4832280"/>
            <a:ext cx="4697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線コネクタ 6"/>
          <p:cNvSpPr/>
          <p:nvPr/>
        </p:nvSpPr>
        <p:spPr>
          <a:xfrm>
            <a:off x="1079640" y="1332000"/>
            <a:ext cx="306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線コネクタ 7"/>
          <p:cNvSpPr/>
          <p:nvPr/>
        </p:nvSpPr>
        <p:spPr>
          <a:xfrm>
            <a:off x="1079640" y="1440000"/>
            <a:ext cx="306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直線コネクタ 8"/>
          <p:cNvSpPr/>
          <p:nvPr/>
        </p:nvSpPr>
        <p:spPr>
          <a:xfrm>
            <a:off x="1079640" y="4500720"/>
            <a:ext cx="306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直線コネクタ 9"/>
          <p:cNvSpPr/>
          <p:nvPr/>
        </p:nvSpPr>
        <p:spPr>
          <a:xfrm>
            <a:off x="1079640" y="7561440"/>
            <a:ext cx="306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直線コネクタ 10"/>
          <p:cNvSpPr/>
          <p:nvPr/>
        </p:nvSpPr>
        <p:spPr>
          <a:xfrm>
            <a:off x="1079640" y="7669080"/>
            <a:ext cx="306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直線コネクタ 11"/>
          <p:cNvSpPr/>
          <p:nvPr/>
        </p:nvSpPr>
        <p:spPr>
          <a:xfrm>
            <a:off x="1332000" y="1079640"/>
            <a:ext cx="0" cy="684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直線コネクタ 12"/>
          <p:cNvSpPr/>
          <p:nvPr/>
        </p:nvSpPr>
        <p:spPr>
          <a:xfrm>
            <a:off x="1440000" y="1079640"/>
            <a:ext cx="0" cy="684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直線コネクタ 13"/>
          <p:cNvSpPr/>
          <p:nvPr/>
        </p:nvSpPr>
        <p:spPr>
          <a:xfrm>
            <a:off x="2611440" y="1079640"/>
            <a:ext cx="0" cy="684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直線コネクタ 14"/>
          <p:cNvSpPr/>
          <p:nvPr/>
        </p:nvSpPr>
        <p:spPr>
          <a:xfrm>
            <a:off x="3780000" y="1079640"/>
            <a:ext cx="0" cy="684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直線コネクタ 15"/>
          <p:cNvSpPr/>
          <p:nvPr/>
        </p:nvSpPr>
        <p:spPr>
          <a:xfrm>
            <a:off x="3889440" y="1079640"/>
            <a:ext cx="0" cy="684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正方形/長方形 16"/>
          <p:cNvSpPr/>
          <p:nvPr/>
        </p:nvSpPr>
        <p:spPr>
          <a:xfrm>
            <a:off x="1332000" y="1332000"/>
            <a:ext cx="2557440" cy="6337080"/>
          </a:xfrm>
          <a:prstGeom prst="rect">
            <a:avLst/>
          </a:prstGeom>
          <a:solidFill>
            <a:srgbClr val="ffffff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線コネクタ 6"/>
          <p:cNvSpPr/>
          <p:nvPr/>
        </p:nvSpPr>
        <p:spPr>
          <a:xfrm>
            <a:off x="1079640" y="1332000"/>
            <a:ext cx="306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線コネクタ 7"/>
          <p:cNvSpPr/>
          <p:nvPr/>
        </p:nvSpPr>
        <p:spPr>
          <a:xfrm>
            <a:off x="1079640" y="1440000"/>
            <a:ext cx="306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線コネクタ 8"/>
          <p:cNvSpPr/>
          <p:nvPr/>
        </p:nvSpPr>
        <p:spPr>
          <a:xfrm>
            <a:off x="1079640" y="4500720"/>
            <a:ext cx="306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線コネクタ 9"/>
          <p:cNvSpPr/>
          <p:nvPr/>
        </p:nvSpPr>
        <p:spPr>
          <a:xfrm>
            <a:off x="1079640" y="7561440"/>
            <a:ext cx="306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線コネクタ 10"/>
          <p:cNvSpPr/>
          <p:nvPr/>
        </p:nvSpPr>
        <p:spPr>
          <a:xfrm>
            <a:off x="1079640" y="7669080"/>
            <a:ext cx="306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線コネクタ 11"/>
          <p:cNvSpPr/>
          <p:nvPr/>
        </p:nvSpPr>
        <p:spPr>
          <a:xfrm>
            <a:off x="1332000" y="1079640"/>
            <a:ext cx="0" cy="684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線コネクタ 12"/>
          <p:cNvSpPr/>
          <p:nvPr/>
        </p:nvSpPr>
        <p:spPr>
          <a:xfrm>
            <a:off x="1440000" y="1079640"/>
            <a:ext cx="0" cy="684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線コネクタ 13"/>
          <p:cNvSpPr/>
          <p:nvPr/>
        </p:nvSpPr>
        <p:spPr>
          <a:xfrm>
            <a:off x="2611440" y="1079640"/>
            <a:ext cx="0" cy="684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線コネクタ 14"/>
          <p:cNvSpPr/>
          <p:nvPr/>
        </p:nvSpPr>
        <p:spPr>
          <a:xfrm>
            <a:off x="3780000" y="1079640"/>
            <a:ext cx="0" cy="684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線コネクタ 15"/>
          <p:cNvSpPr/>
          <p:nvPr/>
        </p:nvSpPr>
        <p:spPr>
          <a:xfrm>
            <a:off x="3889440" y="1079640"/>
            <a:ext cx="0" cy="684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6"/>
          <p:cNvSpPr/>
          <p:nvPr/>
        </p:nvSpPr>
        <p:spPr>
          <a:xfrm>
            <a:off x="1332000" y="1332000"/>
            <a:ext cx="2557440" cy="6337080"/>
          </a:xfrm>
          <a:prstGeom prst="rect">
            <a:avLst/>
          </a:prstGeom>
          <a:solidFill>
            <a:srgbClr val="ffffff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グループ化 17"/>
          <p:cNvGrpSpPr/>
          <p:nvPr/>
        </p:nvGrpSpPr>
        <p:grpSpPr>
          <a:xfrm>
            <a:off x="-17640" y="36360"/>
            <a:ext cx="4842000" cy="8937720"/>
            <a:chOff x="-17640" y="36360"/>
            <a:chExt cx="4842000" cy="8937720"/>
          </a:xfrm>
        </p:grpSpPr>
        <p:grpSp>
          <p:nvGrpSpPr>
            <p:cNvPr id="61" name="Group 80"/>
            <p:cNvGrpSpPr/>
            <p:nvPr/>
          </p:nvGrpSpPr>
          <p:grpSpPr>
            <a:xfrm>
              <a:off x="61920" y="2800080"/>
              <a:ext cx="1260360" cy="539640"/>
              <a:chOff x="61920" y="2800080"/>
              <a:chExt cx="1260360" cy="539640"/>
            </a:xfrm>
          </p:grpSpPr>
          <p:sp>
            <p:nvSpPr>
              <p:cNvPr id="62" name="Line 81"/>
              <p:cNvSpPr/>
              <p:nvPr/>
            </p:nvSpPr>
            <p:spPr>
              <a:xfrm>
                <a:off x="871560" y="3070080"/>
                <a:ext cx="450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Text Box 82"/>
              <p:cNvSpPr/>
              <p:nvPr/>
            </p:nvSpPr>
            <p:spPr>
              <a:xfrm>
                <a:off x="61920" y="2800080"/>
                <a:ext cx="936360" cy="53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フチ無印刷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は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黒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い線まで伸ば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4" name="Picture 88" descr="ぬりたし説明"/>
            <p:cNvPicPr/>
            <p:nvPr/>
          </p:nvPicPr>
          <p:blipFill>
            <a:blip r:embed="rId2"/>
            <a:stretch/>
          </p:blipFill>
          <p:spPr>
            <a:xfrm>
              <a:off x="-17640" y="4500360"/>
              <a:ext cx="1008000" cy="2779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Group 43"/>
            <p:cNvGrpSpPr/>
            <p:nvPr/>
          </p:nvGrpSpPr>
          <p:grpSpPr>
            <a:xfrm>
              <a:off x="36360" y="36360"/>
              <a:ext cx="4788000" cy="900000"/>
              <a:chOff x="36360" y="36360"/>
              <a:chExt cx="4788000" cy="900000"/>
            </a:xfrm>
          </p:grpSpPr>
          <p:sp>
            <p:nvSpPr>
              <p:cNvPr id="66" name="Rectangle 65"/>
              <p:cNvSpPr/>
              <p:nvPr/>
            </p:nvSpPr>
            <p:spPr>
              <a:xfrm>
                <a:off x="36360" y="36360"/>
                <a:ext cx="107964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チケット　縦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封筒サイズ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170×65mm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Text Box 67"/>
              <p:cNvSpPr/>
              <p:nvPr/>
            </p:nvSpPr>
            <p:spPr>
              <a:xfrm>
                <a:off x="1116000" y="36360"/>
                <a:ext cx="3708360" cy="9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フチ無印刷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ご希望の場合、外側の黒い線まで背景や画像を伸ばして下さい。（右下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切れては困る絵柄や文字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は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、仕上り（青い四角）より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～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3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以上内側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（水色の四角の中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に入れて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透過性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半透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パターン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換が正常に出来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用紙サイズの変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トンボの移動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形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なさら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テンプレートを使用して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作成する際は、説明部分を削除してください。また、テンプレートと同じサイズかどう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8" name="Picture 46" descr="新Suprintロゴ"/>
              <p:cNvPicPr/>
              <p:nvPr/>
            </p:nvPicPr>
            <p:blipFill>
              <a:blip r:embed="rId3"/>
              <a:stretch/>
            </p:blipFill>
            <p:spPr>
              <a:xfrm>
                <a:off x="71280" y="694800"/>
                <a:ext cx="325440" cy="204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グループ化 22"/>
            <p:cNvGrpSpPr/>
            <p:nvPr/>
          </p:nvGrpSpPr>
          <p:grpSpPr>
            <a:xfrm>
              <a:off x="61920" y="1314000"/>
              <a:ext cx="3719160" cy="6246360"/>
              <a:chOff x="61920" y="1314000"/>
              <a:chExt cx="3719160" cy="6246360"/>
            </a:xfrm>
          </p:grpSpPr>
          <p:sp>
            <p:nvSpPr>
              <p:cNvPr id="70" name="正方形/長方形 33"/>
              <p:cNvSpPr/>
              <p:nvPr/>
            </p:nvSpPr>
            <p:spPr>
              <a:xfrm>
                <a:off x="1440000" y="1439640"/>
                <a:ext cx="2341080" cy="6120720"/>
              </a:xfrm>
              <a:prstGeom prst="rect">
                <a:avLst/>
              </a:prstGeom>
              <a:noFill/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1" name="Group 85"/>
              <p:cNvGrpSpPr/>
              <p:nvPr/>
            </p:nvGrpSpPr>
            <p:grpSpPr>
              <a:xfrm>
                <a:off x="61920" y="1314000"/>
                <a:ext cx="1368360" cy="544320"/>
                <a:chOff x="61920" y="1314000"/>
                <a:chExt cx="1368360" cy="544320"/>
              </a:xfrm>
            </p:grpSpPr>
            <p:sp>
              <p:nvSpPr>
                <p:cNvPr id="72" name="Line 86"/>
                <p:cNvSpPr/>
                <p:nvPr/>
              </p:nvSpPr>
              <p:spPr>
                <a:xfrm>
                  <a:off x="871560" y="1586880"/>
                  <a:ext cx="55872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" name="Text Box 87"/>
                <p:cNvSpPr/>
                <p:nvPr/>
              </p:nvSpPr>
              <p:spPr>
                <a:xfrm>
                  <a:off x="61920" y="1314000"/>
                  <a:ext cx="936360" cy="544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仕上がり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い線でカット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4" name="グループ化 23"/>
            <p:cNvGrpSpPr/>
            <p:nvPr/>
          </p:nvGrpSpPr>
          <p:grpSpPr>
            <a:xfrm>
              <a:off x="61920" y="1547640"/>
              <a:ext cx="3611160" cy="5904720"/>
              <a:chOff x="61920" y="1547640"/>
              <a:chExt cx="3611160" cy="5904720"/>
            </a:xfrm>
          </p:grpSpPr>
          <p:sp>
            <p:nvSpPr>
              <p:cNvPr id="75" name="正方形/長方形 29"/>
              <p:cNvSpPr/>
              <p:nvPr/>
            </p:nvSpPr>
            <p:spPr>
              <a:xfrm>
                <a:off x="1548000" y="1547640"/>
                <a:ext cx="2125080" cy="5904720"/>
              </a:xfrm>
              <a:prstGeom prst="rect">
                <a:avLst/>
              </a:prstGeom>
              <a:noFill/>
              <a:ln w="3240">
                <a:solidFill>
                  <a:srgbClr val="00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6" name="グループ化 30"/>
              <p:cNvGrpSpPr/>
              <p:nvPr/>
            </p:nvGrpSpPr>
            <p:grpSpPr>
              <a:xfrm>
                <a:off x="61920" y="1986840"/>
                <a:ext cx="1476360" cy="543600"/>
                <a:chOff x="61920" y="1986840"/>
                <a:chExt cx="1476360" cy="543600"/>
              </a:xfrm>
            </p:grpSpPr>
            <p:sp>
              <p:nvSpPr>
                <p:cNvPr id="77" name="Line 78"/>
                <p:cNvSpPr/>
                <p:nvPr/>
              </p:nvSpPr>
              <p:spPr>
                <a:xfrm>
                  <a:off x="871560" y="2258640"/>
                  <a:ext cx="666720" cy="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Text Box 79"/>
                <p:cNvSpPr/>
                <p:nvPr/>
              </p:nvSpPr>
              <p:spPr>
                <a:xfrm>
                  <a:off x="61920" y="1986840"/>
                  <a:ext cx="936720" cy="543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切れては困る物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は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水色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の線の内側に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9" name="グループ化 24"/>
            <p:cNvGrpSpPr/>
            <p:nvPr/>
          </p:nvGrpSpPr>
          <p:grpSpPr>
            <a:xfrm>
              <a:off x="24840" y="8038080"/>
              <a:ext cx="4752000" cy="936000"/>
              <a:chOff x="24840" y="8038080"/>
              <a:chExt cx="4752000" cy="936000"/>
            </a:xfrm>
          </p:grpSpPr>
          <p:sp>
            <p:nvSpPr>
              <p:cNvPr id="80" name="Text Box 63"/>
              <p:cNvSpPr/>
              <p:nvPr/>
            </p:nvSpPr>
            <p:spPr>
              <a:xfrm>
                <a:off x="24840" y="8038080"/>
                <a:ext cx="4752000" cy="9360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1908000" tIns="18000" bIns="72000" anchor="t">
                <a:noAutofit/>
              </a:bodyPr>
              <a:p>
                <a:pPr marL="455760" indent="-45576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※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ミシン目を入れる位置をテキストでご指示ください。（右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455760" indent="-45576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※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ナンバリングの位置をテキストでご指示ください。（右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455760" indent="-45576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　・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No.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」＋数字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6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ケタ表記で、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1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」の場合でも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No.000001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」のように必ずゼロが付きます。番号は全て開始番号から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連番のみ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の対応となり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455760" indent="-45576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　・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印刷範囲はタテ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10mm×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ヨコ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30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の固定サイズ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でその中にセンター揃えで配置され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455760" indent="-45576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　・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印刷範囲は必ず白で抜けた状態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で作成してください。同時に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455760" indent="-45576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　・文字の書体は固定で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色は黒のみ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の印刷となります。（右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81" name="図 26" descr=""/>
              <p:cNvPicPr/>
              <p:nvPr/>
            </p:nvPicPr>
            <p:blipFill>
              <a:blip r:embed="rId4"/>
              <a:stretch/>
            </p:blipFill>
            <p:spPr>
              <a:xfrm>
                <a:off x="2913480" y="8056800"/>
                <a:ext cx="927360" cy="90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図 27" descr=""/>
              <p:cNvPicPr/>
              <p:nvPr/>
            </p:nvPicPr>
            <p:blipFill>
              <a:blip r:embed="rId5"/>
              <a:srcRect l="0" t="0" r="0" b="23914"/>
              <a:stretch/>
            </p:blipFill>
            <p:spPr>
              <a:xfrm>
                <a:off x="3861360" y="8054280"/>
                <a:ext cx="897120" cy="31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図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3915360" y="8377200"/>
                <a:ext cx="853560" cy="589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1000" y="358920"/>
            <a:ext cx="4697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61000" y="2106000"/>
            <a:ext cx="4697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3T01:24:07Z</dcterms:created>
  <dc:creator>ugo-99</dc:creator>
  <dc:description/>
  <dc:language>en-US</dc:language>
  <cp:lastModifiedBy>ugo-99</cp:lastModifiedBy>
  <dcterms:modified xsi:type="dcterms:W3CDTF">2016-06-23T09:04:50Z</dcterms:modified>
  <cp:revision>5</cp:revision>
  <dc:subject/>
  <dc:title>PowerPoint プレゼンテーション</dc:title>
</cp:coreProperties>
</file>