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BF8-FED9-42D3-A7E0-C8D0ED496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176-B57A-4543-A453-69F2E24D7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52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36360" y="36360"/>
            <a:ext cx="12095280" cy="8964720"/>
            <a:chOff x="36360" y="36360"/>
            <a:chExt cx="12095280" cy="8964720"/>
          </a:xfrm>
        </p:grpSpPr>
        <p:pic>
          <p:nvPicPr>
            <p:cNvPr id="67" name="図 17" descr=""/>
            <p:cNvPicPr/>
            <p:nvPr/>
          </p:nvPicPr>
          <p:blipFill>
            <a:blip r:embed="rId2"/>
            <a:stretch/>
          </p:blipFill>
          <p:spPr>
            <a:xfrm>
              <a:off x="1439640" y="1439640"/>
              <a:ext cx="10691280" cy="756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グループ化 16"/>
            <p:cNvGrpSpPr/>
            <p:nvPr/>
          </p:nvGrpSpPr>
          <p:grpSpPr>
            <a:xfrm>
              <a:off x="36360" y="36360"/>
              <a:ext cx="12095280" cy="8964720"/>
              <a:chOff x="36360" y="36360"/>
              <a:chExt cx="12095280" cy="8964720"/>
            </a:xfrm>
          </p:grpSpPr>
          <p:grpSp>
            <p:nvGrpSpPr>
              <p:cNvPr id="69" name="グループ化 17"/>
              <p:cNvGrpSpPr/>
              <p:nvPr/>
            </p:nvGrpSpPr>
            <p:grpSpPr>
              <a:xfrm>
                <a:off x="1439640" y="1439640"/>
                <a:ext cx="10692000" cy="7561440"/>
                <a:chOff x="1439640" y="1439640"/>
                <a:chExt cx="10692000" cy="7561440"/>
              </a:xfrm>
            </p:grpSpPr>
            <p:sp>
              <p:nvSpPr>
                <p:cNvPr id="70" name="Rectangle 47"/>
                <p:cNvSpPr/>
                <p:nvPr/>
              </p:nvSpPr>
              <p:spPr>
                <a:xfrm>
                  <a:off x="6244920" y="1979280"/>
                  <a:ext cx="1081080" cy="2340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55"/>
                <p:cNvSpPr/>
                <p:nvPr/>
              </p:nvSpPr>
              <p:spPr>
                <a:xfrm>
                  <a:off x="1439640" y="1439640"/>
                  <a:ext cx="10692000" cy="75614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47"/>
                <p:cNvSpPr/>
                <p:nvPr/>
              </p:nvSpPr>
              <p:spPr>
                <a:xfrm>
                  <a:off x="6244920" y="6119640"/>
                  <a:ext cx="1081080" cy="2340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グループ化 18"/>
              <p:cNvGrpSpPr/>
              <p:nvPr/>
            </p:nvGrpSpPr>
            <p:grpSpPr>
              <a:xfrm>
                <a:off x="36360" y="36360"/>
                <a:ext cx="8641080" cy="1008000"/>
                <a:chOff x="36360" y="36360"/>
                <a:chExt cx="8641080" cy="1008000"/>
              </a:xfrm>
            </p:grpSpPr>
            <p:grpSp>
              <p:nvGrpSpPr>
                <p:cNvPr id="74" name="グループ化 19"/>
                <p:cNvGrpSpPr/>
                <p:nvPr/>
              </p:nvGrpSpPr>
              <p:grpSpPr>
                <a:xfrm>
                  <a:off x="36360" y="36360"/>
                  <a:ext cx="8641080" cy="1008000"/>
                  <a:chOff x="36360" y="36360"/>
                  <a:chExt cx="8641080" cy="1008000"/>
                </a:xfrm>
              </p:grpSpPr>
              <p:grpSp>
                <p:nvGrpSpPr>
                  <p:cNvPr id="75" name="グループ化 15"/>
                  <p:cNvGrpSpPr/>
                  <p:nvPr/>
                </p:nvGrpSpPr>
                <p:grpSpPr>
                  <a:xfrm>
                    <a:off x="36360" y="36360"/>
                    <a:ext cx="8641080" cy="1008000"/>
                    <a:chOff x="36360" y="36360"/>
                    <a:chExt cx="8641080" cy="1008000"/>
                  </a:xfrm>
                </p:grpSpPr>
                <p:sp>
                  <p:nvSpPr>
                    <p:cNvPr id="76" name="Rectangle 65"/>
                    <p:cNvSpPr/>
                    <p:nvPr/>
                  </p:nvSpPr>
                  <p:spPr>
                    <a:xfrm>
                      <a:off x="36360" y="36360"/>
                      <a:ext cx="1332000" cy="10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18000" rIns="18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し名入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部：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×30mm</a:t>
                      </a: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部：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×30mm</a:t>
                      </a:r>
                      <a:r>
                        <a:rPr b="1" lang="zh-CN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Text Box 67"/>
                    <p:cNvSpPr/>
                    <p:nvPr/>
                  </p:nvSpPr>
                  <p:spPr>
                    <a:xfrm>
                      <a:off x="1366560" y="36360"/>
                      <a:ext cx="7310880" cy="10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0" bIns="0" anchor="ctr">
                      <a:noAutofit/>
                    </a:bodyPr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はじめに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「名前を付けて保存」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から、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の種類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「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werPoint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プレゼンテーション（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*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.pptx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」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保存し直し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てください。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無い場合（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3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以下）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は</a:t>
                      </a: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変更せず保存し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ます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1" lang="ja-JP" sz="800" spc="-1" strike="noStrike">
                          <a:solidFill>
                            <a:srgbClr val="00b0f0"/>
                          </a:solidFill>
                          <a:latin typeface="ＭＳ Ｐゴシック"/>
                        </a:rPr>
                        <a:t>内側の水色の線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中に入れて作成してください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上の枠には</a:t>
                      </a:r>
                      <a:r>
                        <a:rPr b="1" lang="ja-JP" sz="800" spc="-1" strike="noStrike">
                          <a:solidFill>
                            <a:srgbClr val="00b0f0"/>
                          </a:solidFill>
                          <a:latin typeface="ＭＳ Ｐゴシック"/>
                        </a:rPr>
                        <a:t>「表書き」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下の枠には</a:t>
                      </a:r>
                      <a:r>
                        <a:rPr b="1" lang="ja-JP" sz="800" spc="-1" strike="noStrike">
                          <a:solidFill>
                            <a:srgbClr val="00b0f0"/>
                          </a:solidFill>
                          <a:latin typeface="ＭＳ Ｐゴシック"/>
                        </a:rPr>
                        <a:t>「氏名（会社名）」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入れる組み合わせが一般的です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透過性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半透明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パターン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など</a:t>
                      </a:r>
                      <a:r>
                        <a:rPr b="0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変換が正常に出来ない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合があります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データ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は黒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1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色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作成してください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用紙サイズの変更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、</a:t>
                      </a:r>
                      <a:r>
                        <a:rPr b="0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トンボの移動、変形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しないようお願いします。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のテンプレートか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作成する際は、説明部分の線などを削除してください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ts val="899"/>
                        </a:lnSpc>
                        <a:buClr>
                          <a:srgbClr val="000000"/>
                        </a:buClr>
                        <a:buFont typeface="ＭＳ Ｐゴシック"/>
                        <a:buChar char="※"/>
                        <a:tabLst>
                          <a:tab algn="l" pos="1128600"/>
                          <a:tab algn="l" pos="2257560"/>
                          <a:tab algn="l" pos="3386160"/>
                          <a:tab algn="l" pos="4514760"/>
                          <a:tab algn="l" pos="5643720"/>
                          <a:tab algn="l" pos="6772320"/>
                          <a:tab algn="l" pos="7900920"/>
                          <a:tab algn="l" pos="9029880"/>
                          <a:tab algn="l" pos="1015848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また、作成し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が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「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330×150mm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」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かどうか確認してください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" name="グループ化 24"/>
                  <p:cNvGrpSpPr/>
                  <p:nvPr/>
                </p:nvGrpSpPr>
                <p:grpSpPr>
                  <a:xfrm>
                    <a:off x="61560" y="753840"/>
                    <a:ext cx="460080" cy="261720"/>
                    <a:chOff x="61560" y="753840"/>
                    <a:chExt cx="460080" cy="261720"/>
                  </a:xfrm>
                </p:grpSpPr>
                <p:sp>
                  <p:nvSpPr>
                    <p:cNvPr id="79" name="Freeform 8"/>
                    <p:cNvSpPr/>
                    <p:nvPr/>
                  </p:nvSpPr>
                  <p:spPr>
                    <a:xfrm>
                      <a:off x="61560" y="903600"/>
                      <a:ext cx="1684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56">
                          <a:moveTo>
                            <a:pt x="29" y="0"/>
                          </a:moveTo>
                          <a:cubicBezTo>
                            <a:pt x="23" y="1"/>
                            <a:pt x="20" y="3"/>
                            <a:pt x="18" y="7"/>
                          </a:cubicBezTo>
                          <a:cubicBezTo>
                            <a:pt x="16" y="10"/>
                            <a:pt x="15" y="13"/>
                            <a:pt x="14" y="15"/>
                          </a:cubicBezTo>
                          <a:cubicBezTo>
                            <a:pt x="14" y="20"/>
                            <a:pt x="15" y="22"/>
                            <a:pt x="18" y="25"/>
                          </a:cubicBezTo>
                          <a:cubicBezTo>
                            <a:pt x="21" y="27"/>
                            <a:pt x="25" y="31"/>
                            <a:pt x="29" y="34"/>
                          </a:cubicBezTo>
                          <a:cubicBezTo>
                            <a:pt x="30" y="35"/>
                            <a:pt x="31" y="37"/>
                            <a:pt x="30" y="39"/>
                          </a:cubicBezTo>
                          <a:cubicBezTo>
                            <a:pt x="29" y="41"/>
                            <a:pt x="29" y="43"/>
                            <a:pt x="28" y="44"/>
                          </a:cubicBezTo>
                          <a:cubicBezTo>
                            <a:pt x="27" y="46"/>
                            <a:pt x="24" y="47"/>
                            <a:pt x="18" y="47"/>
                          </a:cubicBezTo>
                          <a:cubicBezTo>
                            <a:pt x="17" y="47"/>
                            <a:pt x="13" y="47"/>
                            <a:pt x="9" y="47"/>
                          </a:cubicBezTo>
                          <a:cubicBezTo>
                            <a:pt x="7" y="47"/>
                            <a:pt x="5" y="46"/>
                            <a:pt x="4" y="44"/>
                          </a:cubicBezTo>
                          <a:cubicBezTo>
                            <a:pt x="3" y="46"/>
                            <a:pt x="1" y="50"/>
                            <a:pt x="1" y="52"/>
                          </a:cubicBezTo>
                          <a:cubicBezTo>
                            <a:pt x="0" y="53"/>
                            <a:pt x="1" y="54"/>
                            <a:pt x="2" y="55"/>
                          </a:cubicBezTo>
                          <a:cubicBezTo>
                            <a:pt x="3" y="56"/>
                            <a:pt x="5" y="56"/>
                            <a:pt x="7" y="56"/>
                          </a:cubicBezTo>
                          <a:cubicBezTo>
                            <a:pt x="8" y="56"/>
                            <a:pt x="11" y="56"/>
                            <a:pt x="11" y="56"/>
                          </a:cubicBezTo>
                          <a:cubicBezTo>
                            <a:pt x="18" y="56"/>
                            <a:pt x="27" y="56"/>
                            <a:pt x="30" y="56"/>
                          </a:cubicBezTo>
                          <a:cubicBezTo>
                            <a:pt x="32" y="56"/>
                            <a:pt x="34" y="56"/>
                            <a:pt x="36" y="56"/>
                          </a:cubicBezTo>
                          <a:cubicBezTo>
                            <a:pt x="40" y="56"/>
                            <a:pt x="43" y="54"/>
                            <a:pt x="45" y="51"/>
                          </a:cubicBezTo>
                          <a:cubicBezTo>
                            <a:pt x="47" y="47"/>
                            <a:pt x="49" y="39"/>
                            <a:pt x="50" y="38"/>
                          </a:cubicBezTo>
                          <a:cubicBezTo>
                            <a:pt x="51" y="33"/>
                            <a:pt x="50" y="29"/>
                            <a:pt x="46" y="25"/>
                          </a:cubicBezTo>
                          <a:cubicBezTo>
                            <a:pt x="43" y="22"/>
                            <a:pt x="39" y="19"/>
                            <a:pt x="37" y="17"/>
                          </a:cubicBezTo>
                          <a:cubicBezTo>
                            <a:pt x="36" y="16"/>
                            <a:pt x="35" y="15"/>
                            <a:pt x="36" y="14"/>
                          </a:cubicBezTo>
                          <a:cubicBezTo>
                            <a:pt x="36" y="13"/>
                            <a:pt x="36" y="12"/>
                            <a:pt x="37" y="11"/>
                          </a:cubicBezTo>
                          <a:cubicBezTo>
                            <a:pt x="38" y="10"/>
                            <a:pt x="39" y="10"/>
                            <a:pt x="41" y="10"/>
                          </a:cubicBezTo>
                          <a:cubicBezTo>
                            <a:pt x="44" y="10"/>
                            <a:pt x="99" y="10"/>
                            <a:pt x="103" y="10"/>
                          </a:cubicBezTo>
                          <a:cubicBezTo>
                            <a:pt x="105" y="10"/>
                            <a:pt x="107" y="9"/>
                            <a:pt x="108" y="8"/>
                          </a:cubicBezTo>
                          <a:cubicBezTo>
                            <a:pt x="110" y="7"/>
                            <a:pt x="112" y="2"/>
                            <a:pt x="112" y="0"/>
                          </a:cubicBezTo>
                          <a:cubicBezTo>
                            <a:pt x="107" y="0"/>
                            <a:pt x="44" y="0"/>
                            <a:pt x="34" y="0"/>
                          </a:cubicBezTo>
                          <a:cubicBezTo>
                            <a:pt x="32" y="0"/>
                            <a:pt x="30" y="0"/>
                            <a:pt x="2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9"/>
                    <p:cNvSpPr/>
                    <p:nvPr/>
                  </p:nvSpPr>
                  <p:spPr>
                    <a:xfrm>
                      <a:off x="368280" y="903600"/>
                      <a:ext cx="3168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12" y="0"/>
                          </a:moveTo>
                          <a:cubicBezTo>
                            <a:pt x="11" y="0"/>
                            <a:pt x="10" y="0"/>
                            <a:pt x="9" y="0"/>
                          </a:cubicBezTo>
                          <a:cubicBezTo>
                            <a:pt x="6" y="0"/>
                            <a:pt x="3" y="1"/>
                            <a:pt x="2" y="4"/>
                          </a:cubicBezTo>
                          <a:cubicBezTo>
                            <a:pt x="1" y="6"/>
                            <a:pt x="0" y="9"/>
                            <a:pt x="0" y="10"/>
                          </a:cubicBezTo>
                          <a:cubicBezTo>
                            <a:pt x="0" y="10"/>
                            <a:pt x="2" y="10"/>
                            <a:pt x="5" y="10"/>
                          </a:cubicBezTo>
                          <a:cubicBezTo>
                            <a:pt x="10" y="10"/>
                            <a:pt x="10" y="10"/>
                            <a:pt x="10" y="10"/>
                          </a:cubicBezTo>
                          <a:cubicBezTo>
                            <a:pt x="11" y="10"/>
                            <a:pt x="12" y="10"/>
                            <a:pt x="12" y="10"/>
                          </a:cubicBezTo>
                          <a:cubicBezTo>
                            <a:pt x="15" y="10"/>
                            <a:pt x="18" y="9"/>
                            <a:pt x="19" y="6"/>
                          </a:cubicBezTo>
                          <a:cubicBezTo>
                            <a:pt x="20" y="3"/>
                            <a:pt x="21" y="1"/>
                            <a:pt x="21" y="0"/>
                          </a:cubicBezTo>
                          <a:cubicBezTo>
                            <a:pt x="21" y="0"/>
                            <a:pt x="12" y="0"/>
                            <a:pt x="12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0"/>
                    <p:cNvSpPr/>
                    <p:nvPr/>
                  </p:nvSpPr>
                  <p:spPr>
                    <a:xfrm>
                      <a:off x="139680" y="925560"/>
                      <a:ext cx="8460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1">
                          <a:moveTo>
                            <a:pt x="55" y="6"/>
                          </a:moveTo>
                          <a:cubicBezTo>
                            <a:pt x="56" y="2"/>
                            <a:pt x="55" y="0"/>
                            <a:pt x="52" y="0"/>
                          </a:cubicBezTo>
                          <a:cubicBezTo>
                            <a:pt x="51" y="0"/>
                            <a:pt x="51" y="0"/>
                            <a:pt x="51" y="0"/>
                          </a:cubicBezTo>
                          <a:cubicBezTo>
                            <a:pt x="38" y="0"/>
                            <a:pt x="38" y="0"/>
                            <a:pt x="38" y="0"/>
                          </a:cubicBezTo>
                          <a:cubicBezTo>
                            <a:pt x="40" y="1"/>
                            <a:pt x="40" y="3"/>
                            <a:pt x="39" y="6"/>
                          </a:cubicBezTo>
                          <a:cubicBezTo>
                            <a:pt x="30" y="33"/>
                            <a:pt x="30" y="33"/>
                            <a:pt x="30" y="33"/>
                          </a:cubicBezTo>
                          <a:cubicBezTo>
                            <a:pt x="26" y="33"/>
                            <a:pt x="22" y="33"/>
                            <a:pt x="21" y="33"/>
                          </a:cubicBezTo>
                          <a:cubicBezTo>
                            <a:pt x="19" y="33"/>
                            <a:pt x="18" y="32"/>
                            <a:pt x="18" y="30"/>
                          </a:cubicBezTo>
                          <a:cubicBezTo>
                            <a:pt x="19" y="28"/>
                            <a:pt x="26" y="7"/>
                            <a:pt x="26" y="6"/>
                          </a:cubicBezTo>
                          <a:cubicBezTo>
                            <a:pt x="27" y="2"/>
                            <a:pt x="26" y="0"/>
                            <a:pt x="24" y="0"/>
                          </a:cubicBezTo>
                          <a:cubicBezTo>
                            <a:pt x="23" y="0"/>
                            <a:pt x="22" y="0"/>
                            <a:pt x="22" y="0"/>
                          </a:cubicBezTo>
                          <a:cubicBezTo>
                            <a:pt x="10" y="0"/>
                            <a:pt x="10" y="0"/>
                            <a:pt x="10" y="0"/>
                          </a:cubicBezTo>
                          <a:cubicBezTo>
                            <a:pt x="11" y="1"/>
                            <a:pt x="11" y="3"/>
                            <a:pt x="10" y="6"/>
                          </a:cubicBezTo>
                          <a:cubicBezTo>
                            <a:pt x="3" y="28"/>
                            <a:pt x="3" y="28"/>
                            <a:pt x="3" y="28"/>
                          </a:cubicBezTo>
                          <a:cubicBezTo>
                            <a:pt x="0" y="37"/>
                            <a:pt x="2" y="41"/>
                            <a:pt x="12" y="41"/>
                          </a:cubicBezTo>
                          <a:cubicBezTo>
                            <a:pt x="21" y="41"/>
                            <a:pt x="45" y="41"/>
                            <a:pt x="45" y="41"/>
                          </a:cubicBezTo>
                          <a:cubicBezTo>
                            <a:pt x="44" y="40"/>
                            <a:pt x="44" y="38"/>
                            <a:pt x="45" y="35"/>
                          </a:cubicBezTo>
                          <a:cubicBezTo>
                            <a:pt x="45" y="35"/>
                            <a:pt x="54" y="7"/>
                            <a:pt x="55" y="6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Freeform 11"/>
                    <p:cNvSpPr/>
                    <p:nvPr/>
                  </p:nvSpPr>
                  <p:spPr>
                    <a:xfrm>
                      <a:off x="209160" y="925560"/>
                      <a:ext cx="9144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60">
                          <a:moveTo>
                            <a:pt x="49" y="0"/>
                          </a:moveTo>
                          <a:cubicBezTo>
                            <a:pt x="46" y="0"/>
                            <a:pt x="40" y="0"/>
                            <a:pt x="35" y="0"/>
                          </a:cubicBezTo>
                          <a:cubicBezTo>
                            <a:pt x="19" y="0"/>
                            <a:pt x="19" y="0"/>
                            <a:pt x="19" y="0"/>
                          </a:cubicBezTo>
                          <a:cubicBezTo>
                            <a:pt x="17" y="0"/>
                            <a:pt x="17" y="0"/>
                            <a:pt x="17" y="0"/>
                          </a:cubicBezTo>
                          <a:cubicBezTo>
                            <a:pt x="18" y="1"/>
                            <a:pt x="18" y="3"/>
                            <a:pt x="17" y="6"/>
                          </a:cubicBezTo>
                          <a:cubicBezTo>
                            <a:pt x="17" y="6"/>
                            <a:pt x="2" y="52"/>
                            <a:pt x="1" y="54"/>
                          </a:cubicBezTo>
                          <a:cubicBezTo>
                            <a:pt x="0" y="58"/>
                            <a:pt x="1" y="60"/>
                            <a:pt x="4" y="60"/>
                          </a:cubicBezTo>
                          <a:cubicBezTo>
                            <a:pt x="5" y="60"/>
                            <a:pt x="5" y="60"/>
                            <a:pt x="5" y="60"/>
                          </a:cubicBezTo>
                          <a:cubicBezTo>
                            <a:pt x="13" y="60"/>
                            <a:pt x="13" y="60"/>
                            <a:pt x="13" y="60"/>
                          </a:cubicBezTo>
                          <a:cubicBezTo>
                            <a:pt x="13" y="60"/>
                            <a:pt x="13" y="60"/>
                            <a:pt x="13" y="60"/>
                          </a:cubicBezTo>
                          <a:cubicBezTo>
                            <a:pt x="17" y="60"/>
                            <a:pt x="17" y="60"/>
                            <a:pt x="17" y="60"/>
                          </a:cubicBezTo>
                          <a:cubicBezTo>
                            <a:pt x="16" y="59"/>
                            <a:pt x="16" y="57"/>
                            <a:pt x="17" y="54"/>
                          </a:cubicBezTo>
                          <a:cubicBezTo>
                            <a:pt x="33" y="7"/>
                            <a:pt x="33" y="7"/>
                            <a:pt x="33" y="7"/>
                          </a:cubicBezTo>
                          <a:cubicBezTo>
                            <a:pt x="35" y="7"/>
                            <a:pt x="38" y="7"/>
                            <a:pt x="39" y="7"/>
                          </a:cubicBezTo>
                          <a:cubicBezTo>
                            <a:pt x="42" y="7"/>
                            <a:pt x="43" y="9"/>
                            <a:pt x="42" y="11"/>
                          </a:cubicBezTo>
                          <a:cubicBezTo>
                            <a:pt x="42" y="13"/>
                            <a:pt x="37" y="27"/>
                            <a:pt x="37" y="28"/>
                          </a:cubicBezTo>
                          <a:cubicBezTo>
                            <a:pt x="36" y="32"/>
                            <a:pt x="34" y="33"/>
                            <a:pt x="31" y="33"/>
                          </a:cubicBezTo>
                          <a:cubicBezTo>
                            <a:pt x="31" y="33"/>
                            <a:pt x="31" y="33"/>
                            <a:pt x="31" y="33"/>
                          </a:cubicBezTo>
                          <a:cubicBezTo>
                            <a:pt x="29" y="33"/>
                            <a:pt x="28" y="34"/>
                            <a:pt x="27" y="35"/>
                          </a:cubicBezTo>
                          <a:cubicBezTo>
                            <a:pt x="26" y="36"/>
                            <a:pt x="25" y="38"/>
                            <a:pt x="24" y="41"/>
                          </a:cubicBezTo>
                          <a:cubicBezTo>
                            <a:pt x="26" y="41"/>
                            <a:pt x="33" y="41"/>
                            <a:pt x="35" y="41"/>
                          </a:cubicBezTo>
                          <a:cubicBezTo>
                            <a:pt x="45" y="41"/>
                            <a:pt x="49" y="40"/>
                            <a:pt x="52" y="32"/>
                          </a:cubicBezTo>
                          <a:cubicBezTo>
                            <a:pt x="52" y="30"/>
                            <a:pt x="58" y="13"/>
                            <a:pt x="58" y="13"/>
                          </a:cubicBezTo>
                          <a:cubicBezTo>
                            <a:pt x="61" y="4"/>
                            <a:pt x="59" y="0"/>
                            <a:pt x="4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Freeform 12"/>
                    <p:cNvSpPr/>
                    <p:nvPr/>
                  </p:nvSpPr>
                  <p:spPr>
                    <a:xfrm>
                      <a:off x="293040" y="925560"/>
                      <a:ext cx="6804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1">
                          <a:moveTo>
                            <a:pt x="27" y="0"/>
                          </a:moveTo>
                          <a:cubicBezTo>
                            <a:pt x="27" y="0"/>
                            <a:pt x="26" y="0"/>
                            <a:pt x="23" y="0"/>
                          </a:cubicBezTo>
                          <a:cubicBezTo>
                            <a:pt x="22" y="0"/>
                            <a:pt x="21" y="0"/>
                            <a:pt x="21" y="0"/>
                          </a:cubicBezTo>
                          <a:cubicBezTo>
                            <a:pt x="16" y="0"/>
                            <a:pt x="12" y="1"/>
                            <a:pt x="10" y="7"/>
                          </a:cubicBezTo>
                          <a:cubicBezTo>
                            <a:pt x="10" y="7"/>
                            <a:pt x="1" y="34"/>
                            <a:pt x="1" y="35"/>
                          </a:cubicBezTo>
                          <a:cubicBezTo>
                            <a:pt x="0" y="38"/>
                            <a:pt x="1" y="41"/>
                            <a:pt x="3" y="41"/>
                          </a:cubicBezTo>
                          <a:cubicBezTo>
                            <a:pt x="4" y="41"/>
                            <a:pt x="5" y="41"/>
                            <a:pt x="5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7" y="41"/>
                            <a:pt x="17" y="41"/>
                            <a:pt x="17" y="41"/>
                          </a:cubicBezTo>
                          <a:cubicBezTo>
                            <a:pt x="16" y="40"/>
                            <a:pt x="16" y="38"/>
                            <a:pt x="17" y="35"/>
                          </a:cubicBezTo>
                          <a:cubicBezTo>
                            <a:pt x="17" y="35"/>
                            <a:pt x="24" y="14"/>
                            <a:pt x="25" y="10"/>
                          </a:cubicBezTo>
                          <a:cubicBezTo>
                            <a:pt x="26" y="8"/>
                            <a:pt x="27" y="7"/>
                            <a:pt x="29" y="7"/>
                          </a:cubicBezTo>
                          <a:cubicBezTo>
                            <a:pt x="31" y="7"/>
                            <a:pt x="33" y="7"/>
                            <a:pt x="37" y="7"/>
                          </a:cubicBezTo>
                          <a:cubicBezTo>
                            <a:pt x="40" y="7"/>
                            <a:pt x="41" y="7"/>
                            <a:pt x="42" y="6"/>
                          </a:cubicBezTo>
                          <a:cubicBezTo>
                            <a:pt x="43" y="4"/>
                            <a:pt x="45" y="1"/>
                            <a:pt x="45" y="0"/>
                          </a:cubicBezTo>
                          <a:cubicBezTo>
                            <a:pt x="44" y="0"/>
                            <a:pt x="27" y="0"/>
                            <a:pt x="27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Freeform 13"/>
                    <p:cNvSpPr/>
                    <p:nvPr/>
                  </p:nvSpPr>
                  <p:spPr>
                    <a:xfrm>
                      <a:off x="350640" y="925560"/>
                      <a:ext cx="4176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1">
                          <a:moveTo>
                            <a:pt x="1" y="35"/>
                          </a:moveTo>
                          <a:cubicBezTo>
                            <a:pt x="0" y="38"/>
                            <a:pt x="1" y="41"/>
                            <a:pt x="3" y="41"/>
                          </a:cubicBezTo>
                          <a:cubicBezTo>
                            <a:pt x="4" y="41"/>
                            <a:pt x="5" y="41"/>
                            <a:pt x="5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7" y="41"/>
                            <a:pt x="17" y="41"/>
                            <a:pt x="17" y="41"/>
                          </a:cubicBezTo>
                          <a:cubicBezTo>
                            <a:pt x="16" y="40"/>
                            <a:pt x="16" y="38"/>
                            <a:pt x="17" y="35"/>
                          </a:cubicBezTo>
                          <a:cubicBezTo>
                            <a:pt x="17" y="35"/>
                            <a:pt x="26" y="7"/>
                            <a:pt x="27" y="6"/>
                          </a:cubicBezTo>
                          <a:cubicBezTo>
                            <a:pt x="28" y="2"/>
                            <a:pt x="27" y="0"/>
                            <a:pt x="24" y="0"/>
                          </a:cubicBezTo>
                          <a:cubicBezTo>
                            <a:pt x="23" y="0"/>
                            <a:pt x="23" y="0"/>
                            <a:pt x="23" y="0"/>
                          </a:cubicBezTo>
                          <a:cubicBezTo>
                            <a:pt x="14" y="0"/>
                            <a:pt x="14" y="0"/>
                            <a:pt x="14" y="0"/>
                          </a:cubicBezTo>
                          <a:cubicBezTo>
                            <a:pt x="14" y="0"/>
                            <a:pt x="14" y="0"/>
                            <a:pt x="14" y="0"/>
                          </a:cubicBezTo>
                          <a:cubicBezTo>
                            <a:pt x="10" y="0"/>
                            <a:pt x="10" y="0"/>
                            <a:pt x="10" y="0"/>
                          </a:cubicBezTo>
                          <a:cubicBezTo>
                            <a:pt x="11" y="1"/>
                            <a:pt x="11" y="3"/>
                            <a:pt x="10" y="6"/>
                          </a:cubicBezTo>
                          <a:cubicBezTo>
                            <a:pt x="10" y="6"/>
                            <a:pt x="1" y="34"/>
                            <a:pt x="1" y="35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4"/>
                    <p:cNvSpPr/>
                    <p:nvPr/>
                  </p:nvSpPr>
                  <p:spPr>
                    <a:xfrm>
                      <a:off x="384840" y="925560"/>
                      <a:ext cx="8460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1">
                          <a:moveTo>
                            <a:pt x="53" y="13"/>
                          </a:moveTo>
                          <a:cubicBezTo>
                            <a:pt x="56" y="4"/>
                            <a:pt x="54" y="0"/>
                            <a:pt x="44" y="0"/>
                          </a:cubicBezTo>
                          <a:cubicBezTo>
                            <a:pt x="35" y="0"/>
                            <a:pt x="11" y="0"/>
                            <a:pt x="11" y="0"/>
                          </a:cubicBezTo>
                          <a:cubicBezTo>
                            <a:pt x="12" y="1"/>
                            <a:pt x="12" y="3"/>
                            <a:pt x="11" y="6"/>
                          </a:cubicBezTo>
                          <a:cubicBezTo>
                            <a:pt x="11" y="6"/>
                            <a:pt x="11" y="6"/>
                            <a:pt x="11" y="6"/>
                          </a:cubicBezTo>
                          <a:cubicBezTo>
                            <a:pt x="7" y="16"/>
                            <a:pt x="2" y="34"/>
                            <a:pt x="1" y="35"/>
                          </a:cubicBezTo>
                          <a:cubicBezTo>
                            <a:pt x="0" y="38"/>
                            <a:pt x="1" y="41"/>
                            <a:pt x="4" y="41"/>
                          </a:cubicBezTo>
                          <a:cubicBezTo>
                            <a:pt x="5" y="41"/>
                            <a:pt x="5" y="41"/>
                            <a:pt x="5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3" y="41"/>
                            <a:pt x="13" y="41"/>
                            <a:pt x="13" y="41"/>
                          </a:cubicBezTo>
                          <a:cubicBezTo>
                            <a:pt x="18" y="41"/>
                            <a:pt x="18" y="41"/>
                            <a:pt x="18" y="41"/>
                          </a:cubicBezTo>
                          <a:cubicBezTo>
                            <a:pt x="17" y="40"/>
                            <a:pt x="17" y="38"/>
                            <a:pt x="17" y="35"/>
                          </a:cubicBezTo>
                          <a:cubicBezTo>
                            <a:pt x="27" y="7"/>
                            <a:pt x="27" y="7"/>
                            <a:pt x="27" y="7"/>
                          </a:cubicBezTo>
                          <a:cubicBezTo>
                            <a:pt x="28" y="7"/>
                            <a:pt x="34" y="7"/>
                            <a:pt x="35" y="7"/>
                          </a:cubicBezTo>
                          <a:cubicBezTo>
                            <a:pt x="38" y="7"/>
                            <a:pt x="39" y="9"/>
                            <a:pt x="38" y="11"/>
                          </a:cubicBezTo>
                          <a:cubicBezTo>
                            <a:pt x="37" y="13"/>
                            <a:pt x="31" y="33"/>
                            <a:pt x="30" y="35"/>
                          </a:cubicBezTo>
                          <a:cubicBezTo>
                            <a:pt x="29" y="38"/>
                            <a:pt x="30" y="41"/>
                            <a:pt x="33" y="41"/>
                          </a:cubicBezTo>
                          <a:cubicBezTo>
                            <a:pt x="34" y="41"/>
                            <a:pt x="34" y="41"/>
                            <a:pt x="34" y="41"/>
                          </a:cubicBezTo>
                          <a:cubicBezTo>
                            <a:pt x="42" y="41"/>
                            <a:pt x="42" y="41"/>
                            <a:pt x="42" y="41"/>
                          </a:cubicBezTo>
                          <a:cubicBezTo>
                            <a:pt x="42" y="41"/>
                            <a:pt x="42" y="41"/>
                            <a:pt x="42" y="41"/>
                          </a:cubicBezTo>
                          <a:cubicBezTo>
                            <a:pt x="46" y="41"/>
                            <a:pt x="46" y="41"/>
                            <a:pt x="46" y="41"/>
                          </a:cubicBezTo>
                          <a:cubicBezTo>
                            <a:pt x="45" y="40"/>
                            <a:pt x="45" y="38"/>
                            <a:pt x="46" y="35"/>
                          </a:cubicBezTo>
                          <a:lnTo>
                            <a:pt x="53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Freeform 15"/>
                    <p:cNvSpPr/>
                    <p:nvPr/>
                  </p:nvSpPr>
                  <p:spPr>
                    <a:xfrm>
                      <a:off x="467640" y="903600"/>
                      <a:ext cx="5400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6">
                          <a:moveTo>
                            <a:pt x="28" y="15"/>
                          </a:moveTo>
                          <a:cubicBezTo>
                            <a:pt x="29" y="10"/>
                            <a:pt x="31" y="6"/>
                            <a:pt x="31" y="6"/>
                          </a:cubicBezTo>
                          <a:cubicBezTo>
                            <a:pt x="32" y="3"/>
                            <a:pt x="31" y="0"/>
                            <a:pt x="28" y="0"/>
                          </a:cubicBezTo>
                          <a:cubicBezTo>
                            <a:pt x="27" y="0"/>
                            <a:pt x="27" y="0"/>
                            <a:pt x="27" y="0"/>
                          </a:cubicBezTo>
                          <a:cubicBezTo>
                            <a:pt x="14" y="0"/>
                            <a:pt x="14" y="0"/>
                            <a:pt x="14" y="0"/>
                          </a:cubicBezTo>
                          <a:cubicBezTo>
                            <a:pt x="15" y="1"/>
                            <a:pt x="15" y="3"/>
                            <a:pt x="14" y="6"/>
                          </a:cubicBezTo>
                          <a:cubicBezTo>
                            <a:pt x="12" y="15"/>
                            <a:pt x="12" y="15"/>
                            <a:pt x="12" y="15"/>
                          </a:cubicBezTo>
                          <a:cubicBezTo>
                            <a:pt x="9" y="15"/>
                            <a:pt x="8" y="15"/>
                            <a:pt x="7" y="15"/>
                          </a:cubicBezTo>
                          <a:cubicBezTo>
                            <a:pt x="6" y="15"/>
                            <a:pt x="5" y="15"/>
                            <a:pt x="4" y="16"/>
                          </a:cubicBezTo>
                          <a:cubicBezTo>
                            <a:pt x="3" y="18"/>
                            <a:pt x="2" y="21"/>
                            <a:pt x="2" y="22"/>
                          </a:cubicBezTo>
                          <a:cubicBezTo>
                            <a:pt x="2" y="22"/>
                            <a:pt x="5" y="22"/>
                            <a:pt x="9" y="22"/>
                          </a:cubicBezTo>
                          <a:cubicBezTo>
                            <a:pt x="2" y="43"/>
                            <a:pt x="2" y="43"/>
                            <a:pt x="2" y="43"/>
                          </a:cubicBezTo>
                          <a:cubicBezTo>
                            <a:pt x="0" y="52"/>
                            <a:pt x="2" y="56"/>
                            <a:pt x="11" y="56"/>
                          </a:cubicBezTo>
                          <a:cubicBezTo>
                            <a:pt x="14" y="56"/>
                            <a:pt x="17" y="56"/>
                            <a:pt x="20" y="56"/>
                          </a:cubicBezTo>
                          <a:cubicBezTo>
                            <a:pt x="21" y="56"/>
                            <a:pt x="21" y="56"/>
                            <a:pt x="22" y="56"/>
                          </a:cubicBezTo>
                          <a:cubicBezTo>
                            <a:pt x="23" y="56"/>
                            <a:pt x="25" y="55"/>
                            <a:pt x="25" y="54"/>
                          </a:cubicBezTo>
                          <a:cubicBezTo>
                            <a:pt x="26" y="53"/>
                            <a:pt x="28" y="48"/>
                            <a:pt x="28" y="48"/>
                          </a:cubicBezTo>
                          <a:cubicBezTo>
                            <a:pt x="27" y="48"/>
                            <a:pt x="26" y="48"/>
                            <a:pt x="25" y="48"/>
                          </a:cubicBezTo>
                          <a:cubicBezTo>
                            <a:pt x="25" y="48"/>
                            <a:pt x="21" y="48"/>
                            <a:pt x="21" y="48"/>
                          </a:cubicBezTo>
                          <a:cubicBezTo>
                            <a:pt x="18" y="48"/>
                            <a:pt x="17" y="47"/>
                            <a:pt x="18" y="45"/>
                          </a:cubicBezTo>
                          <a:cubicBezTo>
                            <a:pt x="18" y="44"/>
                            <a:pt x="22" y="32"/>
                            <a:pt x="25" y="22"/>
                          </a:cubicBezTo>
                          <a:cubicBezTo>
                            <a:pt x="28" y="22"/>
                            <a:pt x="29" y="22"/>
                            <a:pt x="30" y="22"/>
                          </a:cubicBezTo>
                          <a:cubicBezTo>
                            <a:pt x="31" y="22"/>
                            <a:pt x="32" y="22"/>
                            <a:pt x="33" y="21"/>
                          </a:cubicBezTo>
                          <a:cubicBezTo>
                            <a:pt x="34" y="19"/>
                            <a:pt x="35" y="16"/>
                            <a:pt x="36" y="15"/>
                          </a:cubicBezTo>
                          <a:cubicBezTo>
                            <a:pt x="36" y="15"/>
                            <a:pt x="32" y="15"/>
                            <a:pt x="28" y="15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Freeform 16"/>
                    <p:cNvSpPr/>
                    <p:nvPr/>
                  </p:nvSpPr>
                  <p:spPr>
                    <a:xfrm>
                      <a:off x="123120" y="753840"/>
                      <a:ext cx="2725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02">
                          <a:moveTo>
                            <a:pt x="180" y="23"/>
                          </a:moveTo>
                          <a:cubicBezTo>
                            <a:pt x="178" y="22"/>
                            <a:pt x="171" y="13"/>
                            <a:pt x="166" y="9"/>
                          </a:cubicBezTo>
                          <a:cubicBezTo>
                            <a:pt x="165" y="8"/>
                            <a:pt x="163" y="7"/>
                            <a:pt x="162" y="7"/>
                          </a:cubicBezTo>
                          <a:cubicBezTo>
                            <a:pt x="162" y="5"/>
                            <a:pt x="163" y="4"/>
                            <a:pt x="163" y="3"/>
                          </a:cubicBezTo>
                          <a:cubicBezTo>
                            <a:pt x="163" y="2"/>
                            <a:pt x="163" y="0"/>
                            <a:pt x="161" y="2"/>
                          </a:cubicBezTo>
                          <a:cubicBezTo>
                            <a:pt x="160" y="3"/>
                            <a:pt x="158" y="4"/>
                            <a:pt x="156" y="6"/>
                          </a:cubicBezTo>
                          <a:cubicBezTo>
                            <a:pt x="155" y="4"/>
                            <a:pt x="153" y="5"/>
                            <a:pt x="152" y="5"/>
                          </a:cubicBezTo>
                          <a:cubicBezTo>
                            <a:pt x="151" y="4"/>
                            <a:pt x="151" y="6"/>
                            <a:pt x="150" y="5"/>
                          </a:cubicBezTo>
                          <a:cubicBezTo>
                            <a:pt x="148" y="5"/>
                            <a:pt x="149" y="3"/>
                            <a:pt x="150" y="3"/>
                          </a:cubicBezTo>
                          <a:cubicBezTo>
                            <a:pt x="148" y="2"/>
                            <a:pt x="147" y="5"/>
                            <a:pt x="147" y="6"/>
                          </a:cubicBezTo>
                          <a:cubicBezTo>
                            <a:pt x="146" y="6"/>
                            <a:pt x="146" y="5"/>
                            <a:pt x="144" y="4"/>
                          </a:cubicBezTo>
                          <a:cubicBezTo>
                            <a:pt x="143" y="4"/>
                            <a:pt x="141" y="5"/>
                            <a:pt x="140" y="6"/>
                          </a:cubicBezTo>
                          <a:cubicBezTo>
                            <a:pt x="141" y="5"/>
                            <a:pt x="143" y="5"/>
                            <a:pt x="143" y="6"/>
                          </a:cubicBezTo>
                          <a:cubicBezTo>
                            <a:pt x="143" y="8"/>
                            <a:pt x="139" y="7"/>
                            <a:pt x="140" y="9"/>
                          </a:cubicBezTo>
                          <a:cubicBezTo>
                            <a:pt x="138" y="10"/>
                            <a:pt x="137" y="11"/>
                            <a:pt x="136" y="12"/>
                          </a:cubicBezTo>
                          <a:cubicBezTo>
                            <a:pt x="137" y="12"/>
                            <a:pt x="140" y="11"/>
                            <a:pt x="142" y="12"/>
                          </a:cubicBezTo>
                          <a:cubicBezTo>
                            <a:pt x="140" y="12"/>
                            <a:pt x="135" y="13"/>
                            <a:pt x="134" y="15"/>
                          </a:cubicBezTo>
                          <a:cubicBezTo>
                            <a:pt x="132" y="13"/>
                            <a:pt x="129" y="11"/>
                            <a:pt x="127" y="13"/>
                          </a:cubicBezTo>
                          <a:cubicBezTo>
                            <a:pt x="129" y="11"/>
                            <a:pt x="132" y="13"/>
                            <a:pt x="133" y="16"/>
                          </a:cubicBezTo>
                          <a:cubicBezTo>
                            <a:pt x="129" y="15"/>
                            <a:pt x="124" y="10"/>
                            <a:pt x="122" y="13"/>
                          </a:cubicBezTo>
                          <a:cubicBezTo>
                            <a:pt x="124" y="12"/>
                            <a:pt x="126" y="14"/>
                            <a:pt x="128" y="15"/>
                          </a:cubicBezTo>
                          <a:cubicBezTo>
                            <a:pt x="129" y="16"/>
                            <a:pt x="129" y="17"/>
                            <a:pt x="130" y="18"/>
                          </a:cubicBezTo>
                          <a:cubicBezTo>
                            <a:pt x="126" y="19"/>
                            <a:pt x="120" y="19"/>
                            <a:pt x="118" y="18"/>
                          </a:cubicBezTo>
                          <a:cubicBezTo>
                            <a:pt x="119" y="20"/>
                            <a:pt x="126" y="21"/>
                            <a:pt x="127" y="21"/>
                          </a:cubicBezTo>
                          <a:cubicBezTo>
                            <a:pt x="126" y="22"/>
                            <a:pt x="116" y="21"/>
                            <a:pt x="114" y="20"/>
                          </a:cubicBezTo>
                          <a:cubicBezTo>
                            <a:pt x="117" y="22"/>
                            <a:pt x="122" y="23"/>
                            <a:pt x="125" y="23"/>
                          </a:cubicBezTo>
                          <a:cubicBezTo>
                            <a:pt x="120" y="27"/>
                            <a:pt x="115" y="22"/>
                            <a:pt x="111" y="26"/>
                          </a:cubicBezTo>
                          <a:cubicBezTo>
                            <a:pt x="115" y="25"/>
                            <a:pt x="119" y="26"/>
                            <a:pt x="120" y="26"/>
                          </a:cubicBezTo>
                          <a:cubicBezTo>
                            <a:pt x="115" y="26"/>
                            <a:pt x="112" y="27"/>
                            <a:pt x="110" y="28"/>
                          </a:cubicBezTo>
                          <a:cubicBezTo>
                            <a:pt x="115" y="26"/>
                            <a:pt x="116" y="28"/>
                            <a:pt x="119" y="28"/>
                          </a:cubicBezTo>
                          <a:cubicBezTo>
                            <a:pt x="118" y="29"/>
                            <a:pt x="118" y="29"/>
                            <a:pt x="118" y="29"/>
                          </a:cubicBezTo>
                          <a:cubicBezTo>
                            <a:pt x="111" y="30"/>
                            <a:pt x="99" y="32"/>
                            <a:pt x="85" y="26"/>
                          </a:cubicBezTo>
                          <a:cubicBezTo>
                            <a:pt x="83" y="25"/>
                            <a:pt x="82" y="25"/>
                            <a:pt x="79" y="25"/>
                          </a:cubicBezTo>
                          <a:cubicBezTo>
                            <a:pt x="75" y="25"/>
                            <a:pt x="70" y="27"/>
                            <a:pt x="67" y="29"/>
                          </a:cubicBezTo>
                          <a:cubicBezTo>
                            <a:pt x="66" y="28"/>
                            <a:pt x="64" y="27"/>
                            <a:pt x="63" y="27"/>
                          </a:cubicBezTo>
                          <a:cubicBezTo>
                            <a:pt x="62" y="26"/>
                            <a:pt x="62" y="26"/>
                            <a:pt x="61" y="26"/>
                          </a:cubicBezTo>
                          <a:cubicBezTo>
                            <a:pt x="53" y="21"/>
                            <a:pt x="25" y="19"/>
                            <a:pt x="29" y="8"/>
                          </a:cubicBezTo>
                          <a:cubicBezTo>
                            <a:pt x="27" y="13"/>
                            <a:pt x="29" y="16"/>
                            <a:pt x="32" y="19"/>
                          </a:cubicBezTo>
                          <a:cubicBezTo>
                            <a:pt x="18" y="17"/>
                            <a:pt x="5" y="13"/>
                            <a:pt x="0" y="3"/>
                          </a:cubicBezTo>
                          <a:cubicBezTo>
                            <a:pt x="1" y="10"/>
                            <a:pt x="2" y="15"/>
                            <a:pt x="4" y="18"/>
                          </a:cubicBezTo>
                          <a:cubicBezTo>
                            <a:pt x="2" y="18"/>
                            <a:pt x="1" y="16"/>
                            <a:pt x="0" y="15"/>
                          </a:cubicBezTo>
                          <a:cubicBezTo>
                            <a:pt x="1" y="19"/>
                            <a:pt x="3" y="23"/>
                            <a:pt x="8" y="24"/>
                          </a:cubicBezTo>
                          <a:cubicBezTo>
                            <a:pt x="6" y="25"/>
                            <a:pt x="4" y="24"/>
                            <a:pt x="3" y="24"/>
                          </a:cubicBezTo>
                          <a:cubicBezTo>
                            <a:pt x="5" y="27"/>
                            <a:pt x="13" y="29"/>
                            <a:pt x="22" y="30"/>
                          </a:cubicBezTo>
                          <a:cubicBezTo>
                            <a:pt x="28" y="31"/>
                            <a:pt x="36" y="30"/>
                            <a:pt x="46" y="29"/>
                          </a:cubicBezTo>
                          <a:cubicBezTo>
                            <a:pt x="53" y="28"/>
                            <a:pt x="59" y="29"/>
                            <a:pt x="64" y="31"/>
                          </a:cubicBezTo>
                          <a:cubicBezTo>
                            <a:pt x="63" y="32"/>
                            <a:pt x="63" y="33"/>
                            <a:pt x="62" y="33"/>
                          </a:cubicBezTo>
                          <a:cubicBezTo>
                            <a:pt x="58" y="40"/>
                            <a:pt x="61" y="53"/>
                            <a:pt x="65" y="58"/>
                          </a:cubicBezTo>
                          <a:cubicBezTo>
                            <a:pt x="65" y="59"/>
                            <a:pt x="66" y="60"/>
                            <a:pt x="67" y="60"/>
                          </a:cubicBezTo>
                          <a:cubicBezTo>
                            <a:pt x="69" y="62"/>
                            <a:pt x="71" y="65"/>
                            <a:pt x="71" y="67"/>
                          </a:cubicBezTo>
                          <a:cubicBezTo>
                            <a:pt x="71" y="67"/>
                            <a:pt x="71" y="67"/>
                            <a:pt x="71" y="67"/>
                          </a:cubicBezTo>
                          <a:cubicBezTo>
                            <a:pt x="71" y="68"/>
                            <a:pt x="71" y="69"/>
                            <a:pt x="71" y="69"/>
                          </a:cubicBezTo>
                          <a:cubicBezTo>
                            <a:pt x="72" y="70"/>
                            <a:pt x="72" y="71"/>
                            <a:pt x="73" y="71"/>
                          </a:cubicBezTo>
                          <a:cubicBezTo>
                            <a:pt x="73" y="72"/>
                            <a:pt x="72" y="73"/>
                            <a:pt x="72" y="73"/>
                          </a:cubicBezTo>
                          <a:cubicBezTo>
                            <a:pt x="71" y="76"/>
                            <a:pt x="71" y="77"/>
                            <a:pt x="74" y="79"/>
                          </a:cubicBezTo>
                          <a:cubicBezTo>
                            <a:pt x="79" y="84"/>
                            <a:pt x="83" y="87"/>
                            <a:pt x="86" y="90"/>
                          </a:cubicBezTo>
                          <a:cubicBezTo>
                            <a:pt x="88" y="92"/>
                            <a:pt x="87" y="94"/>
                            <a:pt x="90" y="95"/>
                          </a:cubicBezTo>
                          <a:cubicBezTo>
                            <a:pt x="91" y="96"/>
                            <a:pt x="91" y="97"/>
                            <a:pt x="91" y="97"/>
                          </a:cubicBezTo>
                          <a:cubicBezTo>
                            <a:pt x="90" y="99"/>
                            <a:pt x="91" y="100"/>
                            <a:pt x="92" y="101"/>
                          </a:cubicBezTo>
                          <a:cubicBezTo>
                            <a:pt x="94" y="102"/>
                            <a:pt x="97" y="102"/>
                            <a:pt x="99" y="101"/>
                          </a:cubicBezTo>
                          <a:cubicBezTo>
                            <a:pt x="99" y="100"/>
                            <a:pt x="98" y="99"/>
                            <a:pt x="98" y="98"/>
                          </a:cubicBezTo>
                          <a:cubicBezTo>
                            <a:pt x="96" y="97"/>
                            <a:pt x="96" y="96"/>
                            <a:pt x="95" y="94"/>
                          </a:cubicBezTo>
                          <a:cubicBezTo>
                            <a:pt x="94" y="91"/>
                            <a:pt x="92" y="91"/>
                            <a:pt x="87" y="86"/>
                          </a:cubicBezTo>
                          <a:cubicBezTo>
                            <a:pt x="87" y="86"/>
                            <a:pt x="87" y="86"/>
                            <a:pt x="87" y="86"/>
                          </a:cubicBezTo>
                          <a:cubicBezTo>
                            <a:pt x="86" y="84"/>
                            <a:pt x="84" y="82"/>
                            <a:pt x="83" y="80"/>
                          </a:cubicBezTo>
                          <a:cubicBezTo>
                            <a:pt x="82" y="79"/>
                            <a:pt x="82" y="79"/>
                            <a:pt x="82" y="77"/>
                          </a:cubicBezTo>
                          <a:cubicBezTo>
                            <a:pt x="83" y="75"/>
                            <a:pt x="84" y="74"/>
                            <a:pt x="84" y="72"/>
                          </a:cubicBezTo>
                          <a:cubicBezTo>
                            <a:pt x="88" y="72"/>
                            <a:pt x="93" y="72"/>
                            <a:pt x="93" y="72"/>
                          </a:cubicBezTo>
                          <a:cubicBezTo>
                            <a:pt x="94" y="74"/>
                            <a:pt x="96" y="74"/>
                            <a:pt x="98" y="73"/>
                          </a:cubicBezTo>
                          <a:cubicBezTo>
                            <a:pt x="98" y="73"/>
                            <a:pt x="98" y="74"/>
                            <a:pt x="98" y="74"/>
                          </a:cubicBezTo>
                          <a:cubicBezTo>
                            <a:pt x="97" y="74"/>
                            <a:pt x="97" y="76"/>
                            <a:pt x="97" y="77"/>
                          </a:cubicBezTo>
                          <a:cubicBezTo>
                            <a:pt x="97" y="79"/>
                            <a:pt x="100" y="81"/>
                            <a:pt x="102" y="80"/>
                          </a:cubicBezTo>
                          <a:cubicBezTo>
                            <a:pt x="103" y="80"/>
                            <a:pt x="103" y="79"/>
                            <a:pt x="103" y="78"/>
                          </a:cubicBezTo>
                          <a:cubicBezTo>
                            <a:pt x="103" y="75"/>
                            <a:pt x="102" y="72"/>
                            <a:pt x="102" y="71"/>
                          </a:cubicBezTo>
                          <a:cubicBezTo>
                            <a:pt x="102" y="69"/>
                            <a:pt x="100" y="67"/>
                            <a:pt x="97" y="68"/>
                          </a:cubicBezTo>
                          <a:cubicBezTo>
                            <a:pt x="92" y="67"/>
                            <a:pt x="92" y="67"/>
                            <a:pt x="92" y="67"/>
                          </a:cubicBezTo>
                          <a:cubicBezTo>
                            <a:pt x="92" y="67"/>
                            <a:pt x="90" y="67"/>
                            <a:pt x="88" y="67"/>
                          </a:cubicBezTo>
                          <a:cubicBezTo>
                            <a:pt x="88" y="67"/>
                            <a:pt x="88" y="67"/>
                            <a:pt x="88" y="67"/>
                          </a:cubicBezTo>
                          <a:cubicBezTo>
                            <a:pt x="95" y="62"/>
                            <a:pt x="97" y="55"/>
                            <a:pt x="96" y="46"/>
                          </a:cubicBezTo>
                          <a:cubicBezTo>
                            <a:pt x="96" y="46"/>
                            <a:pt x="98" y="52"/>
                            <a:pt x="97" y="58"/>
                          </a:cubicBezTo>
                          <a:cubicBezTo>
                            <a:pt x="104" y="62"/>
                            <a:pt x="116" y="65"/>
                            <a:pt x="128" y="64"/>
                          </a:cubicBezTo>
                          <a:cubicBezTo>
                            <a:pt x="128" y="65"/>
                            <a:pt x="128" y="65"/>
                            <a:pt x="128" y="65"/>
                          </a:cubicBezTo>
                          <a:cubicBezTo>
                            <a:pt x="132" y="68"/>
                            <a:pt x="139" y="71"/>
                            <a:pt x="143" y="72"/>
                          </a:cubicBezTo>
                          <a:cubicBezTo>
                            <a:pt x="143" y="72"/>
                            <a:pt x="143" y="72"/>
                            <a:pt x="143" y="72"/>
                          </a:cubicBezTo>
                          <a:cubicBezTo>
                            <a:pt x="143" y="73"/>
                            <a:pt x="143" y="73"/>
                            <a:pt x="143" y="74"/>
                          </a:cubicBezTo>
                          <a:cubicBezTo>
                            <a:pt x="141" y="74"/>
                            <a:pt x="136" y="76"/>
                            <a:pt x="135" y="76"/>
                          </a:cubicBezTo>
                          <a:cubicBezTo>
                            <a:pt x="134" y="76"/>
                            <a:pt x="133" y="76"/>
                            <a:pt x="133" y="76"/>
                          </a:cubicBezTo>
                          <a:cubicBezTo>
                            <a:pt x="131" y="77"/>
                            <a:pt x="131" y="77"/>
                            <a:pt x="130" y="78"/>
                          </a:cubicBezTo>
                          <a:cubicBezTo>
                            <a:pt x="130" y="79"/>
                            <a:pt x="128" y="78"/>
                            <a:pt x="128" y="77"/>
                          </a:cubicBezTo>
                          <a:cubicBezTo>
                            <a:pt x="127" y="77"/>
                            <a:pt x="127" y="77"/>
                            <a:pt x="126" y="76"/>
                          </a:cubicBezTo>
                          <a:cubicBezTo>
                            <a:pt x="124" y="77"/>
                            <a:pt x="121" y="79"/>
                            <a:pt x="120" y="80"/>
                          </a:cubicBezTo>
                          <a:cubicBezTo>
                            <a:pt x="121" y="80"/>
                            <a:pt x="121" y="81"/>
                            <a:pt x="123" y="81"/>
                          </a:cubicBezTo>
                          <a:cubicBezTo>
                            <a:pt x="126" y="82"/>
                            <a:pt x="127" y="82"/>
                            <a:pt x="129" y="82"/>
                          </a:cubicBezTo>
                          <a:cubicBezTo>
                            <a:pt x="130" y="83"/>
                            <a:pt x="132" y="83"/>
                            <a:pt x="133" y="82"/>
                          </a:cubicBezTo>
                          <a:cubicBezTo>
                            <a:pt x="134" y="81"/>
                            <a:pt x="135" y="81"/>
                            <a:pt x="136" y="81"/>
                          </a:cubicBezTo>
                          <a:cubicBezTo>
                            <a:pt x="141" y="79"/>
                            <a:pt x="146" y="77"/>
                            <a:pt x="149" y="76"/>
                          </a:cubicBezTo>
                          <a:cubicBezTo>
                            <a:pt x="149" y="76"/>
                            <a:pt x="149" y="76"/>
                            <a:pt x="150" y="75"/>
                          </a:cubicBezTo>
                          <a:cubicBezTo>
                            <a:pt x="150" y="74"/>
                            <a:pt x="151" y="73"/>
                            <a:pt x="151" y="72"/>
                          </a:cubicBezTo>
                          <a:cubicBezTo>
                            <a:pt x="151" y="71"/>
                            <a:pt x="150" y="70"/>
                            <a:pt x="150" y="70"/>
                          </a:cubicBezTo>
                          <a:cubicBezTo>
                            <a:pt x="148" y="68"/>
                            <a:pt x="146" y="67"/>
                            <a:pt x="145" y="66"/>
                          </a:cubicBezTo>
                          <a:cubicBezTo>
                            <a:pt x="135" y="67"/>
                            <a:pt x="128" y="63"/>
                            <a:pt x="127" y="60"/>
                          </a:cubicBezTo>
                          <a:cubicBezTo>
                            <a:pt x="131" y="63"/>
                            <a:pt x="138" y="66"/>
                            <a:pt x="146" y="64"/>
                          </a:cubicBezTo>
                          <a:cubicBezTo>
                            <a:pt x="150" y="64"/>
                            <a:pt x="153" y="64"/>
                            <a:pt x="159" y="65"/>
                          </a:cubicBezTo>
                          <a:cubicBezTo>
                            <a:pt x="159" y="65"/>
                            <a:pt x="160" y="65"/>
                            <a:pt x="161" y="65"/>
                          </a:cubicBezTo>
                          <a:cubicBezTo>
                            <a:pt x="161" y="65"/>
                            <a:pt x="161" y="66"/>
                            <a:pt x="162" y="66"/>
                          </a:cubicBezTo>
                          <a:cubicBezTo>
                            <a:pt x="162" y="67"/>
                            <a:pt x="162" y="67"/>
                            <a:pt x="162" y="68"/>
                          </a:cubicBezTo>
                          <a:cubicBezTo>
                            <a:pt x="161" y="72"/>
                            <a:pt x="160" y="75"/>
                            <a:pt x="160" y="78"/>
                          </a:cubicBezTo>
                          <a:cubicBezTo>
                            <a:pt x="159" y="78"/>
                            <a:pt x="159" y="78"/>
                            <a:pt x="159" y="79"/>
                          </a:cubicBezTo>
                          <a:cubicBezTo>
                            <a:pt x="158" y="80"/>
                            <a:pt x="158" y="81"/>
                            <a:pt x="158" y="82"/>
                          </a:cubicBezTo>
                          <a:cubicBezTo>
                            <a:pt x="158" y="82"/>
                            <a:pt x="158" y="82"/>
                            <a:pt x="158" y="82"/>
                          </a:cubicBezTo>
                          <a:cubicBezTo>
                            <a:pt x="157" y="83"/>
                            <a:pt x="156" y="83"/>
                            <a:pt x="155" y="83"/>
                          </a:cubicBezTo>
                          <a:cubicBezTo>
                            <a:pt x="154" y="83"/>
                            <a:pt x="153" y="83"/>
                            <a:pt x="153" y="84"/>
                          </a:cubicBezTo>
                          <a:cubicBezTo>
                            <a:pt x="152" y="86"/>
                            <a:pt x="152" y="88"/>
                            <a:pt x="153" y="90"/>
                          </a:cubicBezTo>
                          <a:cubicBezTo>
                            <a:pt x="154" y="90"/>
                            <a:pt x="155" y="89"/>
                            <a:pt x="156" y="89"/>
                          </a:cubicBezTo>
                          <a:cubicBezTo>
                            <a:pt x="159" y="87"/>
                            <a:pt x="160" y="85"/>
                            <a:pt x="162" y="84"/>
                          </a:cubicBezTo>
                          <a:cubicBezTo>
                            <a:pt x="163" y="83"/>
                            <a:pt x="164" y="83"/>
                            <a:pt x="164" y="82"/>
                          </a:cubicBezTo>
                          <a:cubicBezTo>
                            <a:pt x="165" y="81"/>
                            <a:pt x="165" y="80"/>
                            <a:pt x="165" y="78"/>
                          </a:cubicBezTo>
                          <a:cubicBezTo>
                            <a:pt x="165" y="78"/>
                            <a:pt x="165" y="78"/>
                            <a:pt x="165" y="78"/>
                          </a:cubicBezTo>
                          <a:cubicBezTo>
                            <a:pt x="165" y="76"/>
                            <a:pt x="166" y="73"/>
                            <a:pt x="166" y="70"/>
                          </a:cubicBezTo>
                          <a:cubicBezTo>
                            <a:pt x="166" y="68"/>
                            <a:pt x="167" y="68"/>
                            <a:pt x="167" y="66"/>
                          </a:cubicBezTo>
                          <a:cubicBezTo>
                            <a:pt x="167" y="66"/>
                            <a:pt x="168" y="65"/>
                            <a:pt x="167" y="64"/>
                          </a:cubicBezTo>
                          <a:cubicBezTo>
                            <a:pt x="167" y="62"/>
                            <a:pt x="167" y="62"/>
                            <a:pt x="165" y="60"/>
                          </a:cubicBezTo>
                          <a:cubicBezTo>
                            <a:pt x="164" y="60"/>
                            <a:pt x="163" y="59"/>
                            <a:pt x="162" y="59"/>
                          </a:cubicBezTo>
                          <a:cubicBezTo>
                            <a:pt x="158" y="58"/>
                            <a:pt x="153" y="55"/>
                            <a:pt x="147" y="53"/>
                          </a:cubicBezTo>
                          <a:cubicBezTo>
                            <a:pt x="148" y="50"/>
                            <a:pt x="148" y="47"/>
                            <a:pt x="149" y="42"/>
                          </a:cubicBezTo>
                          <a:cubicBezTo>
                            <a:pt x="149" y="35"/>
                            <a:pt x="152" y="31"/>
                            <a:pt x="155" y="28"/>
                          </a:cubicBezTo>
                          <a:cubicBezTo>
                            <a:pt x="157" y="25"/>
                            <a:pt x="159" y="24"/>
                            <a:pt x="160" y="24"/>
                          </a:cubicBezTo>
                          <a:cubicBezTo>
                            <a:pt x="160" y="22"/>
                            <a:pt x="161" y="20"/>
                            <a:pt x="161" y="20"/>
                          </a:cubicBezTo>
                          <a:cubicBezTo>
                            <a:pt x="161" y="20"/>
                            <a:pt x="162" y="23"/>
                            <a:pt x="163" y="24"/>
                          </a:cubicBezTo>
                          <a:cubicBezTo>
                            <a:pt x="164" y="25"/>
                            <a:pt x="165" y="27"/>
                            <a:pt x="168" y="26"/>
                          </a:cubicBezTo>
                          <a:cubicBezTo>
                            <a:pt x="170" y="27"/>
                            <a:pt x="173" y="27"/>
                            <a:pt x="174" y="29"/>
                          </a:cubicBezTo>
                          <a:cubicBezTo>
                            <a:pt x="174" y="30"/>
                            <a:pt x="176" y="31"/>
                            <a:pt x="177" y="30"/>
                          </a:cubicBezTo>
                          <a:cubicBezTo>
                            <a:pt x="177" y="30"/>
                            <a:pt x="177" y="29"/>
                            <a:pt x="177" y="29"/>
                          </a:cubicBezTo>
                          <a:cubicBezTo>
                            <a:pt x="176" y="29"/>
                            <a:pt x="175" y="28"/>
                            <a:pt x="174" y="27"/>
                          </a:cubicBezTo>
                          <a:cubicBezTo>
                            <a:pt x="175" y="27"/>
                            <a:pt x="175" y="27"/>
                            <a:pt x="175" y="27"/>
                          </a:cubicBezTo>
                          <a:cubicBezTo>
                            <a:pt x="176" y="27"/>
                            <a:pt x="177" y="29"/>
                            <a:pt x="178" y="29"/>
                          </a:cubicBezTo>
                          <a:cubicBezTo>
                            <a:pt x="178" y="29"/>
                            <a:pt x="178" y="29"/>
                            <a:pt x="178" y="29"/>
                          </a:cubicBezTo>
                          <a:cubicBezTo>
                            <a:pt x="179" y="29"/>
                            <a:pt x="179" y="29"/>
                            <a:pt x="180" y="28"/>
                          </a:cubicBezTo>
                          <a:cubicBezTo>
                            <a:pt x="179" y="27"/>
                            <a:pt x="179" y="27"/>
                            <a:pt x="179" y="26"/>
                          </a:cubicBezTo>
                          <a:cubicBezTo>
                            <a:pt x="180" y="26"/>
                            <a:pt x="180" y="26"/>
                            <a:pt x="180" y="26"/>
                          </a:cubicBezTo>
                          <a:cubicBezTo>
                            <a:pt x="180" y="27"/>
                            <a:pt x="180" y="27"/>
                            <a:pt x="180" y="27"/>
                          </a:cubicBezTo>
                          <a:cubicBezTo>
                            <a:pt x="181" y="26"/>
                            <a:pt x="181" y="24"/>
                            <a:pt x="180" y="23"/>
                          </a:cubicBezTo>
                          <a:close/>
                          <a:moveTo>
                            <a:pt x="144" y="48"/>
                          </a:moveTo>
                          <a:cubicBezTo>
                            <a:pt x="142" y="38"/>
                            <a:pt x="138" y="35"/>
                            <a:pt x="130" y="33"/>
                          </a:cubicBezTo>
                          <a:cubicBezTo>
                            <a:pt x="141" y="34"/>
                            <a:pt x="144" y="39"/>
                            <a:pt x="144" y="48"/>
                          </a:cubicBezTo>
                          <a:close/>
                          <a:moveTo>
                            <a:pt x="172" y="17"/>
                          </a:moveTo>
                          <a:cubicBezTo>
                            <a:pt x="171" y="18"/>
                            <a:pt x="171" y="17"/>
                            <a:pt x="171" y="17"/>
                          </a:cubicBezTo>
                          <a:cubicBezTo>
                            <a:pt x="170" y="17"/>
                            <a:pt x="169" y="15"/>
                            <a:pt x="169" y="15"/>
                          </a:cubicBezTo>
                          <a:cubicBezTo>
                            <a:pt x="169" y="15"/>
                            <a:pt x="171" y="16"/>
                            <a:pt x="172" y="16"/>
                          </a:cubicBezTo>
                          <a:cubicBezTo>
                            <a:pt x="172" y="17"/>
                            <a:pt x="172" y="17"/>
                            <a:pt x="172" y="17"/>
                          </a:cubicBez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" name="グループ化 20"/>
                <p:cNvGrpSpPr/>
                <p:nvPr/>
              </p:nvGrpSpPr>
              <p:grpSpPr>
                <a:xfrm>
                  <a:off x="5775840" y="277200"/>
                  <a:ext cx="2520360" cy="695160"/>
                  <a:chOff x="5775840" y="277200"/>
                  <a:chExt cx="2520360" cy="695160"/>
                </a:xfrm>
              </p:grpSpPr>
              <p:cxnSp>
                <p:nvCxnSpPr>
                  <p:cNvPr id="89" name="AutoShape 10"/>
                  <p:cNvCxnSpPr/>
                  <p:nvPr/>
                </p:nvCxnSpPr>
                <p:spPr>
                  <a:xfrm flipH="1">
                    <a:off x="6309720" y="395280"/>
                    <a:ext cx="594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90" name="グループ化 22"/>
                  <p:cNvGrpSpPr/>
                  <p:nvPr/>
                </p:nvGrpSpPr>
                <p:grpSpPr>
                  <a:xfrm>
                    <a:off x="5775840" y="277200"/>
                    <a:ext cx="982800" cy="695160"/>
                    <a:chOff x="5775840" y="277200"/>
                    <a:chExt cx="982800" cy="695160"/>
                  </a:xfrm>
                </p:grpSpPr>
                <p:pic>
                  <p:nvPicPr>
                    <p:cNvPr id="91" name="Picture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04280" y="477000"/>
                      <a:ext cx="94068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92" name="グループ化 25"/>
                    <p:cNvGrpSpPr/>
                    <p:nvPr/>
                  </p:nvGrpSpPr>
                  <p:grpSpPr>
                    <a:xfrm>
                      <a:off x="5775840" y="277200"/>
                      <a:ext cx="982800" cy="695160"/>
                      <a:chOff x="5775840" y="277200"/>
                      <a:chExt cx="982800" cy="695160"/>
                    </a:xfrm>
                  </p:grpSpPr>
                  <p:sp>
                    <p:nvSpPr>
                      <p:cNvPr id="93" name="Rectangle 47"/>
                      <p:cNvSpPr/>
                      <p:nvPr/>
                    </p:nvSpPr>
                    <p:spPr>
                      <a:xfrm>
                        <a:off x="6217920" y="326160"/>
                        <a:ext cx="100080" cy="215640"/>
                      </a:xfrm>
                      <a:prstGeom prst="rect">
                        <a:avLst/>
                      </a:prstGeom>
                      <a:solidFill>
                        <a:srgbClr val="00b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74160" rIns="74160" tIns="9000" bIns="9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" name="Rectangle 55"/>
                      <p:cNvSpPr/>
                      <p:nvPr/>
                    </p:nvSpPr>
                    <p:spPr>
                      <a:xfrm>
                        <a:off x="5775840" y="277200"/>
                        <a:ext cx="982800" cy="695160"/>
                      </a:xfrm>
                      <a:prstGeom prst="rect">
                        <a:avLst/>
                      </a:prstGeom>
                      <a:noFill/>
                      <a:ln w="64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74160" rIns="74160" tIns="9000" bIns="9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" name="Rectangle 47"/>
                      <p:cNvSpPr/>
                      <p:nvPr/>
                    </p:nvSpPr>
                    <p:spPr>
                      <a:xfrm>
                        <a:off x="6217920" y="707400"/>
                        <a:ext cx="100080" cy="215640"/>
                      </a:xfrm>
                      <a:prstGeom prst="rect">
                        <a:avLst/>
                      </a:prstGeom>
                      <a:solidFill>
                        <a:srgbClr val="00b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74160" rIns="74160" tIns="9000" bIns="9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6" name="Text Box 9"/>
                  <p:cNvSpPr/>
                  <p:nvPr/>
                </p:nvSpPr>
                <p:spPr>
                  <a:xfrm>
                    <a:off x="6904080" y="344160"/>
                    <a:ext cx="1392120" cy="488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t" vert="eaVer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参加賞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記念品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粗品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御歳暮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御中元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御年賀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御礼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御挨拶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HGS明朝E"/>
                      </a:rPr>
                      <a:t>など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4T03:16:30Z</dcterms:modified>
  <cp:revision>19</cp:revision>
  <dc:subject/>
  <dc:title>スライド 1</dc:title>
</cp:coreProperties>
</file>