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8792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000" y="289944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7284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0876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82352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400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20876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82352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94000" y="1263600"/>
            <a:ext cx="1069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1069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94000" y="215280"/>
            <a:ext cx="10691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4000" y="1263600"/>
            <a:ext cx="1069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284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4000" y="289944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7284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876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823520" y="126360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9400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20876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823520" y="2899440"/>
            <a:ext cx="34423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1069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94000" y="215280"/>
            <a:ext cx="10691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72840" y="289944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400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72840" y="1263600"/>
            <a:ext cx="521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000" y="2899440"/>
            <a:ext cx="10691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1079640" y="1079640"/>
            <a:ext cx="9721800" cy="3241440"/>
            <a:chOff x="1079640" y="1079640"/>
            <a:chExt cx="9721800" cy="3241440"/>
          </a:xfrm>
        </p:grpSpPr>
        <p:sp>
          <p:nvSpPr>
            <p:cNvPr id="1" name="直線コネクタ 1"/>
            <p:cNvSpPr/>
            <p:nvPr/>
          </p:nvSpPr>
          <p:spPr>
            <a:xfrm>
              <a:off x="1079640" y="133200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2"/>
            <p:cNvSpPr/>
            <p:nvPr/>
          </p:nvSpPr>
          <p:spPr>
            <a:xfrm>
              <a:off x="1079640" y="144000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3"/>
            <p:cNvSpPr/>
            <p:nvPr/>
          </p:nvSpPr>
          <p:spPr>
            <a:xfrm>
              <a:off x="1079640" y="270036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4"/>
            <p:cNvSpPr/>
            <p:nvPr/>
          </p:nvSpPr>
          <p:spPr>
            <a:xfrm>
              <a:off x="1079640" y="395784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5"/>
            <p:cNvSpPr/>
            <p:nvPr/>
          </p:nvSpPr>
          <p:spPr>
            <a:xfrm>
              <a:off x="1079640" y="406872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6"/>
            <p:cNvSpPr/>
            <p:nvPr/>
          </p:nvSpPr>
          <p:spPr>
            <a:xfrm>
              <a:off x="133200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7"/>
            <p:cNvSpPr/>
            <p:nvPr/>
          </p:nvSpPr>
          <p:spPr>
            <a:xfrm>
              <a:off x="144000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8"/>
            <p:cNvSpPr/>
            <p:nvPr/>
          </p:nvSpPr>
          <p:spPr>
            <a:xfrm>
              <a:off x="594036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9"/>
            <p:cNvSpPr/>
            <p:nvPr/>
          </p:nvSpPr>
          <p:spPr>
            <a:xfrm>
              <a:off x="1044288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0"/>
            <p:cNvSpPr/>
            <p:nvPr/>
          </p:nvSpPr>
          <p:spPr>
            <a:xfrm>
              <a:off x="1054908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1"/>
            <p:cNvSpPr/>
            <p:nvPr/>
          </p:nvSpPr>
          <p:spPr>
            <a:xfrm>
              <a:off x="1332000" y="1332000"/>
              <a:ext cx="9217080" cy="273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3"/>
          <p:cNvGrpSpPr/>
          <p:nvPr/>
        </p:nvGrpSpPr>
        <p:grpSpPr>
          <a:xfrm>
            <a:off x="1079640" y="1079640"/>
            <a:ext cx="9721800" cy="3241440"/>
            <a:chOff x="1079640" y="1079640"/>
            <a:chExt cx="9721800" cy="3241440"/>
          </a:xfrm>
        </p:grpSpPr>
        <p:sp>
          <p:nvSpPr>
            <p:cNvPr id="49" name="直線コネクタ 1"/>
            <p:cNvSpPr/>
            <p:nvPr/>
          </p:nvSpPr>
          <p:spPr>
            <a:xfrm>
              <a:off x="1079640" y="133200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2"/>
            <p:cNvSpPr/>
            <p:nvPr/>
          </p:nvSpPr>
          <p:spPr>
            <a:xfrm>
              <a:off x="1079640" y="144000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3"/>
            <p:cNvSpPr/>
            <p:nvPr/>
          </p:nvSpPr>
          <p:spPr>
            <a:xfrm>
              <a:off x="1079640" y="270036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4"/>
            <p:cNvSpPr/>
            <p:nvPr/>
          </p:nvSpPr>
          <p:spPr>
            <a:xfrm>
              <a:off x="1079640" y="395784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5"/>
            <p:cNvSpPr/>
            <p:nvPr/>
          </p:nvSpPr>
          <p:spPr>
            <a:xfrm>
              <a:off x="1079640" y="4068720"/>
              <a:ext cx="972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6"/>
            <p:cNvSpPr/>
            <p:nvPr/>
          </p:nvSpPr>
          <p:spPr>
            <a:xfrm>
              <a:off x="133200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7"/>
            <p:cNvSpPr/>
            <p:nvPr/>
          </p:nvSpPr>
          <p:spPr>
            <a:xfrm>
              <a:off x="144000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8"/>
            <p:cNvSpPr/>
            <p:nvPr/>
          </p:nvSpPr>
          <p:spPr>
            <a:xfrm>
              <a:off x="594036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9"/>
            <p:cNvSpPr/>
            <p:nvPr/>
          </p:nvSpPr>
          <p:spPr>
            <a:xfrm>
              <a:off x="1044288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0"/>
            <p:cNvSpPr/>
            <p:nvPr/>
          </p:nvSpPr>
          <p:spPr>
            <a:xfrm>
              <a:off x="10549080" y="1079640"/>
              <a:ext cx="0" cy="32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正方形/長方形 11"/>
            <p:cNvSpPr/>
            <p:nvPr/>
          </p:nvSpPr>
          <p:spPr>
            <a:xfrm>
              <a:off x="1332000" y="1332000"/>
              <a:ext cx="9217080" cy="273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グループ化 14"/>
          <p:cNvGrpSpPr/>
          <p:nvPr/>
        </p:nvGrpSpPr>
        <p:grpSpPr>
          <a:xfrm>
            <a:off x="36360" y="36360"/>
            <a:ext cx="10404720" cy="3924360"/>
            <a:chOff x="36360" y="36360"/>
            <a:chExt cx="10404720" cy="3924360"/>
          </a:xfrm>
        </p:grpSpPr>
        <p:grpSp>
          <p:nvGrpSpPr>
            <p:cNvPr id="61" name="グループ化 15"/>
            <p:cNvGrpSpPr/>
            <p:nvPr/>
          </p:nvGrpSpPr>
          <p:grpSpPr>
            <a:xfrm>
              <a:off x="36360" y="36360"/>
              <a:ext cx="10404720" cy="3924360"/>
              <a:chOff x="36360" y="36360"/>
              <a:chExt cx="10404720" cy="3924360"/>
            </a:xfrm>
          </p:grpSpPr>
          <p:grpSp>
            <p:nvGrpSpPr>
              <p:cNvPr id="62" name="グループ化 14"/>
              <p:cNvGrpSpPr/>
              <p:nvPr/>
            </p:nvGrpSpPr>
            <p:grpSpPr>
              <a:xfrm>
                <a:off x="36360" y="36360"/>
                <a:ext cx="8641080" cy="1008000"/>
                <a:chOff x="36360" y="36360"/>
                <a:chExt cx="8641080" cy="1008000"/>
              </a:xfrm>
            </p:grpSpPr>
            <p:grpSp>
              <p:nvGrpSpPr>
                <p:cNvPr id="63" name="グループ化 15"/>
                <p:cNvGrpSpPr/>
                <p:nvPr/>
              </p:nvGrpSpPr>
              <p:grpSpPr>
                <a:xfrm>
                  <a:off x="36360" y="36360"/>
                  <a:ext cx="8641080" cy="1008000"/>
                  <a:chOff x="36360" y="36360"/>
                  <a:chExt cx="8641080" cy="1008000"/>
                </a:xfrm>
              </p:grpSpPr>
              <p:sp>
                <p:nvSpPr>
                  <p:cNvPr id="64" name="Rectangle 65"/>
                  <p:cNvSpPr/>
                  <p:nvPr/>
                </p:nvSpPr>
                <p:spPr>
                  <a:xfrm>
                    <a:off x="36360" y="36360"/>
                    <a:ext cx="1332000" cy="100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000000"/>
                        </a:solidFill>
                        <a:latin typeface="Arial"/>
                      </a:rPr>
                      <a:t>名入れタオル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50×7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67"/>
                  <p:cNvSpPr/>
                  <p:nvPr/>
                </p:nvSpPr>
                <p:spPr>
                  <a:xfrm>
                    <a:off x="1366560" y="36360"/>
                    <a:ext cx="7310880" cy="100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ctr">
                    <a:noAutofit/>
                  </a:bodyPr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じめに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「名前を付けて保存」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から、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ファイルの種類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を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「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PowerPoint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 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プレゼンテーション（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*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.pptx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）」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保存し直し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てください。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無い場合（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2003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以下）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変更せず保存し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ます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1" lang="ja-JP" sz="800" spc="-1" strike="noStrike">
                        <a:solidFill>
                          <a:srgbClr val="0000ff"/>
                        </a:solidFill>
                        <a:latin typeface="ＭＳ Ｐゴシック"/>
                      </a:rPr>
                      <a:t>内側の青色の線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の中に入れて作成してください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透過性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や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半透明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、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パターン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など</a:t>
                    </a:r>
                    <a:r>
                      <a:rPr b="0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変換が正常に出来ない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場合があります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データ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は黒</a:t>
                    </a:r>
                    <a:r>
                      <a:rPr b="1" lang="en-US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1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色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作成してください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文字の大きさは</a:t>
                    </a:r>
                    <a:r>
                      <a:rPr b="1" lang="en-US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28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ポイント（</a:t>
                    </a:r>
                    <a:r>
                      <a:rPr b="1" lang="en-US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10mm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）以上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、</a:t>
                    </a:r>
                    <a:r>
                      <a:rPr b="1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中ぐらいの太さのフォント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がおすすめです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1" lang="en-US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1mm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未満の線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かすれる可能性があります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用紙サイズの変更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や、</a:t>
                    </a:r>
                    <a:r>
                      <a:rPr b="0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トンボの移動、変形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しないようお願いします。　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このテンプレートから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PDF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を作成する際は、説明部分の線などを削除してください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marL="114480" indent="-114480">
                      <a:lnSpc>
                        <a:spcPts val="799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1128600"/>
                        <a:tab algn="l" pos="2257560"/>
                        <a:tab algn="l" pos="3386160"/>
                        <a:tab algn="l" pos="4514760"/>
                        <a:tab algn="l" pos="5643720"/>
                        <a:tab algn="l" pos="6772320"/>
                        <a:tab algn="l" pos="7900920"/>
                        <a:tab algn="l" pos="9029880"/>
                        <a:tab algn="l" pos="1015848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また、作成した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PDF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が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「</a:t>
                    </a:r>
                    <a:r>
                      <a:rPr b="1" lang="en-US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330×150mm</a:t>
                    </a:r>
                    <a:r>
                      <a:rPr b="1" lang="ja-JP" sz="8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」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かどうか確認してください。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66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92720" y="251640"/>
                  <a:ext cx="1874160" cy="726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90320" y="226080"/>
                  <a:ext cx="57600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8" name="正方形/長方形 27"/>
              <p:cNvSpPr/>
              <p:nvPr/>
            </p:nvSpPr>
            <p:spPr>
              <a:xfrm>
                <a:off x="1439640" y="1439640"/>
                <a:ext cx="9001440" cy="252108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グループ化 24"/>
            <p:cNvGrpSpPr/>
            <p:nvPr/>
          </p:nvGrpSpPr>
          <p:grpSpPr>
            <a:xfrm>
              <a:off x="61560" y="753840"/>
              <a:ext cx="460080" cy="261720"/>
              <a:chOff x="61560" y="753840"/>
              <a:chExt cx="460080" cy="261720"/>
            </a:xfrm>
          </p:grpSpPr>
          <p:sp>
            <p:nvSpPr>
              <p:cNvPr id="70" name="Freeform 8"/>
              <p:cNvSpPr/>
              <p:nvPr/>
            </p:nvSpPr>
            <p:spPr>
              <a:xfrm>
                <a:off x="61560" y="903600"/>
                <a:ext cx="168480" cy="835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368280" y="90360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139680" y="925560"/>
                <a:ext cx="84600" cy="6120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209160" y="925560"/>
                <a:ext cx="91440" cy="9000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293040" y="925560"/>
                <a:ext cx="68040" cy="612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350640" y="925560"/>
                <a:ext cx="41760" cy="6120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384840" y="925560"/>
                <a:ext cx="84600" cy="6120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467640" y="903600"/>
                <a:ext cx="54000" cy="8352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123120" y="753840"/>
                <a:ext cx="272520" cy="15264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000" y="215280"/>
            <a:ext cx="10691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94000" y="1263600"/>
            <a:ext cx="1069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5T07:40:14Z</dcterms:created>
  <dc:creator>ugo-99</dc:creator>
  <dc:description/>
  <dc:language>en-US</dc:language>
  <cp:lastModifiedBy>ugo-99</cp:lastModifiedBy>
  <dcterms:modified xsi:type="dcterms:W3CDTF">2015-08-05T09:37:41Z</dcterms:modified>
  <cp:revision>6</cp:revision>
  <dc:subject/>
  <dc:title>PowerPoint プレゼンテーション</dc:title>
</cp:coreProperties>
</file>