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219700" cy="3959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4697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61000" y="2126160"/>
            <a:ext cx="4697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96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61000" y="212616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2667960" y="212616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49320" y="92664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7640" y="92664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1000" y="212616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1849320" y="212616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3437640" y="212616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61000" y="926640"/>
            <a:ext cx="4697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4697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22921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667960" y="926640"/>
            <a:ext cx="22921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61000" y="157680"/>
            <a:ext cx="4697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67960" y="926640"/>
            <a:ext cx="22921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1000" y="212616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261000" y="926640"/>
            <a:ext cx="4697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22921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6796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667960" y="212616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66796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61000" y="2126160"/>
            <a:ext cx="4697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4697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61000" y="2126160"/>
            <a:ext cx="4697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66796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61000" y="212616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7960" y="212616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849320" y="92664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37640" y="92664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61000" y="212616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1849320" y="212616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3437640" y="212616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4697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22921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2667960" y="926640"/>
            <a:ext cx="22921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261000" y="157680"/>
            <a:ext cx="4697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67960" y="926640"/>
            <a:ext cx="22921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261000" y="212616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22921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66796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67960" y="212616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66796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61000" y="2126160"/>
            <a:ext cx="4697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グループ化 1"/>
          <p:cNvGrpSpPr/>
          <p:nvPr/>
        </p:nvGrpSpPr>
        <p:grpSpPr>
          <a:xfrm>
            <a:off x="900000" y="900000"/>
            <a:ext cx="3419640" cy="2160720"/>
            <a:chOff x="900000" y="900000"/>
            <a:chExt cx="3419640" cy="2160720"/>
          </a:xfrm>
        </p:grpSpPr>
        <p:grpSp>
          <p:nvGrpSpPr>
            <p:cNvPr id="37" name="グループ化 2"/>
            <p:cNvGrpSpPr/>
            <p:nvPr/>
          </p:nvGrpSpPr>
          <p:grpSpPr>
            <a:xfrm>
              <a:off x="900000" y="900000"/>
              <a:ext cx="3419640" cy="2160720"/>
              <a:chOff x="900000" y="900000"/>
              <a:chExt cx="3419640" cy="2160720"/>
            </a:xfrm>
          </p:grpSpPr>
          <p:sp>
            <p:nvSpPr>
              <p:cNvPr id="38" name="直線コネクタ 4"/>
              <p:cNvSpPr/>
              <p:nvPr/>
            </p:nvSpPr>
            <p:spPr>
              <a:xfrm>
                <a:off x="900000" y="1981080"/>
                <a:ext cx="3419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直線コネクタ 5"/>
              <p:cNvSpPr/>
              <p:nvPr/>
            </p:nvSpPr>
            <p:spPr>
              <a:xfrm>
                <a:off x="900000" y="1439640"/>
                <a:ext cx="3419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" name="直線コネクタ 6"/>
              <p:cNvSpPr/>
              <p:nvPr/>
            </p:nvSpPr>
            <p:spPr>
              <a:xfrm>
                <a:off x="143964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" name="直線コネクタ 7"/>
              <p:cNvSpPr/>
              <p:nvPr/>
            </p:nvSpPr>
            <p:spPr>
              <a:xfrm>
                <a:off x="260964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" name="直線コネクタ 8"/>
              <p:cNvSpPr/>
              <p:nvPr/>
            </p:nvSpPr>
            <p:spPr>
              <a:xfrm>
                <a:off x="378000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" name="直線コネクタ 9"/>
              <p:cNvSpPr/>
              <p:nvPr/>
            </p:nvSpPr>
            <p:spPr>
              <a:xfrm>
                <a:off x="900000" y="2521080"/>
                <a:ext cx="3419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直線コネクタ 10"/>
              <p:cNvSpPr/>
              <p:nvPr/>
            </p:nvSpPr>
            <p:spPr>
              <a:xfrm>
                <a:off x="133164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直線コネクタ 11"/>
              <p:cNvSpPr/>
              <p:nvPr/>
            </p:nvSpPr>
            <p:spPr>
              <a:xfrm>
                <a:off x="388800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直線コネクタ 12"/>
              <p:cNvSpPr/>
              <p:nvPr/>
            </p:nvSpPr>
            <p:spPr>
              <a:xfrm>
                <a:off x="900000" y="1331640"/>
                <a:ext cx="3419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直線コネクタ 13"/>
              <p:cNvSpPr/>
              <p:nvPr/>
            </p:nvSpPr>
            <p:spPr>
              <a:xfrm>
                <a:off x="900000" y="2629080"/>
                <a:ext cx="3419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" name="正方形/長方形 3"/>
            <p:cNvSpPr/>
            <p:nvPr/>
          </p:nvSpPr>
          <p:spPr>
            <a:xfrm>
              <a:off x="1331640" y="1331640"/>
              <a:ext cx="2556000" cy="1297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3800"/>
                  <a:tab algn="l" pos="1047600"/>
                  <a:tab algn="l" pos="1571760"/>
                  <a:tab algn="l" pos="2095560"/>
                  <a:tab algn="l" pos="2619360"/>
                  <a:tab algn="l" pos="3143160"/>
                  <a:tab algn="l" pos="3666960"/>
                  <a:tab algn="l" pos="4191120"/>
                  <a:tab algn="l" pos="4714920"/>
                  <a:tab algn="l" pos="5238720"/>
                  <a:tab algn="l" pos="5762520"/>
                  <a:tab algn="l" pos="6286680"/>
                  <a:tab algn="l" pos="6810480"/>
                  <a:tab algn="l" pos="7334280"/>
                  <a:tab algn="l" pos="7858080"/>
                  <a:tab algn="l" pos="8381880"/>
                  <a:tab algn="l" pos="8906040"/>
                  <a:tab algn="l" pos="9429840"/>
                  <a:tab algn="l" pos="9953640"/>
                  <a:tab algn="l" pos="104774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74"/>
          <p:cNvGrpSpPr/>
          <p:nvPr/>
        </p:nvGrpSpPr>
        <p:grpSpPr>
          <a:xfrm>
            <a:off x="0" y="0"/>
            <a:ext cx="4932360" cy="900000"/>
            <a:chOff x="0" y="0"/>
            <a:chExt cx="4932360" cy="900000"/>
          </a:xfrm>
        </p:grpSpPr>
        <p:sp>
          <p:nvSpPr>
            <p:cNvPr id="50" name="Rectangle 65"/>
            <p:cNvSpPr/>
            <p:nvPr/>
          </p:nvSpPr>
          <p:spPr>
            <a:xfrm>
              <a:off x="0" y="0"/>
              <a:ext cx="13320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zh-TW" sz="1000" spc="-1" strike="noStrike">
                  <a:solidFill>
                    <a:srgbClr val="000000"/>
                  </a:solidFill>
                  <a:latin typeface="ＭＳ Ｐゴシック"/>
                </a:rPr>
                <a:t>請求書</a:t>
              </a:r>
              <a:r>
                <a:rPr b="1" lang="en-US" sz="1000" spc="-1" strike="noStrike">
                  <a:solidFill>
                    <a:srgbClr val="000000"/>
                  </a:solidFill>
                  <a:latin typeface="ＭＳ Ｐゴシック"/>
                </a:rPr>
                <a:t>_</a:t>
              </a:r>
              <a:r>
                <a:rPr b="1" lang="zh-TW" sz="1000" spc="-1" strike="noStrike">
                  <a:solidFill>
                    <a:srgbClr val="000000"/>
                  </a:solidFill>
                  <a:latin typeface="ＭＳ Ｐゴシック"/>
                </a:rPr>
                <a:t>合計請求書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名入れ用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複写タイプ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印刷範囲　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30×65m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67"/>
            <p:cNvSpPr/>
            <p:nvPr/>
          </p:nvSpPr>
          <p:spPr>
            <a:xfrm>
              <a:off x="1330200" y="0"/>
              <a:ext cx="3602160" cy="9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朱印のデータはこのテンプレートに作成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会社名やロゴは「</a:t>
              </a:r>
              <a:r>
                <a:rPr b="0" lang="zh-TW" sz="700" spc="-1" strike="noStrike">
                  <a:solidFill>
                    <a:srgbClr val="ff0000"/>
                  </a:solidFill>
                  <a:latin typeface="ＭＳ Ｐゴシック"/>
                </a:rPr>
                <a:t>請求書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_</a:t>
              </a:r>
              <a:r>
                <a:rPr b="0" lang="zh-TW" sz="700" spc="-1" strike="noStrike">
                  <a:solidFill>
                    <a:srgbClr val="ff0000"/>
                  </a:solidFill>
                  <a:latin typeface="ＭＳ Ｐゴシック"/>
                </a:rPr>
                <a:t>合計請求書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_</a:t>
              </a:r>
              <a:r>
                <a:rPr b="0" lang="zh-TW" sz="700" spc="-1" strike="noStrike">
                  <a:solidFill>
                    <a:srgbClr val="ff0000"/>
                  </a:solidFill>
                  <a:latin typeface="ＭＳ Ｐゴシック"/>
                </a:rPr>
                <a:t>朱印用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.ppt</a:t>
              </a: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」テンプレート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に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分けて作成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データは全て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黒</a:t>
              </a:r>
              <a:r>
                <a:rPr b="1" lang="en-US" sz="700" spc="-1" strike="noStrike">
                  <a:solidFill>
                    <a:srgbClr val="ff0000"/>
                  </a:solidFill>
                  <a:latin typeface="ＭＳ Ｐゴシック"/>
                </a:rPr>
                <a:t>1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色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で作成して下さい。中間の濃度は再現できません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用紙サイズの変更や、トンボの移動、変形はしないでください。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テンプレートを使用して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を削除してください。また、テンプレートと同じサイズ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77" descr="新Suprintロゴ"/>
            <p:cNvPicPr/>
            <p:nvPr/>
          </p:nvPicPr>
          <p:blipFill>
            <a:blip r:embed="rId2"/>
            <a:stretch/>
          </p:blipFill>
          <p:spPr>
            <a:xfrm>
              <a:off x="17280" y="674640"/>
              <a:ext cx="27180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261000" y="926640"/>
            <a:ext cx="4697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5120" indent="-195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25520" indent="-163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55560" indent="-129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917640" indent="-13032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5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6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5:58:58Z</dcterms:created>
  <dc:creator>ugo-99</dc:creator>
  <dc:description/>
  <dc:language>en-US</dc:language>
  <cp:lastModifiedBy>ugo-99</cp:lastModifiedBy>
  <dcterms:modified xsi:type="dcterms:W3CDTF">2013-08-06T10:38:36Z</dcterms:modified>
  <cp:revision>6</cp:revision>
  <dc:subject/>
  <dc:title>PowerPoint プレゼンテーション</dc:title>
</cp:coreProperties>
</file>