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21970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1000" y="212616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66796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932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764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00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84932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43764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61000" y="157680"/>
            <a:ext cx="4697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6796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1000" y="212616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96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84932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37640" y="92664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6100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84932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437640" y="2126160"/>
            <a:ext cx="15123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61000" y="157680"/>
            <a:ext cx="4697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7960" y="212616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100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667960" y="926640"/>
            <a:ext cx="22921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1000" y="2126160"/>
            <a:ext cx="4697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419640" cy="2160720"/>
            <a:chOff x="900000" y="900000"/>
            <a:chExt cx="3419640" cy="216072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419640" cy="2160720"/>
              <a:chOff x="900000" y="900000"/>
              <a:chExt cx="3419640" cy="216072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900000" y="198108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43964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1439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2609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78000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52108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388800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629080"/>
                <a:ext cx="3419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556000" cy="129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3800"/>
                  <a:tab algn="l" pos="1047600"/>
                  <a:tab algn="l" pos="1571760"/>
                  <a:tab algn="l" pos="2095560"/>
                  <a:tab algn="l" pos="2619360"/>
                  <a:tab algn="l" pos="3143160"/>
                  <a:tab algn="l" pos="3666960"/>
                  <a:tab algn="l" pos="4191120"/>
                  <a:tab algn="l" pos="4714920"/>
                  <a:tab algn="l" pos="5238720"/>
                  <a:tab algn="l" pos="5762520"/>
                  <a:tab algn="l" pos="6286680"/>
                  <a:tab algn="l" pos="6810480"/>
                  <a:tab algn="l" pos="7334280"/>
                  <a:tab algn="l" pos="7858080"/>
                  <a:tab algn="l" pos="8381880"/>
                  <a:tab algn="l" pos="8906040"/>
                  <a:tab algn="l" pos="9429840"/>
                  <a:tab algn="l" pos="9953640"/>
                  <a:tab algn="l" pos="104774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932360" cy="900000"/>
            <a:chOff x="0" y="0"/>
            <a:chExt cx="493236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請求書</a:t>
              </a:r>
              <a:r>
                <a:rPr b="1" lang="en-US" sz="1000" spc="-1" strike="noStrike">
                  <a:solidFill>
                    <a:srgbClr val="000000"/>
                  </a:solidFill>
                  <a:latin typeface="ＭＳ Ｐゴシック"/>
                </a:rPr>
                <a:t>_</a:t>
              </a: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合計請求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複写タイプ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30×65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6021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請求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合計請求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名入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7464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1000" y="157680"/>
            <a:ext cx="4697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61000" y="926640"/>
            <a:ext cx="4697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5520" indent="-163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55560" indent="-129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1303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10:39:02Z</dcterms:modified>
  <cp:revision>7</cp:revision>
  <dc:subject/>
  <dc:title>PowerPoint プレゼンテーション</dc:title>
</cp:coreProperties>
</file>