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2160720"/>
            <a:chOff x="900000" y="900000"/>
            <a:chExt cx="360072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2160720"/>
              <a:chOff x="900000" y="900000"/>
              <a:chExt cx="360072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7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19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7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29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領収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名入れ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領収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複写タイプ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23:19Z</dcterms:modified>
  <cp:revision>6</cp:revision>
  <dc:subject/>
  <dc:title>PowerPoint プレゼンテーション</dc:title>
</cp:coreProperties>
</file>