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5400675" cy="37798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0000" y="150480"/>
            <a:ext cx="4859640" cy="6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0000" y="884520"/>
            <a:ext cx="485964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70000" y="2029680"/>
            <a:ext cx="485964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0000" y="150480"/>
            <a:ext cx="4859640" cy="6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0000" y="884520"/>
            <a:ext cx="237132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760120" y="884520"/>
            <a:ext cx="237132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0000" y="2029680"/>
            <a:ext cx="237132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2760120" y="2029680"/>
            <a:ext cx="237132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000" y="150480"/>
            <a:ext cx="4859640" cy="6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000" y="884520"/>
            <a:ext cx="156456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13040" y="884520"/>
            <a:ext cx="156456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56440" y="884520"/>
            <a:ext cx="156456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0000" y="2029680"/>
            <a:ext cx="156456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1913040" y="2029680"/>
            <a:ext cx="156456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3556440" y="2029680"/>
            <a:ext cx="156456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000" y="150480"/>
            <a:ext cx="4859640" cy="6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70000" y="884520"/>
            <a:ext cx="485964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0000" y="150480"/>
            <a:ext cx="4859640" cy="6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0000" y="884520"/>
            <a:ext cx="485964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000" y="150480"/>
            <a:ext cx="4859640" cy="6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000" y="884520"/>
            <a:ext cx="237132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760120" y="884520"/>
            <a:ext cx="237132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0000" y="150480"/>
            <a:ext cx="4859640" cy="6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70000" y="150480"/>
            <a:ext cx="4859640" cy="29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000" y="150480"/>
            <a:ext cx="4859640" cy="6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70000" y="884520"/>
            <a:ext cx="237132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760120" y="884520"/>
            <a:ext cx="237132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70000" y="2029680"/>
            <a:ext cx="237132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000" y="150480"/>
            <a:ext cx="4859640" cy="6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270000" y="884520"/>
            <a:ext cx="485964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000" y="150480"/>
            <a:ext cx="4859640" cy="6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0000" y="884520"/>
            <a:ext cx="237132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760120" y="884520"/>
            <a:ext cx="237132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760120" y="2029680"/>
            <a:ext cx="237132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0000" y="150480"/>
            <a:ext cx="4859640" cy="6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70000" y="884520"/>
            <a:ext cx="237132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760120" y="884520"/>
            <a:ext cx="237132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70000" y="2029680"/>
            <a:ext cx="485964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000" y="150480"/>
            <a:ext cx="4859640" cy="6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70000" y="884520"/>
            <a:ext cx="485964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0000" y="2029680"/>
            <a:ext cx="485964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0000" y="150480"/>
            <a:ext cx="4859640" cy="6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70000" y="884520"/>
            <a:ext cx="237132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760120" y="884520"/>
            <a:ext cx="237132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70000" y="2029680"/>
            <a:ext cx="237132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760120" y="2029680"/>
            <a:ext cx="237132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0000" y="150480"/>
            <a:ext cx="4859640" cy="6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70000" y="884520"/>
            <a:ext cx="156456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913040" y="884520"/>
            <a:ext cx="156456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556440" y="884520"/>
            <a:ext cx="156456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70000" y="2029680"/>
            <a:ext cx="156456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1913040" y="2029680"/>
            <a:ext cx="156456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3556440" y="2029680"/>
            <a:ext cx="156456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0000" y="150480"/>
            <a:ext cx="4859640" cy="6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270000" y="884520"/>
            <a:ext cx="485964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0000" y="150480"/>
            <a:ext cx="4859640" cy="6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70000" y="884520"/>
            <a:ext cx="237132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2760120" y="884520"/>
            <a:ext cx="237132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000" y="150480"/>
            <a:ext cx="4859640" cy="6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270000" y="150480"/>
            <a:ext cx="4859640" cy="29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000" y="150480"/>
            <a:ext cx="4859640" cy="6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000" y="884520"/>
            <a:ext cx="237132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0120" y="884520"/>
            <a:ext cx="237132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270000" y="2029680"/>
            <a:ext cx="237132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0000" y="150480"/>
            <a:ext cx="4859640" cy="6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0000" y="884520"/>
            <a:ext cx="237132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760120" y="884520"/>
            <a:ext cx="237132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760120" y="2029680"/>
            <a:ext cx="237132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0000" y="150480"/>
            <a:ext cx="4859640" cy="6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0000" y="884520"/>
            <a:ext cx="237132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760120" y="884520"/>
            <a:ext cx="237132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0000" y="2029680"/>
            <a:ext cx="485964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グループ化 1"/>
          <p:cNvGrpSpPr/>
          <p:nvPr/>
        </p:nvGrpSpPr>
        <p:grpSpPr>
          <a:xfrm>
            <a:off x="900000" y="900000"/>
            <a:ext cx="3600720" cy="1979640"/>
            <a:chOff x="900000" y="900000"/>
            <a:chExt cx="3600720" cy="1979640"/>
          </a:xfrm>
        </p:grpSpPr>
        <p:grpSp>
          <p:nvGrpSpPr>
            <p:cNvPr id="37" name="グループ化 2"/>
            <p:cNvGrpSpPr/>
            <p:nvPr/>
          </p:nvGrpSpPr>
          <p:grpSpPr>
            <a:xfrm>
              <a:off x="900000" y="900000"/>
              <a:ext cx="3600720" cy="1979640"/>
              <a:chOff x="900000" y="900000"/>
              <a:chExt cx="3600720" cy="1979640"/>
            </a:xfrm>
          </p:grpSpPr>
          <p:sp>
            <p:nvSpPr>
              <p:cNvPr id="38" name="直線コネクタ 4"/>
              <p:cNvSpPr/>
              <p:nvPr/>
            </p:nvSpPr>
            <p:spPr>
              <a:xfrm>
                <a:off x="900000" y="1888920"/>
                <a:ext cx="360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" name="直線コネクタ 5"/>
              <p:cNvSpPr/>
              <p:nvPr/>
            </p:nvSpPr>
            <p:spPr>
              <a:xfrm>
                <a:off x="900000" y="1439640"/>
                <a:ext cx="360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" name="直線コネクタ 6"/>
              <p:cNvSpPr/>
              <p:nvPr/>
            </p:nvSpPr>
            <p:spPr>
              <a:xfrm>
                <a:off x="1439640" y="900000"/>
                <a:ext cx="0" cy="1979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" name="直線コネクタ 7"/>
              <p:cNvSpPr/>
              <p:nvPr/>
            </p:nvSpPr>
            <p:spPr>
              <a:xfrm>
                <a:off x="2700360" y="900000"/>
                <a:ext cx="0" cy="1979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" name="直線コネクタ 8"/>
              <p:cNvSpPr/>
              <p:nvPr/>
            </p:nvSpPr>
            <p:spPr>
              <a:xfrm>
                <a:off x="3961080" y="900000"/>
                <a:ext cx="0" cy="1979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" name="直線コネクタ 9"/>
              <p:cNvSpPr/>
              <p:nvPr/>
            </p:nvSpPr>
            <p:spPr>
              <a:xfrm>
                <a:off x="900000" y="2340000"/>
                <a:ext cx="360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" name="直線コネクタ 10"/>
              <p:cNvSpPr/>
              <p:nvPr/>
            </p:nvSpPr>
            <p:spPr>
              <a:xfrm>
                <a:off x="1331640" y="900000"/>
                <a:ext cx="0" cy="1979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" name="直線コネクタ 11"/>
              <p:cNvSpPr/>
              <p:nvPr/>
            </p:nvSpPr>
            <p:spPr>
              <a:xfrm>
                <a:off x="4069080" y="900000"/>
                <a:ext cx="0" cy="1979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" name="直線コネクタ 12"/>
              <p:cNvSpPr/>
              <p:nvPr/>
            </p:nvSpPr>
            <p:spPr>
              <a:xfrm>
                <a:off x="900000" y="1331640"/>
                <a:ext cx="360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直線コネクタ 13"/>
              <p:cNvSpPr/>
              <p:nvPr/>
            </p:nvSpPr>
            <p:spPr>
              <a:xfrm>
                <a:off x="900000" y="2448000"/>
                <a:ext cx="360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8" name="正方形/長方形 3"/>
            <p:cNvSpPr/>
            <p:nvPr/>
          </p:nvSpPr>
          <p:spPr>
            <a:xfrm>
              <a:off x="1331640" y="1331640"/>
              <a:ext cx="2737080" cy="1116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3800"/>
                  <a:tab algn="l" pos="1047600"/>
                  <a:tab algn="l" pos="1571760"/>
                  <a:tab algn="l" pos="2095560"/>
                  <a:tab algn="l" pos="2619360"/>
                  <a:tab algn="l" pos="3143160"/>
                  <a:tab algn="l" pos="3666960"/>
                  <a:tab algn="l" pos="4191120"/>
                  <a:tab algn="l" pos="4714920"/>
                  <a:tab algn="l" pos="5238720"/>
                  <a:tab algn="l" pos="5762520"/>
                  <a:tab algn="l" pos="6286680"/>
                  <a:tab algn="l" pos="6810480"/>
                  <a:tab algn="l" pos="7334280"/>
                  <a:tab algn="l" pos="7858080"/>
                  <a:tab algn="l" pos="8381880"/>
                  <a:tab algn="l" pos="8906040"/>
                  <a:tab algn="l" pos="9429840"/>
                  <a:tab algn="l" pos="9953640"/>
                  <a:tab algn="l" pos="104774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74"/>
          <p:cNvGrpSpPr/>
          <p:nvPr/>
        </p:nvGrpSpPr>
        <p:grpSpPr>
          <a:xfrm>
            <a:off x="0" y="0"/>
            <a:ext cx="4932360" cy="900000"/>
            <a:chOff x="0" y="0"/>
            <a:chExt cx="4932360" cy="900000"/>
          </a:xfrm>
        </p:grpSpPr>
        <p:sp>
          <p:nvSpPr>
            <p:cNvPr id="50" name="Rectangle 65"/>
            <p:cNvSpPr/>
            <p:nvPr/>
          </p:nvSpPr>
          <p:spPr>
            <a:xfrm>
              <a:off x="0" y="0"/>
              <a:ext cx="133200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zh-TW" sz="1000" spc="-1" strike="noStrike">
                  <a:solidFill>
                    <a:srgbClr val="000000"/>
                  </a:solidFill>
                  <a:latin typeface="ＭＳ Ｐゴシック"/>
                </a:rPr>
                <a:t>納品書</a:t>
              </a:r>
              <a:r>
                <a:rPr b="1" lang="en-US" sz="1000" spc="-1" strike="noStrike">
                  <a:solidFill>
                    <a:srgbClr val="000000"/>
                  </a:solidFill>
                  <a:latin typeface="ＭＳ Ｐゴシック"/>
                </a:rPr>
                <a:t>_</a:t>
              </a:r>
              <a:r>
                <a:rPr b="1" lang="zh-TW" sz="1000" spc="-1" strike="noStrike">
                  <a:solidFill>
                    <a:srgbClr val="000000"/>
                  </a:solidFill>
                  <a:latin typeface="ＭＳ Ｐゴシック"/>
                </a:rPr>
                <a:t>請求付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ＭＳ Ｐゴシック"/>
                </a:rPr>
                <a:t>名入れ用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複写タイプ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◎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印刷範囲　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25×70m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 Box 67"/>
            <p:cNvSpPr/>
            <p:nvPr/>
          </p:nvSpPr>
          <p:spPr>
            <a:xfrm>
              <a:off x="1330200" y="0"/>
              <a:ext cx="3602160" cy="90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marL="114480" indent="-114480"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朱印のデータはこのテンプレートに作成してください。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ff0000"/>
                  </a:solidFill>
                  <a:latin typeface="ＭＳ Ｐゴシック"/>
                </a:rPr>
                <a:t>会社名やロゴは「</a:t>
              </a:r>
              <a:r>
                <a:rPr b="0" lang="zh-TW" sz="700" spc="-1" strike="noStrike">
                  <a:solidFill>
                    <a:srgbClr val="ff0000"/>
                  </a:solidFill>
                  <a:latin typeface="ＭＳ Ｐゴシック"/>
                </a:rPr>
                <a:t>納品書</a:t>
              </a:r>
              <a:r>
                <a:rPr b="0" lang="en-US" sz="700" spc="-1" strike="noStrike">
                  <a:solidFill>
                    <a:srgbClr val="ff0000"/>
                  </a:solidFill>
                  <a:latin typeface="ＭＳ Ｐゴシック"/>
                </a:rPr>
                <a:t>_</a:t>
              </a:r>
              <a:r>
                <a:rPr b="0" lang="zh-TW" sz="700" spc="-1" strike="noStrike">
                  <a:solidFill>
                    <a:srgbClr val="ff0000"/>
                  </a:solidFill>
                  <a:latin typeface="ＭＳ Ｐゴシック"/>
                </a:rPr>
                <a:t>請求付</a:t>
              </a:r>
              <a:r>
                <a:rPr b="0" lang="en-US" sz="700" spc="-1" strike="noStrike">
                  <a:solidFill>
                    <a:srgbClr val="ff0000"/>
                  </a:solidFill>
                  <a:latin typeface="ＭＳ Ｐゴシック"/>
                </a:rPr>
                <a:t>_</a:t>
              </a:r>
              <a:r>
                <a:rPr b="0" lang="zh-TW" sz="700" spc="-1" strike="noStrike">
                  <a:solidFill>
                    <a:srgbClr val="ff0000"/>
                  </a:solidFill>
                  <a:latin typeface="ＭＳ Ｐゴシック"/>
                </a:rPr>
                <a:t>朱印用</a:t>
              </a:r>
              <a:r>
                <a:rPr b="0" lang="en-US" sz="700" spc="-1" strike="noStrike">
                  <a:solidFill>
                    <a:srgbClr val="ff0000"/>
                  </a:solidFill>
                  <a:latin typeface="ＭＳ Ｐゴシック"/>
                </a:rPr>
                <a:t>.ppt</a:t>
              </a:r>
              <a:r>
                <a:rPr b="0" lang="ja-JP" sz="700" spc="-1" strike="noStrike">
                  <a:solidFill>
                    <a:srgbClr val="ff0000"/>
                  </a:solidFill>
                  <a:latin typeface="ＭＳ Ｐゴシック"/>
                </a:rPr>
                <a:t>」テンプレート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に</a:t>
              </a:r>
              <a:r>
                <a:rPr b="1" lang="ja-JP" sz="700" spc="-1" strike="noStrike">
                  <a:solidFill>
                    <a:srgbClr val="ff0000"/>
                  </a:solidFill>
                  <a:latin typeface="ＭＳ Ｐゴシック"/>
                </a:rPr>
                <a:t>分けて作成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してください。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データは全て</a:t>
              </a:r>
              <a:r>
                <a:rPr b="1" lang="ja-JP" sz="700" spc="-1" strike="noStrike">
                  <a:solidFill>
                    <a:srgbClr val="ff0000"/>
                  </a:solidFill>
                  <a:latin typeface="ＭＳ Ｐゴシック"/>
                </a:rPr>
                <a:t>黒</a:t>
              </a:r>
              <a:r>
                <a:rPr b="1" lang="en-US" sz="700" spc="-1" strike="noStrike">
                  <a:solidFill>
                    <a:srgbClr val="ff0000"/>
                  </a:solidFill>
                  <a:latin typeface="ＭＳ Ｐゴシック"/>
                </a:rPr>
                <a:t>1</a:t>
              </a:r>
              <a:r>
                <a:rPr b="1" lang="ja-JP" sz="700" spc="-1" strike="noStrike">
                  <a:solidFill>
                    <a:srgbClr val="ff0000"/>
                  </a:solidFill>
                  <a:latin typeface="ＭＳ Ｐゴシック"/>
                </a:rPr>
                <a:t>色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で作成して下さい。中間の濃度は再現できません。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ff0000"/>
                  </a:solidFill>
                  <a:latin typeface="ＭＳ Ｐゴシック"/>
                </a:rPr>
                <a:t>用紙サイズの変更や、トンボの移動、変形はしないでください。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テンプレートを使用して</a:t>
              </a:r>
              <a:r>
                <a:rPr b="0" lang="en-US" sz="7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を削除してください。また、テンプレートと同じサイズか確認してください。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" name="Picture 77" descr="新Suprintロゴ"/>
            <p:cNvPicPr/>
            <p:nvPr/>
          </p:nvPicPr>
          <p:blipFill>
            <a:blip r:embed="rId2"/>
            <a:stretch/>
          </p:blipFill>
          <p:spPr>
            <a:xfrm>
              <a:off x="17280" y="665280"/>
              <a:ext cx="271800" cy="17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000" y="150480"/>
            <a:ext cx="4859640" cy="6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270000" y="884520"/>
            <a:ext cx="485964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5120" indent="-195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25520" indent="-163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55560" indent="-1299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917640" indent="-13032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4" marL="1179360" indent="-12996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5" marL="1179360" indent="-12996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6" marL="1179360" indent="-12996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05:58:58Z</dcterms:created>
  <dc:creator>ugo-99</dc:creator>
  <dc:description/>
  <dc:language>en-US</dc:language>
  <cp:lastModifiedBy>ugo-99</cp:lastModifiedBy>
  <dcterms:modified xsi:type="dcterms:W3CDTF">2013-08-06T10:29:59Z</dcterms:modified>
  <cp:revision>6</cp:revision>
  <dc:subject/>
  <dc:title>PowerPoint プレゼンテーション</dc:title>
</cp:coreProperties>
</file>