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4859338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72188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004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2430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172188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32004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43000" y="245520"/>
            <a:ext cx="43736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2188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2004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430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172188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32004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243000" y="245520"/>
            <a:ext cx="43736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121"/>
          <p:cNvSpPr/>
          <p:nvPr/>
        </p:nvSpPr>
        <p:spPr>
          <a:xfrm>
            <a:off x="358452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122"/>
          <p:cNvSpPr/>
          <p:nvPr/>
        </p:nvSpPr>
        <p:spPr>
          <a:xfrm>
            <a:off x="3583080" y="48718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グループ化 1"/>
          <p:cNvGrpSpPr/>
          <p:nvPr/>
        </p:nvGrpSpPr>
        <p:grpSpPr>
          <a:xfrm>
            <a:off x="982800" y="982800"/>
            <a:ext cx="2895480" cy="4190760"/>
            <a:chOff x="982800" y="982800"/>
            <a:chExt cx="2895480" cy="4190760"/>
          </a:xfrm>
        </p:grpSpPr>
        <p:sp>
          <p:nvSpPr>
            <p:cNvPr id="4" name="object 2"/>
            <p:cNvSpPr/>
            <p:nvPr/>
          </p:nvSpPr>
          <p:spPr>
            <a:xfrm>
              <a:off x="1331640" y="1331640"/>
              <a:ext cx="2197440" cy="3493080"/>
            </a:xfrm>
            <a:custGeom>
              <a:avLst/>
              <a:gdLst/>
              <a:ahLst/>
              <a:rect l="l" t="t" r="r" b="b"/>
              <a:pathLst>
                <a:path w="2196465" h="3492500">
                  <a:moveTo>
                    <a:pt x="2196007" y="3492004"/>
                  </a:moveTo>
                  <a:lnTo>
                    <a:pt x="0" y="3492004"/>
                  </a:lnTo>
                  <a:lnTo>
                    <a:pt x="0" y="0"/>
                  </a:lnTo>
                  <a:lnTo>
                    <a:pt x="2196007" y="0"/>
                  </a:lnTo>
                  <a:lnTo>
                    <a:pt x="2196007" y="349200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グループ化 3"/>
            <p:cNvGrpSpPr/>
            <p:nvPr/>
          </p:nvGrpSpPr>
          <p:grpSpPr>
            <a:xfrm>
              <a:off x="982800" y="982800"/>
              <a:ext cx="2895480" cy="4190760"/>
              <a:chOff x="982800" y="982800"/>
              <a:chExt cx="2895480" cy="4190760"/>
            </a:xfrm>
          </p:grpSpPr>
          <p:grpSp>
            <p:nvGrpSpPr>
              <p:cNvPr id="6" name="object 6"/>
              <p:cNvGrpSpPr/>
              <p:nvPr/>
            </p:nvGrpSpPr>
            <p:grpSpPr>
              <a:xfrm>
                <a:off x="1005840" y="4714560"/>
                <a:ext cx="436320" cy="435960"/>
                <a:chOff x="1005840" y="4714560"/>
                <a:chExt cx="436320" cy="435960"/>
              </a:xfrm>
            </p:grpSpPr>
            <p:sp>
              <p:nvSpPr>
                <p:cNvPr id="7" name="object 7"/>
                <p:cNvSpPr/>
                <p:nvPr/>
              </p:nvSpPr>
              <p:spPr>
                <a:xfrm>
                  <a:off x="1005840" y="4714560"/>
                  <a:ext cx="327600" cy="435960"/>
                </a:xfrm>
                <a:custGeom>
                  <a:avLst/>
                  <a:gdLst/>
                  <a:ahLst/>
                  <a:rect l="l" t="t" r="r" b="b"/>
                  <a:pathLst>
                    <a:path w="324484" h="432435">
                      <a:moveTo>
                        <a:pt x="0" y="0"/>
                      </a:moveTo>
                      <a:lnTo>
                        <a:pt x="324002" y="0"/>
                      </a:lnTo>
                      <a:lnTo>
                        <a:pt x="324002" y="432003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object 8"/>
                <p:cNvSpPr/>
                <p:nvPr/>
              </p:nvSpPr>
              <p:spPr>
                <a:xfrm>
                  <a:off x="1005840" y="4823280"/>
                  <a:ext cx="436320" cy="327240"/>
                </a:xfrm>
                <a:custGeom>
                  <a:avLst/>
                  <a:gdLst/>
                  <a:ahLst/>
                  <a:rect l="l" t="t" r="r" b="b"/>
                  <a:pathLst>
                    <a:path w="432434" h="324485">
                      <a:moveTo>
                        <a:pt x="432003" y="324002"/>
                      </a:moveTo>
                      <a:lnTo>
                        <a:pt x="43200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" name="object 9"/>
              <p:cNvGrpSpPr/>
              <p:nvPr/>
            </p:nvGrpSpPr>
            <p:grpSpPr>
              <a:xfrm>
                <a:off x="1005840" y="1005840"/>
                <a:ext cx="436320" cy="435960"/>
                <a:chOff x="1005840" y="1005840"/>
                <a:chExt cx="436320" cy="435960"/>
              </a:xfrm>
            </p:grpSpPr>
            <p:sp>
              <p:nvSpPr>
                <p:cNvPr id="10" name="object 10"/>
                <p:cNvSpPr/>
                <p:nvPr/>
              </p:nvSpPr>
              <p:spPr>
                <a:xfrm>
                  <a:off x="1005840" y="1005840"/>
                  <a:ext cx="327600" cy="435960"/>
                </a:xfrm>
                <a:custGeom>
                  <a:avLst/>
                  <a:gdLst/>
                  <a:ahLst/>
                  <a:rect l="l" t="t" r="r" b="b"/>
                  <a:pathLst>
                    <a:path w="324484" h="432434">
                      <a:moveTo>
                        <a:pt x="0" y="432003"/>
                      </a:moveTo>
                      <a:lnTo>
                        <a:pt x="324002" y="432003"/>
                      </a:lnTo>
                      <a:lnTo>
                        <a:pt x="324002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object 11"/>
                <p:cNvSpPr/>
                <p:nvPr/>
              </p:nvSpPr>
              <p:spPr>
                <a:xfrm>
                  <a:off x="1005840" y="1005840"/>
                  <a:ext cx="436320" cy="327240"/>
                </a:xfrm>
                <a:custGeom>
                  <a:avLst/>
                  <a:gdLst/>
                  <a:ahLst/>
                  <a:rect l="l" t="t" r="r" b="b"/>
                  <a:pathLst>
                    <a:path w="432434" h="324484">
                      <a:moveTo>
                        <a:pt x="432003" y="0"/>
                      </a:moveTo>
                      <a:lnTo>
                        <a:pt x="432003" y="324002"/>
                      </a:lnTo>
                      <a:lnTo>
                        <a:pt x="0" y="324002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" name="object 12"/>
              <p:cNvGrpSpPr/>
              <p:nvPr/>
            </p:nvGrpSpPr>
            <p:grpSpPr>
              <a:xfrm>
                <a:off x="3419280" y="1005840"/>
                <a:ext cx="436320" cy="435960"/>
                <a:chOff x="3419280" y="1005840"/>
                <a:chExt cx="436320" cy="435960"/>
              </a:xfrm>
            </p:grpSpPr>
            <p:sp>
              <p:nvSpPr>
                <p:cNvPr id="13" name="object 13"/>
                <p:cNvSpPr/>
                <p:nvPr/>
              </p:nvSpPr>
              <p:spPr>
                <a:xfrm>
                  <a:off x="3528000" y="1005840"/>
                  <a:ext cx="327600" cy="435960"/>
                </a:xfrm>
                <a:custGeom>
                  <a:avLst/>
                  <a:gdLst/>
                  <a:ahLst/>
                  <a:rect l="l" t="t" r="r" b="b"/>
                  <a:pathLst>
                    <a:path w="324485" h="432434">
                      <a:moveTo>
                        <a:pt x="324002" y="432003"/>
                      </a:moveTo>
                      <a:lnTo>
                        <a:pt x="0" y="43200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object 14"/>
                <p:cNvSpPr/>
                <p:nvPr/>
              </p:nvSpPr>
              <p:spPr>
                <a:xfrm>
                  <a:off x="3419280" y="1005840"/>
                  <a:ext cx="436320" cy="327240"/>
                </a:xfrm>
                <a:custGeom>
                  <a:avLst/>
                  <a:gdLst/>
                  <a:ahLst/>
                  <a:rect l="l" t="t" r="r" b="b"/>
                  <a:pathLst>
                    <a:path w="432435" h="324484">
                      <a:moveTo>
                        <a:pt x="0" y="0"/>
                      </a:moveTo>
                      <a:lnTo>
                        <a:pt x="0" y="324002"/>
                      </a:lnTo>
                      <a:lnTo>
                        <a:pt x="432003" y="324002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" name="object 15"/>
              <p:cNvGrpSpPr/>
              <p:nvPr/>
            </p:nvGrpSpPr>
            <p:grpSpPr>
              <a:xfrm>
                <a:off x="3419280" y="4714560"/>
                <a:ext cx="436320" cy="435960"/>
                <a:chOff x="3419280" y="4714560"/>
                <a:chExt cx="436320" cy="435960"/>
              </a:xfrm>
            </p:grpSpPr>
            <p:sp>
              <p:nvSpPr>
                <p:cNvPr id="16" name="object 16"/>
                <p:cNvSpPr/>
                <p:nvPr/>
              </p:nvSpPr>
              <p:spPr>
                <a:xfrm>
                  <a:off x="3528000" y="4714560"/>
                  <a:ext cx="327600" cy="435960"/>
                </a:xfrm>
                <a:custGeom>
                  <a:avLst/>
                  <a:gdLst/>
                  <a:ahLst/>
                  <a:rect l="l" t="t" r="r" b="b"/>
                  <a:pathLst>
                    <a:path w="324485" h="432435">
                      <a:moveTo>
                        <a:pt x="324002" y="0"/>
                      </a:moveTo>
                      <a:lnTo>
                        <a:pt x="0" y="0"/>
                      </a:lnTo>
                      <a:lnTo>
                        <a:pt x="0" y="432003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object 17"/>
                <p:cNvSpPr/>
                <p:nvPr/>
              </p:nvSpPr>
              <p:spPr>
                <a:xfrm>
                  <a:off x="3419280" y="4823280"/>
                  <a:ext cx="436320" cy="327240"/>
                </a:xfrm>
                <a:custGeom>
                  <a:avLst/>
                  <a:gdLst/>
                  <a:ahLst/>
                  <a:rect l="l" t="t" r="r" b="b"/>
                  <a:pathLst>
                    <a:path w="432435" h="324485">
                      <a:moveTo>
                        <a:pt x="0" y="324002"/>
                      </a:moveTo>
                      <a:lnTo>
                        <a:pt x="0" y="0"/>
                      </a:lnTo>
                      <a:lnTo>
                        <a:pt x="432003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" name="object 18"/>
              <p:cNvGrpSpPr/>
              <p:nvPr/>
            </p:nvGrpSpPr>
            <p:grpSpPr>
              <a:xfrm>
                <a:off x="982800" y="2620800"/>
                <a:ext cx="304920" cy="914400"/>
                <a:chOff x="982800" y="2620800"/>
                <a:chExt cx="304920" cy="914400"/>
              </a:xfrm>
            </p:grpSpPr>
            <p:sp>
              <p:nvSpPr>
                <p:cNvPr id="19" name="object 19"/>
                <p:cNvSpPr/>
                <p:nvPr/>
              </p:nvSpPr>
              <p:spPr>
                <a:xfrm>
                  <a:off x="982800" y="3078000"/>
                  <a:ext cx="30492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0" y="0"/>
                      </a:moveTo>
                      <a:lnTo>
                        <a:pt x="3048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object 20"/>
                <p:cNvSpPr/>
                <p:nvPr/>
              </p:nvSpPr>
              <p:spPr>
                <a:xfrm>
                  <a:off x="1211400" y="2620800"/>
                  <a:ext cx="360" cy="91440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0"/>
                      </a:moveTo>
                      <a:lnTo>
                        <a:pt x="0" y="9144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" name="object 21"/>
              <p:cNvGrpSpPr/>
              <p:nvPr/>
            </p:nvGrpSpPr>
            <p:grpSpPr>
              <a:xfrm>
                <a:off x="3573360" y="2620800"/>
                <a:ext cx="304920" cy="914400"/>
                <a:chOff x="3573360" y="2620800"/>
                <a:chExt cx="304920" cy="914400"/>
              </a:xfrm>
            </p:grpSpPr>
            <p:sp>
              <p:nvSpPr>
                <p:cNvPr id="22" name="object 22"/>
                <p:cNvSpPr/>
                <p:nvPr/>
              </p:nvSpPr>
              <p:spPr>
                <a:xfrm>
                  <a:off x="3573360" y="3078000"/>
                  <a:ext cx="30492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30480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object 23"/>
                <p:cNvSpPr/>
                <p:nvPr/>
              </p:nvSpPr>
              <p:spPr>
                <a:xfrm>
                  <a:off x="3649680" y="2620800"/>
                  <a:ext cx="360" cy="91440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9144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" name="object 24"/>
              <p:cNvGrpSpPr/>
              <p:nvPr/>
            </p:nvGrpSpPr>
            <p:grpSpPr>
              <a:xfrm>
                <a:off x="1973160" y="982800"/>
                <a:ext cx="914760" cy="304560"/>
                <a:chOff x="1973160" y="982800"/>
                <a:chExt cx="914760" cy="304560"/>
              </a:xfrm>
            </p:grpSpPr>
            <p:sp>
              <p:nvSpPr>
                <p:cNvPr id="25" name="object 25"/>
                <p:cNvSpPr/>
                <p:nvPr/>
              </p:nvSpPr>
              <p:spPr>
                <a:xfrm>
                  <a:off x="1973160" y="1211400"/>
                  <a:ext cx="914760" cy="360"/>
                </a:xfrm>
                <a:custGeom>
                  <a:avLst/>
                  <a:gdLst/>
                  <a:ahLst/>
                  <a:rect l="l" t="t" r="r" b="b"/>
                  <a:pathLst>
                    <a:path w="914400" h="0">
                      <a:moveTo>
                        <a:pt x="0" y="0"/>
                      </a:moveTo>
                      <a:lnTo>
                        <a:pt x="9144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object 26"/>
                <p:cNvSpPr/>
                <p:nvPr/>
              </p:nvSpPr>
              <p:spPr>
                <a:xfrm>
                  <a:off x="2430360" y="982800"/>
                  <a:ext cx="360" cy="30456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0"/>
                      </a:moveTo>
                      <a:lnTo>
                        <a:pt x="0" y="3048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" name="object 27"/>
              <p:cNvGrpSpPr/>
              <p:nvPr/>
            </p:nvGrpSpPr>
            <p:grpSpPr>
              <a:xfrm>
                <a:off x="1973160" y="4869000"/>
                <a:ext cx="914760" cy="304560"/>
                <a:chOff x="1973160" y="4869000"/>
                <a:chExt cx="914760" cy="304560"/>
              </a:xfrm>
            </p:grpSpPr>
            <p:sp>
              <p:nvSpPr>
                <p:cNvPr id="28" name="object 28"/>
                <p:cNvSpPr/>
                <p:nvPr/>
              </p:nvSpPr>
              <p:spPr>
                <a:xfrm>
                  <a:off x="1973160" y="4944960"/>
                  <a:ext cx="914760" cy="360"/>
                </a:xfrm>
                <a:custGeom>
                  <a:avLst/>
                  <a:gdLst/>
                  <a:ahLst/>
                  <a:rect l="l" t="t" r="r" b="b"/>
                  <a:pathLst>
                    <a:path w="914400" h="0">
                      <a:moveTo>
                        <a:pt x="91440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object 29"/>
                <p:cNvSpPr/>
                <p:nvPr/>
              </p:nvSpPr>
              <p:spPr>
                <a:xfrm>
                  <a:off x="2430360" y="4869000"/>
                  <a:ext cx="360" cy="30456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3048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121"/>
          <p:cNvSpPr/>
          <p:nvPr/>
        </p:nvSpPr>
        <p:spPr>
          <a:xfrm>
            <a:off x="358452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22"/>
          <p:cNvSpPr/>
          <p:nvPr/>
        </p:nvSpPr>
        <p:spPr>
          <a:xfrm>
            <a:off x="3583080" y="487188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グループ化 1"/>
          <p:cNvGrpSpPr/>
          <p:nvPr/>
        </p:nvGrpSpPr>
        <p:grpSpPr>
          <a:xfrm>
            <a:off x="982800" y="982800"/>
            <a:ext cx="2895480" cy="4190760"/>
            <a:chOff x="982800" y="982800"/>
            <a:chExt cx="2895480" cy="4190760"/>
          </a:xfrm>
        </p:grpSpPr>
        <p:sp>
          <p:nvSpPr>
            <p:cNvPr id="70" name="object 2"/>
            <p:cNvSpPr/>
            <p:nvPr/>
          </p:nvSpPr>
          <p:spPr>
            <a:xfrm>
              <a:off x="1331640" y="1331640"/>
              <a:ext cx="2197440" cy="3493080"/>
            </a:xfrm>
            <a:custGeom>
              <a:avLst/>
              <a:gdLst/>
              <a:ahLst/>
              <a:rect l="l" t="t" r="r" b="b"/>
              <a:pathLst>
                <a:path w="2196465" h="3492500">
                  <a:moveTo>
                    <a:pt x="2196007" y="3492004"/>
                  </a:moveTo>
                  <a:lnTo>
                    <a:pt x="0" y="3492004"/>
                  </a:lnTo>
                  <a:lnTo>
                    <a:pt x="0" y="0"/>
                  </a:lnTo>
                  <a:lnTo>
                    <a:pt x="2196007" y="0"/>
                  </a:lnTo>
                  <a:lnTo>
                    <a:pt x="2196007" y="349200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グループ化 3"/>
            <p:cNvGrpSpPr/>
            <p:nvPr/>
          </p:nvGrpSpPr>
          <p:grpSpPr>
            <a:xfrm>
              <a:off x="982800" y="982800"/>
              <a:ext cx="2895480" cy="4190760"/>
              <a:chOff x="982800" y="982800"/>
              <a:chExt cx="2895480" cy="4190760"/>
            </a:xfrm>
          </p:grpSpPr>
          <p:grpSp>
            <p:nvGrpSpPr>
              <p:cNvPr id="72" name="object 6"/>
              <p:cNvGrpSpPr/>
              <p:nvPr/>
            </p:nvGrpSpPr>
            <p:grpSpPr>
              <a:xfrm>
                <a:off x="1005840" y="4714560"/>
                <a:ext cx="436320" cy="435960"/>
                <a:chOff x="1005840" y="4714560"/>
                <a:chExt cx="436320" cy="435960"/>
              </a:xfrm>
            </p:grpSpPr>
            <p:sp>
              <p:nvSpPr>
                <p:cNvPr id="73" name="object 7"/>
                <p:cNvSpPr/>
                <p:nvPr/>
              </p:nvSpPr>
              <p:spPr>
                <a:xfrm>
                  <a:off x="1005840" y="4714560"/>
                  <a:ext cx="327600" cy="435960"/>
                </a:xfrm>
                <a:custGeom>
                  <a:avLst/>
                  <a:gdLst/>
                  <a:ahLst/>
                  <a:rect l="l" t="t" r="r" b="b"/>
                  <a:pathLst>
                    <a:path w="324484" h="432435">
                      <a:moveTo>
                        <a:pt x="0" y="0"/>
                      </a:moveTo>
                      <a:lnTo>
                        <a:pt x="324002" y="0"/>
                      </a:lnTo>
                      <a:lnTo>
                        <a:pt x="324002" y="432003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object 8"/>
                <p:cNvSpPr/>
                <p:nvPr/>
              </p:nvSpPr>
              <p:spPr>
                <a:xfrm>
                  <a:off x="1005840" y="4823280"/>
                  <a:ext cx="436320" cy="327240"/>
                </a:xfrm>
                <a:custGeom>
                  <a:avLst/>
                  <a:gdLst/>
                  <a:ahLst/>
                  <a:rect l="l" t="t" r="r" b="b"/>
                  <a:pathLst>
                    <a:path w="432434" h="324485">
                      <a:moveTo>
                        <a:pt x="432003" y="324002"/>
                      </a:moveTo>
                      <a:lnTo>
                        <a:pt x="43200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object 9"/>
              <p:cNvGrpSpPr/>
              <p:nvPr/>
            </p:nvGrpSpPr>
            <p:grpSpPr>
              <a:xfrm>
                <a:off x="1005840" y="1005840"/>
                <a:ext cx="436320" cy="435960"/>
                <a:chOff x="1005840" y="1005840"/>
                <a:chExt cx="436320" cy="435960"/>
              </a:xfrm>
            </p:grpSpPr>
            <p:sp>
              <p:nvSpPr>
                <p:cNvPr id="76" name="object 10"/>
                <p:cNvSpPr/>
                <p:nvPr/>
              </p:nvSpPr>
              <p:spPr>
                <a:xfrm>
                  <a:off x="1005840" y="1005840"/>
                  <a:ext cx="327600" cy="435960"/>
                </a:xfrm>
                <a:custGeom>
                  <a:avLst/>
                  <a:gdLst/>
                  <a:ahLst/>
                  <a:rect l="l" t="t" r="r" b="b"/>
                  <a:pathLst>
                    <a:path w="324484" h="432434">
                      <a:moveTo>
                        <a:pt x="0" y="432003"/>
                      </a:moveTo>
                      <a:lnTo>
                        <a:pt x="324002" y="432003"/>
                      </a:lnTo>
                      <a:lnTo>
                        <a:pt x="324002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object 11"/>
                <p:cNvSpPr/>
                <p:nvPr/>
              </p:nvSpPr>
              <p:spPr>
                <a:xfrm>
                  <a:off x="1005840" y="1005840"/>
                  <a:ext cx="436320" cy="327240"/>
                </a:xfrm>
                <a:custGeom>
                  <a:avLst/>
                  <a:gdLst/>
                  <a:ahLst/>
                  <a:rect l="l" t="t" r="r" b="b"/>
                  <a:pathLst>
                    <a:path w="432434" h="324484">
                      <a:moveTo>
                        <a:pt x="432003" y="0"/>
                      </a:moveTo>
                      <a:lnTo>
                        <a:pt x="432003" y="324002"/>
                      </a:lnTo>
                      <a:lnTo>
                        <a:pt x="0" y="324002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object 12"/>
              <p:cNvGrpSpPr/>
              <p:nvPr/>
            </p:nvGrpSpPr>
            <p:grpSpPr>
              <a:xfrm>
                <a:off x="3419280" y="1005840"/>
                <a:ext cx="436320" cy="435960"/>
                <a:chOff x="3419280" y="1005840"/>
                <a:chExt cx="436320" cy="435960"/>
              </a:xfrm>
            </p:grpSpPr>
            <p:sp>
              <p:nvSpPr>
                <p:cNvPr id="79" name="object 13"/>
                <p:cNvSpPr/>
                <p:nvPr/>
              </p:nvSpPr>
              <p:spPr>
                <a:xfrm>
                  <a:off x="3528000" y="1005840"/>
                  <a:ext cx="327600" cy="435960"/>
                </a:xfrm>
                <a:custGeom>
                  <a:avLst/>
                  <a:gdLst/>
                  <a:ahLst/>
                  <a:rect l="l" t="t" r="r" b="b"/>
                  <a:pathLst>
                    <a:path w="324485" h="432434">
                      <a:moveTo>
                        <a:pt x="324002" y="432003"/>
                      </a:moveTo>
                      <a:lnTo>
                        <a:pt x="0" y="43200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object 14"/>
                <p:cNvSpPr/>
                <p:nvPr/>
              </p:nvSpPr>
              <p:spPr>
                <a:xfrm>
                  <a:off x="3419280" y="1005840"/>
                  <a:ext cx="436320" cy="327240"/>
                </a:xfrm>
                <a:custGeom>
                  <a:avLst/>
                  <a:gdLst/>
                  <a:ahLst/>
                  <a:rect l="l" t="t" r="r" b="b"/>
                  <a:pathLst>
                    <a:path w="432435" h="324484">
                      <a:moveTo>
                        <a:pt x="0" y="0"/>
                      </a:moveTo>
                      <a:lnTo>
                        <a:pt x="0" y="324002"/>
                      </a:lnTo>
                      <a:lnTo>
                        <a:pt x="432003" y="324002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object 15"/>
              <p:cNvGrpSpPr/>
              <p:nvPr/>
            </p:nvGrpSpPr>
            <p:grpSpPr>
              <a:xfrm>
                <a:off x="3419280" y="4714560"/>
                <a:ext cx="436320" cy="435960"/>
                <a:chOff x="3419280" y="4714560"/>
                <a:chExt cx="436320" cy="435960"/>
              </a:xfrm>
            </p:grpSpPr>
            <p:sp>
              <p:nvSpPr>
                <p:cNvPr id="82" name="object 16"/>
                <p:cNvSpPr/>
                <p:nvPr/>
              </p:nvSpPr>
              <p:spPr>
                <a:xfrm>
                  <a:off x="3528000" y="4714560"/>
                  <a:ext cx="327600" cy="435960"/>
                </a:xfrm>
                <a:custGeom>
                  <a:avLst/>
                  <a:gdLst/>
                  <a:ahLst/>
                  <a:rect l="l" t="t" r="r" b="b"/>
                  <a:pathLst>
                    <a:path w="324485" h="432435">
                      <a:moveTo>
                        <a:pt x="324002" y="0"/>
                      </a:moveTo>
                      <a:lnTo>
                        <a:pt x="0" y="0"/>
                      </a:lnTo>
                      <a:lnTo>
                        <a:pt x="0" y="432003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object 17"/>
                <p:cNvSpPr/>
                <p:nvPr/>
              </p:nvSpPr>
              <p:spPr>
                <a:xfrm>
                  <a:off x="3419280" y="4823280"/>
                  <a:ext cx="436320" cy="327240"/>
                </a:xfrm>
                <a:custGeom>
                  <a:avLst/>
                  <a:gdLst/>
                  <a:ahLst/>
                  <a:rect l="l" t="t" r="r" b="b"/>
                  <a:pathLst>
                    <a:path w="432435" h="324485">
                      <a:moveTo>
                        <a:pt x="0" y="324002"/>
                      </a:moveTo>
                      <a:lnTo>
                        <a:pt x="0" y="0"/>
                      </a:lnTo>
                      <a:lnTo>
                        <a:pt x="432003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object 18"/>
              <p:cNvGrpSpPr/>
              <p:nvPr/>
            </p:nvGrpSpPr>
            <p:grpSpPr>
              <a:xfrm>
                <a:off x="982800" y="2620800"/>
                <a:ext cx="304920" cy="914400"/>
                <a:chOff x="982800" y="2620800"/>
                <a:chExt cx="304920" cy="914400"/>
              </a:xfrm>
            </p:grpSpPr>
            <p:sp>
              <p:nvSpPr>
                <p:cNvPr id="85" name="object 19"/>
                <p:cNvSpPr/>
                <p:nvPr/>
              </p:nvSpPr>
              <p:spPr>
                <a:xfrm>
                  <a:off x="982800" y="3078000"/>
                  <a:ext cx="30492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0" y="0"/>
                      </a:moveTo>
                      <a:lnTo>
                        <a:pt x="3048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object 20"/>
                <p:cNvSpPr/>
                <p:nvPr/>
              </p:nvSpPr>
              <p:spPr>
                <a:xfrm>
                  <a:off x="1211400" y="2620800"/>
                  <a:ext cx="360" cy="91440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0"/>
                      </a:moveTo>
                      <a:lnTo>
                        <a:pt x="0" y="9144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object 21"/>
              <p:cNvGrpSpPr/>
              <p:nvPr/>
            </p:nvGrpSpPr>
            <p:grpSpPr>
              <a:xfrm>
                <a:off x="3573360" y="2620800"/>
                <a:ext cx="304920" cy="914400"/>
                <a:chOff x="3573360" y="2620800"/>
                <a:chExt cx="304920" cy="914400"/>
              </a:xfrm>
            </p:grpSpPr>
            <p:sp>
              <p:nvSpPr>
                <p:cNvPr id="88" name="object 22"/>
                <p:cNvSpPr/>
                <p:nvPr/>
              </p:nvSpPr>
              <p:spPr>
                <a:xfrm>
                  <a:off x="3573360" y="3078000"/>
                  <a:ext cx="30492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30480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object 23"/>
                <p:cNvSpPr/>
                <p:nvPr/>
              </p:nvSpPr>
              <p:spPr>
                <a:xfrm>
                  <a:off x="3649680" y="2620800"/>
                  <a:ext cx="360" cy="91440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9144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object 24"/>
              <p:cNvGrpSpPr/>
              <p:nvPr/>
            </p:nvGrpSpPr>
            <p:grpSpPr>
              <a:xfrm>
                <a:off x="1973160" y="982800"/>
                <a:ext cx="914760" cy="304560"/>
                <a:chOff x="1973160" y="982800"/>
                <a:chExt cx="914760" cy="304560"/>
              </a:xfrm>
            </p:grpSpPr>
            <p:sp>
              <p:nvSpPr>
                <p:cNvPr id="91" name="object 25"/>
                <p:cNvSpPr/>
                <p:nvPr/>
              </p:nvSpPr>
              <p:spPr>
                <a:xfrm>
                  <a:off x="1973160" y="1211400"/>
                  <a:ext cx="914760" cy="360"/>
                </a:xfrm>
                <a:custGeom>
                  <a:avLst/>
                  <a:gdLst/>
                  <a:ahLst/>
                  <a:rect l="l" t="t" r="r" b="b"/>
                  <a:pathLst>
                    <a:path w="914400" h="0">
                      <a:moveTo>
                        <a:pt x="0" y="0"/>
                      </a:moveTo>
                      <a:lnTo>
                        <a:pt x="9144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object 26"/>
                <p:cNvSpPr/>
                <p:nvPr/>
              </p:nvSpPr>
              <p:spPr>
                <a:xfrm>
                  <a:off x="2430360" y="982800"/>
                  <a:ext cx="360" cy="30456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0"/>
                      </a:moveTo>
                      <a:lnTo>
                        <a:pt x="0" y="3048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object 27"/>
              <p:cNvGrpSpPr/>
              <p:nvPr/>
            </p:nvGrpSpPr>
            <p:grpSpPr>
              <a:xfrm>
                <a:off x="1973160" y="4869000"/>
                <a:ext cx="914760" cy="304560"/>
                <a:chOff x="1973160" y="4869000"/>
                <a:chExt cx="914760" cy="304560"/>
              </a:xfrm>
            </p:grpSpPr>
            <p:sp>
              <p:nvSpPr>
                <p:cNvPr id="94" name="object 28"/>
                <p:cNvSpPr/>
                <p:nvPr/>
              </p:nvSpPr>
              <p:spPr>
                <a:xfrm>
                  <a:off x="1973160" y="4944960"/>
                  <a:ext cx="914760" cy="360"/>
                </a:xfrm>
                <a:custGeom>
                  <a:avLst/>
                  <a:gdLst/>
                  <a:ahLst/>
                  <a:rect l="l" t="t" r="r" b="b"/>
                  <a:pathLst>
                    <a:path w="914400" h="0">
                      <a:moveTo>
                        <a:pt x="91440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object 29"/>
                <p:cNvSpPr/>
                <p:nvPr/>
              </p:nvSpPr>
              <p:spPr>
                <a:xfrm>
                  <a:off x="2430360" y="4869000"/>
                  <a:ext cx="360" cy="30456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3048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6" name="グループ化 15"/>
          <p:cNvGrpSpPr/>
          <p:nvPr/>
        </p:nvGrpSpPr>
        <p:grpSpPr>
          <a:xfrm>
            <a:off x="54000" y="54000"/>
            <a:ext cx="4807080" cy="6012000"/>
            <a:chOff x="54000" y="54000"/>
            <a:chExt cx="4807080" cy="6012000"/>
          </a:xfrm>
        </p:grpSpPr>
        <p:pic>
          <p:nvPicPr>
            <p:cNvPr id="97" name="図 16" descr="">
              <a:hlinkClick r:id="rId2"/>
            </p:cNvPr>
            <p:cNvPicPr/>
            <p:nvPr/>
          </p:nvPicPr>
          <p:blipFill>
            <a:blip r:embed="rId3"/>
            <a:srcRect l="0" t="0" r="40409" b="0"/>
            <a:stretch/>
          </p:blipFill>
          <p:spPr>
            <a:xfrm>
              <a:off x="1245600" y="5166360"/>
              <a:ext cx="2368440" cy="89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" name="Group 141"/>
            <p:cNvGrpSpPr/>
            <p:nvPr/>
          </p:nvGrpSpPr>
          <p:grpSpPr>
            <a:xfrm>
              <a:off x="54000" y="54000"/>
              <a:ext cx="4807080" cy="4662360"/>
              <a:chOff x="54000" y="54000"/>
              <a:chExt cx="4807080" cy="4662360"/>
            </a:xfrm>
          </p:grpSpPr>
          <p:pic>
            <p:nvPicPr>
              <p:cNvPr id="99" name="Picture 116" descr="ぬりたし説明"/>
              <p:cNvPicPr/>
              <p:nvPr/>
            </p:nvPicPr>
            <p:blipFill>
              <a:blip r:embed="rId4"/>
              <a:stretch/>
            </p:blipFill>
            <p:spPr>
              <a:xfrm>
                <a:off x="3843360" y="1422360"/>
                <a:ext cx="1017720" cy="28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0" name="Group 136"/>
              <p:cNvGrpSpPr/>
              <p:nvPr/>
            </p:nvGrpSpPr>
            <p:grpSpPr>
              <a:xfrm>
                <a:off x="61920" y="1547640"/>
                <a:ext cx="3249720" cy="3060720"/>
                <a:chOff x="61920" y="1547640"/>
                <a:chExt cx="3249720" cy="3060720"/>
              </a:xfrm>
            </p:grpSpPr>
            <p:sp>
              <p:nvSpPr>
                <p:cNvPr id="101" name="Rectangle 78"/>
                <p:cNvSpPr/>
                <p:nvPr/>
              </p:nvSpPr>
              <p:spPr>
                <a:xfrm>
                  <a:off x="1547640" y="1547640"/>
                  <a:ext cx="1764000" cy="3060720"/>
                </a:xfrm>
                <a:prstGeom prst="rect">
                  <a:avLst/>
                </a:prstGeom>
                <a:noFill/>
                <a:ln w="6480">
                  <a:solidFill>
                    <a:srgbClr val="00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103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106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137"/>
              <p:cNvGrpSpPr/>
              <p:nvPr/>
            </p:nvGrpSpPr>
            <p:grpSpPr>
              <a:xfrm>
                <a:off x="61920" y="1314360"/>
                <a:ext cx="3357720" cy="3402000"/>
                <a:chOff x="61920" y="1314360"/>
                <a:chExt cx="3357720" cy="3402000"/>
              </a:xfrm>
            </p:grpSpPr>
            <p:sp>
              <p:nvSpPr>
                <p:cNvPr id="109" name="Rectangle 86"/>
                <p:cNvSpPr/>
                <p:nvPr/>
              </p:nvSpPr>
              <p:spPr>
                <a:xfrm>
                  <a:off x="1440000" y="1440000"/>
                  <a:ext cx="1979640" cy="32763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111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" name="Group 140"/>
              <p:cNvGrpSpPr/>
              <p:nvPr/>
            </p:nvGrpSpPr>
            <p:grpSpPr>
              <a:xfrm>
                <a:off x="54000" y="54000"/>
                <a:ext cx="4749840" cy="900000"/>
                <a:chOff x="54000" y="54000"/>
                <a:chExt cx="4749840" cy="900000"/>
              </a:xfrm>
            </p:grpSpPr>
            <p:sp>
              <p:nvSpPr>
                <p:cNvPr id="114" name="Rectangle 65"/>
                <p:cNvSpPr/>
                <p:nvPr/>
              </p:nvSpPr>
              <p:spPr>
                <a:xfrm>
                  <a:off x="54000" y="54000"/>
                  <a:ext cx="107964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名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5×91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Text Box 67"/>
                <p:cNvSpPr/>
                <p:nvPr/>
              </p:nvSpPr>
              <p:spPr>
                <a:xfrm>
                  <a:off x="1133640" y="54000"/>
                  <a:ext cx="367020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16" name="Picture 135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79440" indent="-200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9280" indent="-1605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058760" indent="-1602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397160" indent="-1587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397160" indent="-1587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397160" indent="-1587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/>
  <dcterms:modified xsi:type="dcterms:W3CDTF">2024-11-07T09:35:46Z</dcterms:modified>
  <cp:revision>17</cp:revision>
  <dc:subject/>
  <dc:title>スライド 1</dc:title>
</cp:coreProperties>
</file>