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156325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18124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5468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0780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18124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05468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07800" y="193680"/>
            <a:ext cx="5540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18124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05468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30780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18124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405468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307800" y="193680"/>
            <a:ext cx="5540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120"/>
          <p:cNvSpPr/>
          <p:nvPr/>
        </p:nvSpPr>
        <p:spPr>
          <a:xfrm>
            <a:off x="4863960" y="10317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121"/>
          <p:cNvSpPr/>
          <p:nvPr/>
        </p:nvSpPr>
        <p:spPr>
          <a:xfrm>
            <a:off x="4857840" y="356400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3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グループ化 1"/>
          <p:cNvGrpSpPr/>
          <p:nvPr/>
        </p:nvGrpSpPr>
        <p:grpSpPr>
          <a:xfrm>
            <a:off x="982800" y="982800"/>
            <a:ext cx="4190760" cy="2895480"/>
            <a:chOff x="982800" y="982800"/>
            <a:chExt cx="4190760" cy="2895480"/>
          </a:xfrm>
        </p:grpSpPr>
        <p:sp>
          <p:nvSpPr>
            <p:cNvPr id="4" name="object 2"/>
            <p:cNvSpPr/>
            <p:nvPr/>
          </p:nvSpPr>
          <p:spPr>
            <a:xfrm>
              <a:off x="1331640" y="1331640"/>
              <a:ext cx="3493080" cy="2197440"/>
            </a:xfrm>
            <a:custGeom>
              <a:avLst/>
              <a:gdLst/>
              <a:ahLst/>
              <a:rect l="l" t="t" r="r" b="b"/>
              <a:pathLst>
                <a:path w="3492500" h="2196465">
                  <a:moveTo>
                    <a:pt x="3492004" y="2196007"/>
                  </a:moveTo>
                  <a:lnTo>
                    <a:pt x="0" y="2196007"/>
                  </a:lnTo>
                  <a:lnTo>
                    <a:pt x="0" y="0"/>
                  </a:lnTo>
                  <a:lnTo>
                    <a:pt x="3492004" y="0"/>
                  </a:lnTo>
                  <a:lnTo>
                    <a:pt x="3492004" y="2196007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グループ化 3"/>
            <p:cNvGrpSpPr/>
            <p:nvPr/>
          </p:nvGrpSpPr>
          <p:grpSpPr>
            <a:xfrm>
              <a:off x="982800" y="982800"/>
              <a:ext cx="4190760" cy="2895480"/>
              <a:chOff x="982800" y="982800"/>
              <a:chExt cx="4190760" cy="2895480"/>
            </a:xfrm>
          </p:grpSpPr>
          <p:grpSp>
            <p:nvGrpSpPr>
              <p:cNvPr id="6" name="object 6"/>
              <p:cNvGrpSpPr/>
              <p:nvPr/>
            </p:nvGrpSpPr>
            <p:grpSpPr>
              <a:xfrm>
                <a:off x="1005840" y="3419280"/>
                <a:ext cx="435960" cy="436320"/>
                <a:chOff x="1005840" y="3419280"/>
                <a:chExt cx="435960" cy="436320"/>
              </a:xfrm>
            </p:grpSpPr>
            <p:sp>
              <p:nvSpPr>
                <p:cNvPr id="7" name="object 7"/>
                <p:cNvSpPr/>
                <p:nvPr/>
              </p:nvSpPr>
              <p:spPr>
                <a:xfrm>
                  <a:off x="1005840" y="341928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4" h="432435">
                      <a:moveTo>
                        <a:pt x="0" y="0"/>
                      </a:moveTo>
                      <a:lnTo>
                        <a:pt x="324002" y="0"/>
                      </a:lnTo>
                      <a:lnTo>
                        <a:pt x="324002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bject 8"/>
                <p:cNvSpPr/>
                <p:nvPr/>
              </p:nvSpPr>
              <p:spPr>
                <a:xfrm>
                  <a:off x="1005840" y="352800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4" h="324485">
                      <a:moveTo>
                        <a:pt x="432003" y="324002"/>
                      </a:moveTo>
                      <a:lnTo>
                        <a:pt x="43200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" name="object 9"/>
              <p:cNvGrpSpPr/>
              <p:nvPr/>
            </p:nvGrpSpPr>
            <p:grpSpPr>
              <a:xfrm>
                <a:off x="1005840" y="1005840"/>
                <a:ext cx="435960" cy="436320"/>
                <a:chOff x="1005840" y="1005840"/>
                <a:chExt cx="435960" cy="436320"/>
              </a:xfrm>
            </p:grpSpPr>
            <p:sp>
              <p:nvSpPr>
                <p:cNvPr id="10" name="object 10"/>
                <p:cNvSpPr/>
                <p:nvPr/>
              </p:nvSpPr>
              <p:spPr>
                <a:xfrm>
                  <a:off x="1005840" y="100584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4" h="432434">
                      <a:moveTo>
                        <a:pt x="0" y="432003"/>
                      </a:moveTo>
                      <a:lnTo>
                        <a:pt x="324002" y="432003"/>
                      </a:lnTo>
                      <a:lnTo>
                        <a:pt x="324002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bject 11"/>
                <p:cNvSpPr/>
                <p:nvPr/>
              </p:nvSpPr>
              <p:spPr>
                <a:xfrm>
                  <a:off x="1005840" y="100584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4" h="324484">
                      <a:moveTo>
                        <a:pt x="432003" y="0"/>
                      </a:moveTo>
                      <a:lnTo>
                        <a:pt x="432003" y="324002"/>
                      </a:lnTo>
                      <a:lnTo>
                        <a:pt x="0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object 12"/>
              <p:cNvGrpSpPr/>
              <p:nvPr/>
            </p:nvGrpSpPr>
            <p:grpSpPr>
              <a:xfrm>
                <a:off x="4714560" y="1005840"/>
                <a:ext cx="435960" cy="436320"/>
                <a:chOff x="4714560" y="1005840"/>
                <a:chExt cx="435960" cy="436320"/>
              </a:xfrm>
            </p:grpSpPr>
            <p:sp>
              <p:nvSpPr>
                <p:cNvPr id="13" name="object 13"/>
                <p:cNvSpPr/>
                <p:nvPr/>
              </p:nvSpPr>
              <p:spPr>
                <a:xfrm>
                  <a:off x="4823280" y="100584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5" h="432434">
                      <a:moveTo>
                        <a:pt x="324002" y="432003"/>
                      </a:moveTo>
                      <a:lnTo>
                        <a:pt x="0" y="43200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bject 14"/>
                <p:cNvSpPr/>
                <p:nvPr/>
              </p:nvSpPr>
              <p:spPr>
                <a:xfrm>
                  <a:off x="4714560" y="100584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5" h="324484">
                      <a:moveTo>
                        <a:pt x="0" y="0"/>
                      </a:moveTo>
                      <a:lnTo>
                        <a:pt x="0" y="324002"/>
                      </a:lnTo>
                      <a:lnTo>
                        <a:pt x="432003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object 15"/>
              <p:cNvGrpSpPr/>
              <p:nvPr/>
            </p:nvGrpSpPr>
            <p:grpSpPr>
              <a:xfrm>
                <a:off x="4714560" y="3419280"/>
                <a:ext cx="435960" cy="436320"/>
                <a:chOff x="4714560" y="3419280"/>
                <a:chExt cx="435960" cy="436320"/>
              </a:xfrm>
            </p:grpSpPr>
            <p:sp>
              <p:nvSpPr>
                <p:cNvPr id="16" name="object 16"/>
                <p:cNvSpPr/>
                <p:nvPr/>
              </p:nvSpPr>
              <p:spPr>
                <a:xfrm>
                  <a:off x="4823280" y="341928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5" h="432435">
                      <a:moveTo>
                        <a:pt x="324002" y="0"/>
                      </a:moveTo>
                      <a:lnTo>
                        <a:pt x="0" y="0"/>
                      </a:lnTo>
                      <a:lnTo>
                        <a:pt x="0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object 17"/>
                <p:cNvSpPr/>
                <p:nvPr/>
              </p:nvSpPr>
              <p:spPr>
                <a:xfrm>
                  <a:off x="4714560" y="352800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5" h="324485">
                      <a:moveTo>
                        <a:pt x="0" y="324002"/>
                      </a:moveTo>
                      <a:lnTo>
                        <a:pt x="0" y="0"/>
                      </a:lnTo>
                      <a:lnTo>
                        <a:pt x="432003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" name="object 18"/>
              <p:cNvGrpSpPr/>
              <p:nvPr/>
            </p:nvGrpSpPr>
            <p:grpSpPr>
              <a:xfrm>
                <a:off x="982800" y="1973160"/>
                <a:ext cx="304560" cy="914760"/>
                <a:chOff x="982800" y="1973160"/>
                <a:chExt cx="304560" cy="914760"/>
              </a:xfrm>
            </p:grpSpPr>
            <p:sp>
              <p:nvSpPr>
                <p:cNvPr id="19" name="object 19"/>
                <p:cNvSpPr/>
                <p:nvPr/>
              </p:nvSpPr>
              <p:spPr>
                <a:xfrm>
                  <a:off x="982800" y="243036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0" y="0"/>
                      </a:moveTo>
                      <a:lnTo>
                        <a:pt x="3048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object 20"/>
                <p:cNvSpPr/>
                <p:nvPr/>
              </p:nvSpPr>
              <p:spPr>
                <a:xfrm>
                  <a:off x="1211400" y="1973160"/>
                  <a:ext cx="360" cy="91476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0"/>
                      </a:moveTo>
                      <a:lnTo>
                        <a:pt x="0" y="9144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" name="object 21"/>
              <p:cNvGrpSpPr/>
              <p:nvPr/>
            </p:nvGrpSpPr>
            <p:grpSpPr>
              <a:xfrm>
                <a:off x="4869000" y="1973160"/>
                <a:ext cx="304560" cy="914760"/>
                <a:chOff x="4869000" y="1973160"/>
                <a:chExt cx="304560" cy="914760"/>
              </a:xfrm>
            </p:grpSpPr>
            <p:sp>
              <p:nvSpPr>
                <p:cNvPr id="22" name="object 22"/>
                <p:cNvSpPr/>
                <p:nvPr/>
              </p:nvSpPr>
              <p:spPr>
                <a:xfrm>
                  <a:off x="4869000" y="243036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3048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object 23"/>
                <p:cNvSpPr/>
                <p:nvPr/>
              </p:nvSpPr>
              <p:spPr>
                <a:xfrm>
                  <a:off x="4944960" y="1973160"/>
                  <a:ext cx="360" cy="91476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914399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" name="object 24"/>
              <p:cNvGrpSpPr/>
              <p:nvPr/>
            </p:nvGrpSpPr>
            <p:grpSpPr>
              <a:xfrm>
                <a:off x="2620800" y="982800"/>
                <a:ext cx="914400" cy="304920"/>
                <a:chOff x="2620800" y="982800"/>
                <a:chExt cx="914400" cy="304920"/>
              </a:xfrm>
            </p:grpSpPr>
            <p:sp>
              <p:nvSpPr>
                <p:cNvPr id="25" name="object 25"/>
                <p:cNvSpPr/>
                <p:nvPr/>
              </p:nvSpPr>
              <p:spPr>
                <a:xfrm>
                  <a:off x="2620800" y="1211400"/>
                  <a:ext cx="91440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0" y="0"/>
                      </a:moveTo>
                      <a:lnTo>
                        <a:pt x="9144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object 26"/>
                <p:cNvSpPr/>
                <p:nvPr/>
              </p:nvSpPr>
              <p:spPr>
                <a:xfrm>
                  <a:off x="3078000" y="982800"/>
                  <a:ext cx="360" cy="30492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0"/>
                      </a:moveTo>
                      <a:lnTo>
                        <a:pt x="0" y="3048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" name="object 27"/>
              <p:cNvGrpSpPr/>
              <p:nvPr/>
            </p:nvGrpSpPr>
            <p:grpSpPr>
              <a:xfrm>
                <a:off x="2620800" y="3573360"/>
                <a:ext cx="914400" cy="304920"/>
                <a:chOff x="2620800" y="3573360"/>
                <a:chExt cx="914400" cy="304920"/>
              </a:xfrm>
            </p:grpSpPr>
            <p:sp>
              <p:nvSpPr>
                <p:cNvPr id="28" name="object 28"/>
                <p:cNvSpPr/>
                <p:nvPr/>
              </p:nvSpPr>
              <p:spPr>
                <a:xfrm>
                  <a:off x="2620800" y="3649680"/>
                  <a:ext cx="91440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9144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object 29"/>
                <p:cNvSpPr/>
                <p:nvPr/>
              </p:nvSpPr>
              <p:spPr>
                <a:xfrm>
                  <a:off x="3078000" y="3573360"/>
                  <a:ext cx="360" cy="30492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3048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120"/>
          <p:cNvSpPr/>
          <p:nvPr/>
        </p:nvSpPr>
        <p:spPr>
          <a:xfrm>
            <a:off x="4863960" y="10317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21"/>
          <p:cNvSpPr/>
          <p:nvPr/>
        </p:nvSpPr>
        <p:spPr>
          <a:xfrm>
            <a:off x="4857840" y="356400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グループ化 1"/>
          <p:cNvGrpSpPr/>
          <p:nvPr/>
        </p:nvGrpSpPr>
        <p:grpSpPr>
          <a:xfrm>
            <a:off x="982800" y="982800"/>
            <a:ext cx="4190760" cy="2895480"/>
            <a:chOff x="982800" y="982800"/>
            <a:chExt cx="4190760" cy="2895480"/>
          </a:xfrm>
        </p:grpSpPr>
        <p:sp>
          <p:nvSpPr>
            <p:cNvPr id="70" name="object 2"/>
            <p:cNvSpPr/>
            <p:nvPr/>
          </p:nvSpPr>
          <p:spPr>
            <a:xfrm>
              <a:off x="1331640" y="1331640"/>
              <a:ext cx="3493080" cy="2197440"/>
            </a:xfrm>
            <a:custGeom>
              <a:avLst/>
              <a:gdLst/>
              <a:ahLst/>
              <a:rect l="l" t="t" r="r" b="b"/>
              <a:pathLst>
                <a:path w="3492500" h="2196465">
                  <a:moveTo>
                    <a:pt x="3492004" y="2196007"/>
                  </a:moveTo>
                  <a:lnTo>
                    <a:pt x="0" y="2196007"/>
                  </a:lnTo>
                  <a:lnTo>
                    <a:pt x="0" y="0"/>
                  </a:lnTo>
                  <a:lnTo>
                    <a:pt x="3492004" y="0"/>
                  </a:lnTo>
                  <a:lnTo>
                    <a:pt x="3492004" y="2196007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グループ化 3"/>
            <p:cNvGrpSpPr/>
            <p:nvPr/>
          </p:nvGrpSpPr>
          <p:grpSpPr>
            <a:xfrm>
              <a:off x="982800" y="982800"/>
              <a:ext cx="4190760" cy="2895480"/>
              <a:chOff x="982800" y="982800"/>
              <a:chExt cx="4190760" cy="2895480"/>
            </a:xfrm>
          </p:grpSpPr>
          <p:grpSp>
            <p:nvGrpSpPr>
              <p:cNvPr id="72" name="object 6"/>
              <p:cNvGrpSpPr/>
              <p:nvPr/>
            </p:nvGrpSpPr>
            <p:grpSpPr>
              <a:xfrm>
                <a:off x="1005840" y="3419280"/>
                <a:ext cx="435960" cy="436320"/>
                <a:chOff x="1005840" y="3419280"/>
                <a:chExt cx="435960" cy="436320"/>
              </a:xfrm>
            </p:grpSpPr>
            <p:sp>
              <p:nvSpPr>
                <p:cNvPr id="73" name="object 7"/>
                <p:cNvSpPr/>
                <p:nvPr/>
              </p:nvSpPr>
              <p:spPr>
                <a:xfrm>
                  <a:off x="1005840" y="341928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4" h="432435">
                      <a:moveTo>
                        <a:pt x="0" y="0"/>
                      </a:moveTo>
                      <a:lnTo>
                        <a:pt x="324002" y="0"/>
                      </a:lnTo>
                      <a:lnTo>
                        <a:pt x="324002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object 8"/>
                <p:cNvSpPr/>
                <p:nvPr/>
              </p:nvSpPr>
              <p:spPr>
                <a:xfrm>
                  <a:off x="1005840" y="352800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4" h="324485">
                      <a:moveTo>
                        <a:pt x="432003" y="324002"/>
                      </a:moveTo>
                      <a:lnTo>
                        <a:pt x="43200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object 9"/>
              <p:cNvGrpSpPr/>
              <p:nvPr/>
            </p:nvGrpSpPr>
            <p:grpSpPr>
              <a:xfrm>
                <a:off x="1005840" y="1005840"/>
                <a:ext cx="435960" cy="436320"/>
                <a:chOff x="1005840" y="1005840"/>
                <a:chExt cx="435960" cy="436320"/>
              </a:xfrm>
            </p:grpSpPr>
            <p:sp>
              <p:nvSpPr>
                <p:cNvPr id="76" name="object 10"/>
                <p:cNvSpPr/>
                <p:nvPr/>
              </p:nvSpPr>
              <p:spPr>
                <a:xfrm>
                  <a:off x="1005840" y="100584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4" h="432434">
                      <a:moveTo>
                        <a:pt x="0" y="432003"/>
                      </a:moveTo>
                      <a:lnTo>
                        <a:pt x="324002" y="432003"/>
                      </a:lnTo>
                      <a:lnTo>
                        <a:pt x="324002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object 11"/>
                <p:cNvSpPr/>
                <p:nvPr/>
              </p:nvSpPr>
              <p:spPr>
                <a:xfrm>
                  <a:off x="1005840" y="100584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4" h="324484">
                      <a:moveTo>
                        <a:pt x="432003" y="0"/>
                      </a:moveTo>
                      <a:lnTo>
                        <a:pt x="432003" y="324002"/>
                      </a:lnTo>
                      <a:lnTo>
                        <a:pt x="0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object 12"/>
              <p:cNvGrpSpPr/>
              <p:nvPr/>
            </p:nvGrpSpPr>
            <p:grpSpPr>
              <a:xfrm>
                <a:off x="4714560" y="1005840"/>
                <a:ext cx="435960" cy="436320"/>
                <a:chOff x="4714560" y="1005840"/>
                <a:chExt cx="435960" cy="436320"/>
              </a:xfrm>
            </p:grpSpPr>
            <p:sp>
              <p:nvSpPr>
                <p:cNvPr id="79" name="object 13"/>
                <p:cNvSpPr/>
                <p:nvPr/>
              </p:nvSpPr>
              <p:spPr>
                <a:xfrm>
                  <a:off x="4823280" y="100584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5" h="432434">
                      <a:moveTo>
                        <a:pt x="324002" y="432003"/>
                      </a:moveTo>
                      <a:lnTo>
                        <a:pt x="0" y="43200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object 14"/>
                <p:cNvSpPr/>
                <p:nvPr/>
              </p:nvSpPr>
              <p:spPr>
                <a:xfrm>
                  <a:off x="4714560" y="100584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5" h="324484">
                      <a:moveTo>
                        <a:pt x="0" y="0"/>
                      </a:moveTo>
                      <a:lnTo>
                        <a:pt x="0" y="324002"/>
                      </a:lnTo>
                      <a:lnTo>
                        <a:pt x="432003" y="324002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object 15"/>
              <p:cNvGrpSpPr/>
              <p:nvPr/>
            </p:nvGrpSpPr>
            <p:grpSpPr>
              <a:xfrm>
                <a:off x="4714560" y="3419280"/>
                <a:ext cx="435960" cy="436320"/>
                <a:chOff x="4714560" y="3419280"/>
                <a:chExt cx="435960" cy="436320"/>
              </a:xfrm>
            </p:grpSpPr>
            <p:sp>
              <p:nvSpPr>
                <p:cNvPr id="82" name="object 16"/>
                <p:cNvSpPr/>
                <p:nvPr/>
              </p:nvSpPr>
              <p:spPr>
                <a:xfrm>
                  <a:off x="4823280" y="3419280"/>
                  <a:ext cx="327240" cy="436320"/>
                </a:xfrm>
                <a:custGeom>
                  <a:avLst/>
                  <a:gdLst/>
                  <a:ahLst/>
                  <a:rect l="l" t="t" r="r" b="b"/>
                  <a:pathLst>
                    <a:path w="324485" h="432435">
                      <a:moveTo>
                        <a:pt x="324002" y="0"/>
                      </a:moveTo>
                      <a:lnTo>
                        <a:pt x="0" y="0"/>
                      </a:lnTo>
                      <a:lnTo>
                        <a:pt x="0" y="432003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object 17"/>
                <p:cNvSpPr/>
                <p:nvPr/>
              </p:nvSpPr>
              <p:spPr>
                <a:xfrm>
                  <a:off x="4714560" y="3528000"/>
                  <a:ext cx="435960" cy="327600"/>
                </a:xfrm>
                <a:custGeom>
                  <a:avLst/>
                  <a:gdLst/>
                  <a:ahLst/>
                  <a:rect l="l" t="t" r="r" b="b"/>
                  <a:pathLst>
                    <a:path w="432435" h="324485">
                      <a:moveTo>
                        <a:pt x="0" y="324002"/>
                      </a:moveTo>
                      <a:lnTo>
                        <a:pt x="0" y="0"/>
                      </a:lnTo>
                      <a:lnTo>
                        <a:pt x="432003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object 18"/>
              <p:cNvGrpSpPr/>
              <p:nvPr/>
            </p:nvGrpSpPr>
            <p:grpSpPr>
              <a:xfrm>
                <a:off x="982800" y="1973160"/>
                <a:ext cx="304560" cy="914760"/>
                <a:chOff x="982800" y="1973160"/>
                <a:chExt cx="304560" cy="914760"/>
              </a:xfrm>
            </p:grpSpPr>
            <p:sp>
              <p:nvSpPr>
                <p:cNvPr id="85" name="object 19"/>
                <p:cNvSpPr/>
                <p:nvPr/>
              </p:nvSpPr>
              <p:spPr>
                <a:xfrm>
                  <a:off x="982800" y="243036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0" y="0"/>
                      </a:moveTo>
                      <a:lnTo>
                        <a:pt x="3048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object 20"/>
                <p:cNvSpPr/>
                <p:nvPr/>
              </p:nvSpPr>
              <p:spPr>
                <a:xfrm>
                  <a:off x="1211400" y="1973160"/>
                  <a:ext cx="360" cy="91476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0"/>
                      </a:moveTo>
                      <a:lnTo>
                        <a:pt x="0" y="9144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object 21"/>
              <p:cNvGrpSpPr/>
              <p:nvPr/>
            </p:nvGrpSpPr>
            <p:grpSpPr>
              <a:xfrm>
                <a:off x="4869000" y="1973160"/>
                <a:ext cx="304560" cy="914760"/>
                <a:chOff x="4869000" y="1973160"/>
                <a:chExt cx="304560" cy="914760"/>
              </a:xfrm>
            </p:grpSpPr>
            <p:sp>
              <p:nvSpPr>
                <p:cNvPr id="88" name="object 22"/>
                <p:cNvSpPr/>
                <p:nvPr/>
              </p:nvSpPr>
              <p:spPr>
                <a:xfrm>
                  <a:off x="4869000" y="2430360"/>
                  <a:ext cx="304560" cy="360"/>
                </a:xfrm>
                <a:custGeom>
                  <a:avLst/>
                  <a:gdLst/>
                  <a:ahLst/>
                  <a:rect l="l" t="t" r="r" b="b"/>
                  <a:pathLst>
                    <a:path w="304800" h="0">
                      <a:moveTo>
                        <a:pt x="3048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object 23"/>
                <p:cNvSpPr/>
                <p:nvPr/>
              </p:nvSpPr>
              <p:spPr>
                <a:xfrm>
                  <a:off x="4944960" y="1973160"/>
                  <a:ext cx="360" cy="914760"/>
                </a:xfrm>
                <a:custGeom>
                  <a:avLst/>
                  <a:gdLst/>
                  <a:ahLst/>
                  <a:rect l="l" t="t" r="r" b="b"/>
                  <a:pathLst>
                    <a:path w="0" h="914400">
                      <a:moveTo>
                        <a:pt x="0" y="914399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object 24"/>
              <p:cNvGrpSpPr/>
              <p:nvPr/>
            </p:nvGrpSpPr>
            <p:grpSpPr>
              <a:xfrm>
                <a:off x="2620800" y="982800"/>
                <a:ext cx="914400" cy="304920"/>
                <a:chOff x="2620800" y="982800"/>
                <a:chExt cx="914400" cy="304920"/>
              </a:xfrm>
            </p:grpSpPr>
            <p:sp>
              <p:nvSpPr>
                <p:cNvPr id="91" name="object 25"/>
                <p:cNvSpPr/>
                <p:nvPr/>
              </p:nvSpPr>
              <p:spPr>
                <a:xfrm>
                  <a:off x="2620800" y="1211400"/>
                  <a:ext cx="91440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0" y="0"/>
                      </a:moveTo>
                      <a:lnTo>
                        <a:pt x="91440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object 26"/>
                <p:cNvSpPr/>
                <p:nvPr/>
              </p:nvSpPr>
              <p:spPr>
                <a:xfrm>
                  <a:off x="3078000" y="982800"/>
                  <a:ext cx="360" cy="30492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0"/>
                      </a:moveTo>
                      <a:lnTo>
                        <a:pt x="0" y="30480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object 27"/>
              <p:cNvGrpSpPr/>
              <p:nvPr/>
            </p:nvGrpSpPr>
            <p:grpSpPr>
              <a:xfrm>
                <a:off x="2620800" y="3573360"/>
                <a:ext cx="914400" cy="304920"/>
                <a:chOff x="2620800" y="3573360"/>
                <a:chExt cx="914400" cy="304920"/>
              </a:xfrm>
            </p:grpSpPr>
            <p:sp>
              <p:nvSpPr>
                <p:cNvPr id="94" name="object 28"/>
                <p:cNvSpPr/>
                <p:nvPr/>
              </p:nvSpPr>
              <p:spPr>
                <a:xfrm>
                  <a:off x="2620800" y="3649680"/>
                  <a:ext cx="914400" cy="360"/>
                </a:xfrm>
                <a:custGeom>
                  <a:avLst/>
                  <a:gdLst/>
                  <a:ahLst/>
                  <a:rect l="l" t="t" r="r" b="b"/>
                  <a:pathLst>
                    <a:path w="914400" h="0">
                      <a:moveTo>
                        <a:pt x="9144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object 29"/>
                <p:cNvSpPr/>
                <p:nvPr/>
              </p:nvSpPr>
              <p:spPr>
                <a:xfrm>
                  <a:off x="3078000" y="3573360"/>
                  <a:ext cx="360" cy="304920"/>
                </a:xfrm>
                <a:custGeom>
                  <a:avLst/>
                  <a:gdLst/>
                  <a:ahLst/>
                  <a:rect l="l" t="t" r="r" b="b"/>
                  <a:pathLst>
                    <a:path w="0" h="304800">
                      <a:moveTo>
                        <a:pt x="0" y="30480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6" name="グループ化 15"/>
          <p:cNvGrpSpPr/>
          <p:nvPr/>
        </p:nvGrpSpPr>
        <p:grpSpPr>
          <a:xfrm>
            <a:off x="54000" y="54000"/>
            <a:ext cx="6051600" cy="4699080"/>
            <a:chOff x="54000" y="54000"/>
            <a:chExt cx="6051600" cy="4699080"/>
          </a:xfrm>
        </p:grpSpPr>
        <p:pic>
          <p:nvPicPr>
            <p:cNvPr id="97" name="図 5" descr="">
              <a:hlinkClick r:id="rId2"/>
            </p:cNvPr>
            <p:cNvPicPr/>
            <p:nvPr/>
          </p:nvPicPr>
          <p:blipFill>
            <a:blip r:embed="rId3"/>
            <a:srcRect l="0" t="0" r="40409" b="0"/>
            <a:stretch/>
          </p:blipFill>
          <p:spPr>
            <a:xfrm>
              <a:off x="1897200" y="3853080"/>
              <a:ext cx="236844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" name="Group 137"/>
            <p:cNvGrpSpPr/>
            <p:nvPr/>
          </p:nvGrpSpPr>
          <p:grpSpPr>
            <a:xfrm>
              <a:off x="54000" y="54000"/>
              <a:ext cx="6051600" cy="3678120"/>
              <a:chOff x="54000" y="54000"/>
              <a:chExt cx="6051600" cy="3678120"/>
            </a:xfrm>
          </p:grpSpPr>
          <p:pic>
            <p:nvPicPr>
              <p:cNvPr id="99" name="Picture 116" descr="ぬりたし説明"/>
              <p:cNvPicPr/>
              <p:nvPr/>
            </p:nvPicPr>
            <p:blipFill>
              <a:blip r:embed="rId4"/>
              <a:stretch/>
            </p:blipFill>
            <p:spPr>
              <a:xfrm>
                <a:off x="5132520" y="1044720"/>
                <a:ext cx="973080" cy="2687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0" name="Group 135"/>
              <p:cNvGrpSpPr/>
              <p:nvPr/>
            </p:nvGrpSpPr>
            <p:grpSpPr>
              <a:xfrm>
                <a:off x="61920" y="1547640"/>
                <a:ext cx="4546440" cy="1764000"/>
                <a:chOff x="61920" y="1547640"/>
                <a:chExt cx="4546440" cy="1764000"/>
              </a:xfrm>
            </p:grpSpPr>
            <p:sp>
              <p:nvSpPr>
                <p:cNvPr id="101" name="Rectangle 78"/>
                <p:cNvSpPr/>
                <p:nvPr/>
              </p:nvSpPr>
              <p:spPr>
                <a:xfrm>
                  <a:off x="1547640" y="1547640"/>
                  <a:ext cx="3060720" cy="176400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103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106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136"/>
              <p:cNvGrpSpPr/>
              <p:nvPr/>
            </p:nvGrpSpPr>
            <p:grpSpPr>
              <a:xfrm>
                <a:off x="61920" y="1314360"/>
                <a:ext cx="4654440" cy="2105280"/>
                <a:chOff x="61920" y="1314360"/>
                <a:chExt cx="4654440" cy="2105280"/>
              </a:xfrm>
            </p:grpSpPr>
            <p:sp>
              <p:nvSpPr>
                <p:cNvPr id="109" name="Rectangle 86"/>
                <p:cNvSpPr/>
                <p:nvPr/>
              </p:nvSpPr>
              <p:spPr>
                <a:xfrm>
                  <a:off x="1440000" y="1440000"/>
                  <a:ext cx="3276360" cy="1979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111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" name="Group 131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11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名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91×5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16" name="Picture 134" descr="新Suprintロゴ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954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93880" indent="-157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30480" indent="-15732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566720" indent="-156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/>
  <dcterms:modified xsi:type="dcterms:W3CDTF">2024-11-07T09:33:02Z</dcterms:modified>
  <cp:revision>18</cp:revision>
  <dc:subject/>
  <dc:title>スライド 1</dc:title>
</cp:coreProperties>
</file>