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156325" cy="6840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7800" y="272880"/>
            <a:ext cx="55400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7800" y="1600560"/>
            <a:ext cx="55400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07800" y="3672720"/>
            <a:ext cx="55400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7800" y="272880"/>
            <a:ext cx="55400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7800" y="1600560"/>
            <a:ext cx="2703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146760" y="1600560"/>
            <a:ext cx="2703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307800" y="3672720"/>
            <a:ext cx="2703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146760" y="3672720"/>
            <a:ext cx="2703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7800" y="272880"/>
            <a:ext cx="55400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7800" y="1600560"/>
            <a:ext cx="17838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2181240" y="1600560"/>
            <a:ext cx="17838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054680" y="1600560"/>
            <a:ext cx="17838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307800" y="3672720"/>
            <a:ext cx="17838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2181240" y="3672720"/>
            <a:ext cx="17838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4054680" y="3672720"/>
            <a:ext cx="17838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7800" y="272880"/>
            <a:ext cx="55400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07800" y="1600560"/>
            <a:ext cx="55400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7800" y="272880"/>
            <a:ext cx="55400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7800" y="1600560"/>
            <a:ext cx="55400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7800" y="272880"/>
            <a:ext cx="55400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7800" y="1600560"/>
            <a:ext cx="2703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146760" y="1600560"/>
            <a:ext cx="2703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7800" y="272880"/>
            <a:ext cx="55400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07800" y="272880"/>
            <a:ext cx="5540040" cy="52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7800" y="272880"/>
            <a:ext cx="55400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7800" y="1600560"/>
            <a:ext cx="2703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146760" y="1600560"/>
            <a:ext cx="2703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7800" y="3672720"/>
            <a:ext cx="2703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7800" y="272880"/>
            <a:ext cx="55400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307800" y="1600560"/>
            <a:ext cx="55400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7800" y="272880"/>
            <a:ext cx="55400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7800" y="1600560"/>
            <a:ext cx="2703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146760" y="1600560"/>
            <a:ext cx="2703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146760" y="3672720"/>
            <a:ext cx="2703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7800" y="272880"/>
            <a:ext cx="55400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7800" y="1600560"/>
            <a:ext cx="2703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146760" y="1600560"/>
            <a:ext cx="2703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07800" y="3672720"/>
            <a:ext cx="55400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7800" y="272880"/>
            <a:ext cx="55400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7800" y="1600560"/>
            <a:ext cx="55400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07800" y="3672720"/>
            <a:ext cx="55400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7800" y="272880"/>
            <a:ext cx="55400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7800" y="1600560"/>
            <a:ext cx="2703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146760" y="1600560"/>
            <a:ext cx="2703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07800" y="3672720"/>
            <a:ext cx="2703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3146760" y="3672720"/>
            <a:ext cx="2703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7800" y="272880"/>
            <a:ext cx="55400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7800" y="1600560"/>
            <a:ext cx="17838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181240" y="1600560"/>
            <a:ext cx="17838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4680" y="1600560"/>
            <a:ext cx="17838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307800" y="3672720"/>
            <a:ext cx="17838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181240" y="3672720"/>
            <a:ext cx="17838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4054680" y="3672720"/>
            <a:ext cx="17838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7800" y="272880"/>
            <a:ext cx="55400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7800" y="1600560"/>
            <a:ext cx="55400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7800" y="272880"/>
            <a:ext cx="55400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7800" y="1600560"/>
            <a:ext cx="2703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146760" y="1600560"/>
            <a:ext cx="2703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7800" y="272880"/>
            <a:ext cx="55400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07800" y="272880"/>
            <a:ext cx="5540040" cy="52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7800" y="272880"/>
            <a:ext cx="55400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7800" y="1600560"/>
            <a:ext cx="2703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46760" y="1600560"/>
            <a:ext cx="2703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7800" y="3672720"/>
            <a:ext cx="2703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7800" y="272880"/>
            <a:ext cx="55400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7800" y="1600560"/>
            <a:ext cx="2703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46760" y="1600560"/>
            <a:ext cx="2703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146760" y="3672720"/>
            <a:ext cx="2703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7800" y="272880"/>
            <a:ext cx="55400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7800" y="1600560"/>
            <a:ext cx="2703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46760" y="1600560"/>
            <a:ext cx="2703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07800" y="3672720"/>
            <a:ext cx="55400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suprint.jp/studio/design_inquiry/regist.php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2"/>
          <p:cNvSpPr/>
          <p:nvPr/>
        </p:nvSpPr>
        <p:spPr>
          <a:xfrm>
            <a:off x="1330200" y="1330200"/>
            <a:ext cx="3490920" cy="417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120"/>
          <p:cNvSpPr/>
          <p:nvPr/>
        </p:nvSpPr>
        <p:spPr>
          <a:xfrm>
            <a:off x="4859280" y="1079640"/>
            <a:ext cx="21600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Oval 121"/>
          <p:cNvSpPr/>
          <p:nvPr/>
        </p:nvSpPr>
        <p:spPr>
          <a:xfrm>
            <a:off x="4857840" y="5543640"/>
            <a:ext cx="21564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3"/>
          <p:cNvSpPr/>
          <p:nvPr/>
        </p:nvSpPr>
        <p:spPr>
          <a:xfrm>
            <a:off x="1079640" y="1079640"/>
            <a:ext cx="190440" cy="1792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グループ化 25"/>
          <p:cNvGrpSpPr/>
          <p:nvPr/>
        </p:nvGrpSpPr>
        <p:grpSpPr>
          <a:xfrm>
            <a:off x="1079640" y="1079640"/>
            <a:ext cx="360360" cy="360360"/>
            <a:chOff x="1079640" y="1079640"/>
            <a:chExt cx="360360" cy="360360"/>
          </a:xfrm>
        </p:grpSpPr>
        <p:sp>
          <p:nvSpPr>
            <p:cNvPr id="5" name="フリーフォーム: 図形 26"/>
            <p:cNvSpPr/>
            <p:nvPr/>
          </p:nvSpPr>
          <p:spPr>
            <a:xfrm>
              <a:off x="1079640" y="1079640"/>
              <a:ext cx="252360" cy="360360"/>
            </a:xfrm>
            <a:custGeom>
              <a:avLst/>
              <a:gdLst/>
              <a:ahLst/>
              <a:rect l="l" t="t" r="r" b="b"/>
              <a:pathLst>
                <a:path w="344063" h="378158">
                  <a:moveTo>
                    <a:pt x="344063" y="0"/>
                  </a:moveTo>
                  <a:lnTo>
                    <a:pt x="344063" y="378158"/>
                  </a:lnTo>
                  <a:lnTo>
                    <a:pt x="0" y="378158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フリーフォーム: 図形 27"/>
            <p:cNvSpPr/>
            <p:nvPr/>
          </p:nvSpPr>
          <p:spPr>
            <a:xfrm>
              <a:off x="1079640" y="1079640"/>
              <a:ext cx="360360" cy="252360"/>
            </a:xfrm>
            <a:custGeom>
              <a:avLst/>
              <a:gdLst/>
              <a:ahLst/>
              <a:rect l="l" t="t" r="r" b="b"/>
              <a:pathLst>
                <a:path w="344063" h="378158">
                  <a:moveTo>
                    <a:pt x="344063" y="0"/>
                  </a:moveTo>
                  <a:lnTo>
                    <a:pt x="344063" y="378158"/>
                  </a:lnTo>
                  <a:lnTo>
                    <a:pt x="0" y="378158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" name="グループ化 28"/>
          <p:cNvGrpSpPr/>
          <p:nvPr/>
        </p:nvGrpSpPr>
        <p:grpSpPr>
          <a:xfrm>
            <a:off x="4716360" y="1079640"/>
            <a:ext cx="358920" cy="360360"/>
            <a:chOff x="4716360" y="1079640"/>
            <a:chExt cx="358920" cy="360360"/>
          </a:xfrm>
        </p:grpSpPr>
        <p:sp>
          <p:nvSpPr>
            <p:cNvPr id="8" name="フリーフォーム: 図形 29"/>
            <p:cNvSpPr/>
            <p:nvPr/>
          </p:nvSpPr>
          <p:spPr>
            <a:xfrm>
              <a:off x="4824000" y="1079640"/>
              <a:ext cx="251280" cy="360360"/>
            </a:xfrm>
            <a:custGeom>
              <a:avLst/>
              <a:gdLst/>
              <a:ahLst/>
              <a:rect l="l" t="t" r="r" b="b"/>
              <a:pathLst>
                <a:path w="331664" h="362660">
                  <a:moveTo>
                    <a:pt x="0" y="0"/>
                  </a:moveTo>
                  <a:lnTo>
                    <a:pt x="0" y="362660"/>
                  </a:lnTo>
                  <a:lnTo>
                    <a:pt x="331664" y="362660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フリーフォーム: 図形 30"/>
            <p:cNvSpPr/>
            <p:nvPr/>
          </p:nvSpPr>
          <p:spPr>
            <a:xfrm>
              <a:off x="4716360" y="1079640"/>
              <a:ext cx="358920" cy="252360"/>
            </a:xfrm>
            <a:custGeom>
              <a:avLst/>
              <a:gdLst/>
              <a:ahLst/>
              <a:rect l="l" t="t" r="r" b="b"/>
              <a:pathLst>
                <a:path w="331664" h="362660">
                  <a:moveTo>
                    <a:pt x="0" y="0"/>
                  </a:moveTo>
                  <a:lnTo>
                    <a:pt x="0" y="362660"/>
                  </a:lnTo>
                  <a:lnTo>
                    <a:pt x="331664" y="362660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" name="グループ化 31"/>
          <p:cNvGrpSpPr/>
          <p:nvPr/>
        </p:nvGrpSpPr>
        <p:grpSpPr>
          <a:xfrm>
            <a:off x="1079640" y="5400720"/>
            <a:ext cx="360360" cy="358560"/>
            <a:chOff x="1079640" y="5400720"/>
            <a:chExt cx="360360" cy="358560"/>
          </a:xfrm>
        </p:grpSpPr>
        <p:sp>
          <p:nvSpPr>
            <p:cNvPr id="11" name="フリーフォーム: 図形 32"/>
            <p:cNvSpPr/>
            <p:nvPr/>
          </p:nvSpPr>
          <p:spPr>
            <a:xfrm>
              <a:off x="1079640" y="5508360"/>
              <a:ext cx="360360" cy="250920"/>
            </a:xfrm>
            <a:custGeom>
              <a:avLst/>
              <a:gdLst/>
              <a:ahLst/>
              <a:rect l="l" t="t" r="r" b="b"/>
              <a:pathLst>
                <a:path w="328565" h="306867">
                  <a:moveTo>
                    <a:pt x="0" y="0"/>
                  </a:moveTo>
                  <a:lnTo>
                    <a:pt x="328565" y="0"/>
                  </a:lnTo>
                  <a:lnTo>
                    <a:pt x="328565" y="306867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フリーフォーム: 図形 33"/>
            <p:cNvSpPr/>
            <p:nvPr/>
          </p:nvSpPr>
          <p:spPr>
            <a:xfrm>
              <a:off x="1079640" y="5400720"/>
              <a:ext cx="252360" cy="358560"/>
            </a:xfrm>
            <a:custGeom>
              <a:avLst/>
              <a:gdLst/>
              <a:ahLst/>
              <a:rect l="l" t="t" r="r" b="b"/>
              <a:pathLst>
                <a:path w="328565" h="306867">
                  <a:moveTo>
                    <a:pt x="0" y="0"/>
                  </a:moveTo>
                  <a:lnTo>
                    <a:pt x="328565" y="0"/>
                  </a:lnTo>
                  <a:lnTo>
                    <a:pt x="328565" y="306867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グループ化 34"/>
          <p:cNvGrpSpPr/>
          <p:nvPr/>
        </p:nvGrpSpPr>
        <p:grpSpPr>
          <a:xfrm>
            <a:off x="4716360" y="5400720"/>
            <a:ext cx="358920" cy="358560"/>
            <a:chOff x="4716360" y="5400720"/>
            <a:chExt cx="358920" cy="358560"/>
          </a:xfrm>
        </p:grpSpPr>
        <p:sp>
          <p:nvSpPr>
            <p:cNvPr id="14" name="フリーフォーム: 図形 35"/>
            <p:cNvSpPr/>
            <p:nvPr/>
          </p:nvSpPr>
          <p:spPr>
            <a:xfrm>
              <a:off x="4716360" y="5508360"/>
              <a:ext cx="358920" cy="250920"/>
            </a:xfrm>
            <a:custGeom>
              <a:avLst/>
              <a:gdLst/>
              <a:ahLst/>
              <a:rect l="l" t="t" r="r" b="b"/>
              <a:pathLst>
                <a:path w="337863" h="297568">
                  <a:moveTo>
                    <a:pt x="337863" y="0"/>
                  </a:moveTo>
                  <a:lnTo>
                    <a:pt x="0" y="0"/>
                  </a:lnTo>
                  <a:lnTo>
                    <a:pt x="0" y="297568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フリーフォーム: 図形 36"/>
            <p:cNvSpPr/>
            <p:nvPr/>
          </p:nvSpPr>
          <p:spPr>
            <a:xfrm>
              <a:off x="4824000" y="5400720"/>
              <a:ext cx="251280" cy="358560"/>
            </a:xfrm>
            <a:custGeom>
              <a:avLst/>
              <a:gdLst/>
              <a:ahLst/>
              <a:rect l="l" t="t" r="r" b="b"/>
              <a:pathLst>
                <a:path w="337863" h="297568">
                  <a:moveTo>
                    <a:pt x="337863" y="0"/>
                  </a:moveTo>
                  <a:lnTo>
                    <a:pt x="0" y="0"/>
                  </a:lnTo>
                  <a:lnTo>
                    <a:pt x="0" y="297568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" name="グループ化 11"/>
          <p:cNvGrpSpPr/>
          <p:nvPr/>
        </p:nvGrpSpPr>
        <p:grpSpPr>
          <a:xfrm>
            <a:off x="1079640" y="3419640"/>
            <a:ext cx="3995280" cy="0"/>
            <a:chOff x="1079640" y="3419640"/>
            <a:chExt cx="3995280" cy="0"/>
          </a:xfrm>
        </p:grpSpPr>
        <p:sp>
          <p:nvSpPr>
            <p:cNvPr id="17" name="直線コネクタ 10"/>
            <p:cNvSpPr/>
            <p:nvPr/>
          </p:nvSpPr>
          <p:spPr>
            <a:xfrm>
              <a:off x="1079640" y="3419640"/>
              <a:ext cx="25164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直線コネクタ 37"/>
            <p:cNvSpPr/>
            <p:nvPr/>
          </p:nvSpPr>
          <p:spPr>
            <a:xfrm>
              <a:off x="4823280" y="3419640"/>
              <a:ext cx="25164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テキスト ボックス 12"/>
          <p:cNvSpPr/>
          <p:nvPr/>
        </p:nvSpPr>
        <p:spPr>
          <a:xfrm>
            <a:off x="931680" y="3277440"/>
            <a:ext cx="31752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スジ位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62"/>
          <p:cNvSpPr/>
          <p:nvPr/>
        </p:nvSpPr>
        <p:spPr>
          <a:xfrm>
            <a:off x="1330200" y="1330200"/>
            <a:ext cx="3490920" cy="417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20"/>
          <p:cNvSpPr/>
          <p:nvPr/>
        </p:nvSpPr>
        <p:spPr>
          <a:xfrm>
            <a:off x="4859280" y="1079640"/>
            <a:ext cx="21600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21"/>
          <p:cNvSpPr/>
          <p:nvPr/>
        </p:nvSpPr>
        <p:spPr>
          <a:xfrm>
            <a:off x="4857840" y="5543640"/>
            <a:ext cx="21564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1079640" y="1079640"/>
            <a:ext cx="190440" cy="1792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グループ化 25"/>
          <p:cNvGrpSpPr/>
          <p:nvPr/>
        </p:nvGrpSpPr>
        <p:grpSpPr>
          <a:xfrm>
            <a:off x="1079640" y="1079640"/>
            <a:ext cx="360360" cy="360360"/>
            <a:chOff x="1079640" y="1079640"/>
            <a:chExt cx="360360" cy="360360"/>
          </a:xfrm>
        </p:grpSpPr>
        <p:sp>
          <p:nvSpPr>
            <p:cNvPr id="61" name="フリーフォーム: 図形 26"/>
            <p:cNvSpPr/>
            <p:nvPr/>
          </p:nvSpPr>
          <p:spPr>
            <a:xfrm>
              <a:off x="1079640" y="1079640"/>
              <a:ext cx="252360" cy="360360"/>
            </a:xfrm>
            <a:custGeom>
              <a:avLst/>
              <a:gdLst/>
              <a:ahLst/>
              <a:rect l="l" t="t" r="r" b="b"/>
              <a:pathLst>
                <a:path w="344063" h="378158">
                  <a:moveTo>
                    <a:pt x="344063" y="0"/>
                  </a:moveTo>
                  <a:lnTo>
                    <a:pt x="344063" y="378158"/>
                  </a:lnTo>
                  <a:lnTo>
                    <a:pt x="0" y="378158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フリーフォーム: 図形 27"/>
            <p:cNvSpPr/>
            <p:nvPr/>
          </p:nvSpPr>
          <p:spPr>
            <a:xfrm>
              <a:off x="1079640" y="1079640"/>
              <a:ext cx="360360" cy="252360"/>
            </a:xfrm>
            <a:custGeom>
              <a:avLst/>
              <a:gdLst/>
              <a:ahLst/>
              <a:rect l="l" t="t" r="r" b="b"/>
              <a:pathLst>
                <a:path w="344063" h="378158">
                  <a:moveTo>
                    <a:pt x="344063" y="0"/>
                  </a:moveTo>
                  <a:lnTo>
                    <a:pt x="344063" y="378158"/>
                  </a:lnTo>
                  <a:lnTo>
                    <a:pt x="0" y="378158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グループ化 28"/>
          <p:cNvGrpSpPr/>
          <p:nvPr/>
        </p:nvGrpSpPr>
        <p:grpSpPr>
          <a:xfrm>
            <a:off x="4716360" y="1079640"/>
            <a:ext cx="358920" cy="360360"/>
            <a:chOff x="4716360" y="1079640"/>
            <a:chExt cx="358920" cy="360360"/>
          </a:xfrm>
        </p:grpSpPr>
        <p:sp>
          <p:nvSpPr>
            <p:cNvPr id="64" name="フリーフォーム: 図形 29"/>
            <p:cNvSpPr/>
            <p:nvPr/>
          </p:nvSpPr>
          <p:spPr>
            <a:xfrm>
              <a:off x="4824000" y="1079640"/>
              <a:ext cx="251280" cy="360360"/>
            </a:xfrm>
            <a:custGeom>
              <a:avLst/>
              <a:gdLst/>
              <a:ahLst/>
              <a:rect l="l" t="t" r="r" b="b"/>
              <a:pathLst>
                <a:path w="331664" h="362660">
                  <a:moveTo>
                    <a:pt x="0" y="0"/>
                  </a:moveTo>
                  <a:lnTo>
                    <a:pt x="0" y="362660"/>
                  </a:lnTo>
                  <a:lnTo>
                    <a:pt x="331664" y="362660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フリーフォーム: 図形 30"/>
            <p:cNvSpPr/>
            <p:nvPr/>
          </p:nvSpPr>
          <p:spPr>
            <a:xfrm>
              <a:off x="4716360" y="1079640"/>
              <a:ext cx="358920" cy="252360"/>
            </a:xfrm>
            <a:custGeom>
              <a:avLst/>
              <a:gdLst/>
              <a:ahLst/>
              <a:rect l="l" t="t" r="r" b="b"/>
              <a:pathLst>
                <a:path w="331664" h="362660">
                  <a:moveTo>
                    <a:pt x="0" y="0"/>
                  </a:moveTo>
                  <a:lnTo>
                    <a:pt x="0" y="362660"/>
                  </a:lnTo>
                  <a:lnTo>
                    <a:pt x="331664" y="362660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グループ化 31"/>
          <p:cNvGrpSpPr/>
          <p:nvPr/>
        </p:nvGrpSpPr>
        <p:grpSpPr>
          <a:xfrm>
            <a:off x="1079640" y="5400720"/>
            <a:ext cx="360360" cy="358560"/>
            <a:chOff x="1079640" y="5400720"/>
            <a:chExt cx="360360" cy="358560"/>
          </a:xfrm>
        </p:grpSpPr>
        <p:sp>
          <p:nvSpPr>
            <p:cNvPr id="67" name="フリーフォーム: 図形 32"/>
            <p:cNvSpPr/>
            <p:nvPr/>
          </p:nvSpPr>
          <p:spPr>
            <a:xfrm>
              <a:off x="1079640" y="5508360"/>
              <a:ext cx="360360" cy="250920"/>
            </a:xfrm>
            <a:custGeom>
              <a:avLst/>
              <a:gdLst/>
              <a:ahLst/>
              <a:rect l="l" t="t" r="r" b="b"/>
              <a:pathLst>
                <a:path w="328565" h="306867">
                  <a:moveTo>
                    <a:pt x="0" y="0"/>
                  </a:moveTo>
                  <a:lnTo>
                    <a:pt x="328565" y="0"/>
                  </a:lnTo>
                  <a:lnTo>
                    <a:pt x="328565" y="306867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フリーフォーム: 図形 33"/>
            <p:cNvSpPr/>
            <p:nvPr/>
          </p:nvSpPr>
          <p:spPr>
            <a:xfrm>
              <a:off x="1079640" y="5400720"/>
              <a:ext cx="252360" cy="358560"/>
            </a:xfrm>
            <a:custGeom>
              <a:avLst/>
              <a:gdLst/>
              <a:ahLst/>
              <a:rect l="l" t="t" r="r" b="b"/>
              <a:pathLst>
                <a:path w="328565" h="306867">
                  <a:moveTo>
                    <a:pt x="0" y="0"/>
                  </a:moveTo>
                  <a:lnTo>
                    <a:pt x="328565" y="0"/>
                  </a:lnTo>
                  <a:lnTo>
                    <a:pt x="328565" y="306867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グループ化 34"/>
          <p:cNvGrpSpPr/>
          <p:nvPr/>
        </p:nvGrpSpPr>
        <p:grpSpPr>
          <a:xfrm>
            <a:off x="4716360" y="5400720"/>
            <a:ext cx="358920" cy="358560"/>
            <a:chOff x="4716360" y="5400720"/>
            <a:chExt cx="358920" cy="358560"/>
          </a:xfrm>
        </p:grpSpPr>
        <p:sp>
          <p:nvSpPr>
            <p:cNvPr id="70" name="フリーフォーム: 図形 35"/>
            <p:cNvSpPr/>
            <p:nvPr/>
          </p:nvSpPr>
          <p:spPr>
            <a:xfrm>
              <a:off x="4716360" y="5508360"/>
              <a:ext cx="358920" cy="250920"/>
            </a:xfrm>
            <a:custGeom>
              <a:avLst/>
              <a:gdLst/>
              <a:ahLst/>
              <a:rect l="l" t="t" r="r" b="b"/>
              <a:pathLst>
                <a:path w="337863" h="297568">
                  <a:moveTo>
                    <a:pt x="337863" y="0"/>
                  </a:moveTo>
                  <a:lnTo>
                    <a:pt x="0" y="0"/>
                  </a:lnTo>
                  <a:lnTo>
                    <a:pt x="0" y="297568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フリーフォーム: 図形 36"/>
            <p:cNvSpPr/>
            <p:nvPr/>
          </p:nvSpPr>
          <p:spPr>
            <a:xfrm>
              <a:off x="4824000" y="5400720"/>
              <a:ext cx="251280" cy="358560"/>
            </a:xfrm>
            <a:custGeom>
              <a:avLst/>
              <a:gdLst/>
              <a:ahLst/>
              <a:rect l="l" t="t" r="r" b="b"/>
              <a:pathLst>
                <a:path w="337863" h="297568">
                  <a:moveTo>
                    <a:pt x="337863" y="0"/>
                  </a:moveTo>
                  <a:lnTo>
                    <a:pt x="0" y="0"/>
                  </a:lnTo>
                  <a:lnTo>
                    <a:pt x="0" y="297568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グループ化 11"/>
          <p:cNvGrpSpPr/>
          <p:nvPr/>
        </p:nvGrpSpPr>
        <p:grpSpPr>
          <a:xfrm>
            <a:off x="1079640" y="3419640"/>
            <a:ext cx="3995280" cy="0"/>
            <a:chOff x="1079640" y="3419640"/>
            <a:chExt cx="3995280" cy="0"/>
          </a:xfrm>
        </p:grpSpPr>
        <p:sp>
          <p:nvSpPr>
            <p:cNvPr id="73" name="直線コネクタ 10"/>
            <p:cNvSpPr/>
            <p:nvPr/>
          </p:nvSpPr>
          <p:spPr>
            <a:xfrm>
              <a:off x="1079640" y="3419640"/>
              <a:ext cx="25164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直線コネクタ 37"/>
            <p:cNvSpPr/>
            <p:nvPr/>
          </p:nvSpPr>
          <p:spPr>
            <a:xfrm>
              <a:off x="4823280" y="3419640"/>
              <a:ext cx="25164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テキスト ボックス 12"/>
          <p:cNvSpPr/>
          <p:nvPr/>
        </p:nvSpPr>
        <p:spPr>
          <a:xfrm>
            <a:off x="931680" y="3277440"/>
            <a:ext cx="31752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スジ位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図 5" descr="">
            <a:hlinkClick r:id="rId2"/>
          </p:cNvPr>
          <p:cNvPicPr/>
          <p:nvPr/>
        </p:nvPicPr>
        <p:blipFill>
          <a:blip r:embed="rId3"/>
          <a:srcRect l="0" t="0" r="40409" b="0"/>
          <a:stretch/>
        </p:blipFill>
        <p:spPr>
          <a:xfrm>
            <a:off x="1897200" y="5869080"/>
            <a:ext cx="2368440" cy="900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6" descr="ぬりたし説明"/>
          <p:cNvPicPr/>
          <p:nvPr/>
        </p:nvPicPr>
        <p:blipFill>
          <a:blip r:embed="rId4"/>
          <a:stretch/>
        </p:blipFill>
        <p:spPr>
          <a:xfrm>
            <a:off x="5132520" y="1044720"/>
            <a:ext cx="973080" cy="26874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78"/>
          <p:cNvSpPr/>
          <p:nvPr/>
        </p:nvSpPr>
        <p:spPr>
          <a:xfrm>
            <a:off x="1547640" y="1547640"/>
            <a:ext cx="3060720" cy="1764000"/>
          </a:xfrm>
          <a:prstGeom prst="rect">
            <a:avLst/>
          </a:prstGeom>
          <a:noFill/>
          <a:ln w="64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68"/>
          <p:cNvGrpSpPr/>
          <p:nvPr/>
        </p:nvGrpSpPr>
        <p:grpSpPr>
          <a:xfrm>
            <a:off x="61920" y="1987560"/>
            <a:ext cx="1476360" cy="684360"/>
            <a:chOff x="61920" y="1987560"/>
            <a:chExt cx="1476360" cy="684360"/>
          </a:xfrm>
        </p:grpSpPr>
        <p:sp>
          <p:nvSpPr>
            <p:cNvPr id="80" name="Line 69"/>
            <p:cNvSpPr/>
            <p:nvPr/>
          </p:nvSpPr>
          <p:spPr>
            <a:xfrm>
              <a:off x="871560" y="2328480"/>
              <a:ext cx="666720" cy="0"/>
            </a:xfrm>
            <a:prstGeom prst="line">
              <a:avLst/>
            </a:prstGeom>
            <a:ln w="93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70"/>
            <p:cNvSpPr/>
            <p:nvPr/>
          </p:nvSpPr>
          <p:spPr>
            <a:xfrm>
              <a:off x="61920" y="1987560"/>
              <a:ext cx="936360" cy="6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1" lang="ja-JP" sz="1000" spc="-1" strike="noStrike">
                  <a:solidFill>
                    <a:srgbClr val="ff0000"/>
                  </a:solidFill>
                  <a:latin typeface="Century"/>
                  <a:ea typeface="ＭＳ 明朝"/>
                </a:rPr>
                <a:t>切れては困る物</a:t>
              </a:r>
              <a:r>
                <a:rPr b="0" lang="ja-JP" sz="10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はこの</a:t>
              </a:r>
              <a:r>
                <a:rPr b="1" lang="ja-JP" sz="1000" spc="-1" strike="noStrike">
                  <a:solidFill>
                    <a:srgbClr val="ff0000"/>
                  </a:solidFill>
                  <a:latin typeface="Century"/>
                  <a:ea typeface="ＭＳ 明朝"/>
                </a:rPr>
                <a:t>水色</a:t>
              </a:r>
              <a:r>
                <a:rPr b="0" lang="ja-JP" sz="10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の線の内側に配置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71"/>
          <p:cNvGrpSpPr/>
          <p:nvPr/>
        </p:nvGrpSpPr>
        <p:grpSpPr>
          <a:xfrm>
            <a:off x="61920" y="2800440"/>
            <a:ext cx="1260360" cy="539640"/>
            <a:chOff x="61920" y="2800440"/>
            <a:chExt cx="1260360" cy="539640"/>
          </a:xfrm>
        </p:grpSpPr>
        <p:sp>
          <p:nvSpPr>
            <p:cNvPr id="83" name="Line 72"/>
            <p:cNvSpPr/>
            <p:nvPr/>
          </p:nvSpPr>
          <p:spPr>
            <a:xfrm>
              <a:off x="871560" y="3070440"/>
              <a:ext cx="4507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73"/>
            <p:cNvSpPr/>
            <p:nvPr/>
          </p:nvSpPr>
          <p:spPr>
            <a:xfrm>
              <a:off x="61920" y="2800440"/>
              <a:ext cx="936360" cy="53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1" lang="ja-JP" sz="1000" spc="-1" strike="noStrike">
                  <a:solidFill>
                    <a:srgbClr val="ff0000"/>
                  </a:solidFill>
                  <a:latin typeface="Century"/>
                  <a:ea typeface="ＭＳ 明朝"/>
                </a:rPr>
                <a:t>フチ無印刷</a:t>
              </a:r>
              <a:r>
                <a:rPr b="0" lang="ja-JP" sz="10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は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この</a:t>
              </a:r>
              <a:r>
                <a:rPr b="1" lang="ja-JP" sz="1000" spc="-1" strike="noStrike">
                  <a:solidFill>
                    <a:srgbClr val="ff0000"/>
                  </a:solidFill>
                  <a:latin typeface="Century"/>
                  <a:ea typeface="ＭＳ 明朝"/>
                </a:rPr>
                <a:t>黒</a:t>
              </a:r>
              <a:r>
                <a:rPr b="0" lang="ja-JP" sz="10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い線まで伸ば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Rectangle 86"/>
          <p:cNvSpPr/>
          <p:nvPr/>
        </p:nvSpPr>
        <p:spPr>
          <a:xfrm>
            <a:off x="1440000" y="1440000"/>
            <a:ext cx="3276360" cy="3958920"/>
          </a:xfrm>
          <a:prstGeom prst="rect">
            <a:avLst/>
          </a:prstGeom>
          <a:noFill/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74"/>
          <p:cNvGrpSpPr/>
          <p:nvPr/>
        </p:nvGrpSpPr>
        <p:grpSpPr>
          <a:xfrm>
            <a:off x="61920" y="1314360"/>
            <a:ext cx="1368360" cy="544680"/>
            <a:chOff x="61920" y="1314360"/>
            <a:chExt cx="1368360" cy="544680"/>
          </a:xfrm>
        </p:grpSpPr>
        <p:sp>
          <p:nvSpPr>
            <p:cNvPr id="87" name="Line 75"/>
            <p:cNvSpPr/>
            <p:nvPr/>
          </p:nvSpPr>
          <p:spPr>
            <a:xfrm>
              <a:off x="871560" y="1587600"/>
              <a:ext cx="5587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76"/>
            <p:cNvSpPr/>
            <p:nvPr/>
          </p:nvSpPr>
          <p:spPr>
            <a:xfrm>
              <a:off x="61920" y="1314360"/>
              <a:ext cx="936360" cy="54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仕上がり位置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この</a:t>
              </a:r>
              <a:r>
                <a:rPr b="1" lang="ja-JP" sz="1000" spc="-1" strike="noStrike">
                  <a:solidFill>
                    <a:srgbClr val="ff0000"/>
                  </a:solidFill>
                  <a:latin typeface="Century"/>
                  <a:ea typeface="ＭＳ 明朝"/>
                </a:rPr>
                <a:t>青</a:t>
              </a:r>
              <a:r>
                <a:rPr b="0" lang="ja-JP" sz="10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い線でカットし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131"/>
          <p:cNvGrpSpPr/>
          <p:nvPr/>
        </p:nvGrpSpPr>
        <p:grpSpPr>
          <a:xfrm>
            <a:off x="54000" y="54000"/>
            <a:ext cx="5065560" cy="900000"/>
            <a:chOff x="54000" y="54000"/>
            <a:chExt cx="5065560" cy="900000"/>
          </a:xfrm>
        </p:grpSpPr>
        <p:sp>
          <p:nvSpPr>
            <p:cNvPr id="90" name="Rectangle 65"/>
            <p:cNvSpPr/>
            <p:nvPr/>
          </p:nvSpPr>
          <p:spPr>
            <a:xfrm>
              <a:off x="54000" y="54000"/>
              <a:ext cx="1332000" cy="90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二つ折り名刺（タテ折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1000" spc="-1" strike="noStrike">
                  <a:solidFill>
                    <a:srgbClr val="000000"/>
                  </a:solidFill>
                  <a:latin typeface="Arial"/>
                </a:rPr>
                <a:t>横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91×110m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67"/>
            <p:cNvSpPr/>
            <p:nvPr/>
          </p:nvSpPr>
          <p:spPr>
            <a:xfrm>
              <a:off x="1384200" y="54000"/>
              <a:ext cx="3735360" cy="90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marL="114480" indent="-114480">
                <a:buClr>
                  <a:srgbClr val="000000"/>
                </a:buClr>
                <a:buFont typeface="Arial"/>
                <a:buChar char="※"/>
                <a:tabLst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1" lang="ja-JP" sz="700" spc="-1" strike="noStrike">
                  <a:solidFill>
                    <a:srgbClr val="ff0000"/>
                  </a:solidFill>
                  <a:latin typeface="Arial"/>
                </a:rPr>
                <a:t>フチ無印刷</a:t>
              </a:r>
              <a:r>
                <a:rPr b="0" lang="ja-JP" sz="700" spc="-1" strike="noStrike">
                  <a:solidFill>
                    <a:srgbClr val="000000"/>
                  </a:solidFill>
                  <a:latin typeface="Arial"/>
                </a:rPr>
                <a:t>をご希望の場合、外側の黒い線まで背景や画像を伸ばして下さい。（右下図参照）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buClr>
                  <a:srgbClr val="000000"/>
                </a:buClr>
                <a:buFont typeface="Arial"/>
                <a:buChar char="※"/>
                <a:tabLst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ja-JP" sz="700" spc="-1" strike="noStrike">
                  <a:solidFill>
                    <a:srgbClr val="ff0000"/>
                  </a:solidFill>
                  <a:latin typeface="Arial"/>
                </a:rPr>
                <a:t>切れては困る絵柄や文字等</a:t>
              </a:r>
              <a:r>
                <a:rPr b="0" lang="ja-JP" sz="700" spc="-1" strike="noStrike">
                  <a:solidFill>
                    <a:srgbClr val="000000"/>
                  </a:solidFill>
                  <a:latin typeface="Arial"/>
                </a:rPr>
                <a:t>は</a:t>
              </a:r>
              <a:r>
                <a:rPr b="0" lang="ja-JP" sz="700" spc="-1" strike="noStrike">
                  <a:solidFill>
                    <a:srgbClr val="ff0000"/>
                  </a:solidFill>
                  <a:latin typeface="Arial"/>
                </a:rPr>
                <a:t>、仕上り（青い四角）より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ja-JP" sz="700" spc="-1" strike="noStrike">
                  <a:solidFill>
                    <a:srgbClr val="ff0000"/>
                  </a:solidFill>
                  <a:latin typeface="Arial"/>
                </a:rPr>
                <a:t>～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3mm</a:t>
              </a:r>
              <a:r>
                <a:rPr b="1" lang="ja-JP" sz="700" spc="-1" strike="noStrike">
                  <a:solidFill>
                    <a:srgbClr val="ff0000"/>
                  </a:solidFill>
                  <a:latin typeface="Arial"/>
                </a:rPr>
                <a:t>以上内側</a:t>
              </a:r>
              <a:r>
                <a:rPr b="0" lang="ja-JP" sz="700" spc="-1" strike="noStrike">
                  <a:solidFill>
                    <a:srgbClr val="ff0000"/>
                  </a:solidFill>
                  <a:latin typeface="Arial"/>
                </a:rPr>
                <a:t>（水色の四角の中）</a:t>
              </a:r>
              <a:r>
                <a:rPr b="0" lang="ja-JP" sz="700" spc="-1" strike="noStrike">
                  <a:solidFill>
                    <a:srgbClr val="000000"/>
                  </a:solidFill>
                  <a:latin typeface="Arial"/>
                </a:rPr>
                <a:t>に入れて作成してください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buClr>
                  <a:srgbClr val="000000"/>
                </a:buClr>
                <a:buFont typeface="Arial"/>
                <a:buChar char="※"/>
                <a:tabLst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1" lang="ja-JP" sz="700" spc="-1" strike="noStrike">
                  <a:solidFill>
                    <a:srgbClr val="ff0000"/>
                  </a:solidFill>
                  <a:latin typeface="Arial"/>
                </a:rPr>
                <a:t>透過性</a:t>
              </a:r>
              <a:r>
                <a:rPr b="0" lang="ja-JP" sz="700" spc="-1" strike="noStrike">
                  <a:solidFill>
                    <a:srgbClr val="000000"/>
                  </a:solidFill>
                  <a:latin typeface="Arial"/>
                </a:rPr>
                <a:t>や</a:t>
              </a:r>
              <a:r>
                <a:rPr b="1" lang="ja-JP" sz="700" spc="-1" strike="noStrike">
                  <a:solidFill>
                    <a:srgbClr val="ff0000"/>
                  </a:solidFill>
                  <a:latin typeface="Arial"/>
                </a:rPr>
                <a:t>半透明</a:t>
              </a:r>
              <a:r>
                <a:rPr b="0" lang="ja-JP" sz="7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ja-JP" sz="700" spc="-1" strike="noStrike">
                  <a:solidFill>
                    <a:srgbClr val="ff0000"/>
                  </a:solidFill>
                  <a:latin typeface="Arial"/>
                </a:rPr>
                <a:t>パターン</a:t>
              </a:r>
              <a:r>
                <a:rPr b="0" lang="ja-JP" sz="700" spc="-1" strike="noStrike">
                  <a:solidFill>
                    <a:srgbClr val="000000"/>
                  </a:solidFill>
                  <a:latin typeface="Arial"/>
                </a:rPr>
                <a:t>など</a:t>
              </a:r>
              <a:r>
                <a:rPr b="0" lang="ja-JP" sz="700" spc="-1" strike="noStrike">
                  <a:solidFill>
                    <a:srgbClr val="ff0000"/>
                  </a:solidFill>
                  <a:latin typeface="Arial"/>
                </a:rPr>
                <a:t>変換が正常に出来ない</a:t>
              </a:r>
              <a:r>
                <a:rPr b="0" lang="ja-JP" sz="700" spc="-1" strike="noStrike">
                  <a:solidFill>
                    <a:srgbClr val="000000"/>
                  </a:solidFill>
                  <a:latin typeface="Arial"/>
                </a:rPr>
                <a:t>場合があります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buClr>
                  <a:srgbClr val="000000"/>
                </a:buClr>
                <a:buFont typeface="Arial"/>
                <a:buChar char="※"/>
                <a:tabLst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ja-JP" sz="700" spc="-1" strike="noStrike">
                  <a:solidFill>
                    <a:srgbClr val="ff0000"/>
                  </a:solidFill>
                  <a:latin typeface="Arial"/>
                </a:rPr>
                <a:t>用紙サイズの変更</a:t>
              </a:r>
              <a:r>
                <a:rPr b="0" lang="ja-JP" sz="700" spc="-1" strike="noStrike">
                  <a:solidFill>
                    <a:srgbClr val="000000"/>
                  </a:solidFill>
                  <a:latin typeface="Arial"/>
                </a:rPr>
                <a:t>や、</a:t>
              </a:r>
              <a:r>
                <a:rPr b="0" lang="ja-JP" sz="700" spc="-1" strike="noStrike">
                  <a:solidFill>
                    <a:srgbClr val="ff0000"/>
                  </a:solidFill>
                  <a:latin typeface="Arial"/>
                </a:rPr>
                <a:t>トンボの移動</a:t>
              </a:r>
              <a:r>
                <a:rPr b="0" lang="ja-JP" sz="7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0" lang="ja-JP" sz="700" spc="-1" strike="noStrike">
                  <a:solidFill>
                    <a:srgbClr val="ff0000"/>
                  </a:solidFill>
                  <a:latin typeface="Arial"/>
                </a:rPr>
                <a:t>変形</a:t>
              </a:r>
              <a:r>
                <a:rPr b="0" lang="ja-JP" sz="700" spc="-1" strike="noStrike">
                  <a:solidFill>
                    <a:srgbClr val="000000"/>
                  </a:solidFill>
                  <a:latin typeface="Arial"/>
                </a:rPr>
                <a:t>など</a:t>
              </a:r>
              <a:r>
                <a:rPr b="0" lang="ja-JP" sz="700" spc="-1" strike="noStrike">
                  <a:solidFill>
                    <a:srgbClr val="ff0000"/>
                  </a:solidFill>
                  <a:latin typeface="Arial"/>
                </a:rPr>
                <a:t>なさらない</a:t>
              </a:r>
              <a:r>
                <a:rPr b="0" lang="ja-JP" sz="700" spc="-1" strike="noStrike">
                  <a:solidFill>
                    <a:srgbClr val="000000"/>
                  </a:solidFill>
                  <a:latin typeface="Arial"/>
                </a:rPr>
                <a:t>ようお願いします。　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buClr>
                  <a:srgbClr val="000000"/>
                </a:buClr>
                <a:buFont typeface="Arial"/>
                <a:buChar char="※"/>
                <a:tabLst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Arial"/>
                </a:rPr>
                <a:t>テンプレートを使用して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DF</a:t>
              </a:r>
              <a:r>
                <a:rPr b="0" lang="ja-JP" sz="700" spc="-1" strike="noStrike">
                  <a:solidFill>
                    <a:srgbClr val="000000"/>
                  </a:solidFill>
                  <a:latin typeface="Arial"/>
                </a:rPr>
                <a:t>を作成する際は、説明部分を削除してください。また、テンプレートと同じサイズかどうか確認してください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134" descr="新Suprintロゴ"/>
            <p:cNvPicPr/>
            <p:nvPr/>
          </p:nvPicPr>
          <p:blipFill>
            <a:blip r:embed="rId5"/>
            <a:stretch/>
          </p:blipFill>
          <p:spPr>
            <a:xfrm>
              <a:off x="71280" y="557280"/>
              <a:ext cx="543240" cy="34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Rectangle 78"/>
          <p:cNvSpPr/>
          <p:nvPr/>
        </p:nvSpPr>
        <p:spPr>
          <a:xfrm>
            <a:off x="1547640" y="3527280"/>
            <a:ext cx="3060720" cy="1764000"/>
          </a:xfrm>
          <a:prstGeom prst="rect">
            <a:avLst/>
          </a:prstGeom>
          <a:noFill/>
          <a:ln w="64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直線コネクタ 54"/>
          <p:cNvSpPr/>
          <p:nvPr/>
        </p:nvSpPr>
        <p:spPr>
          <a:xfrm>
            <a:off x="1332000" y="3421080"/>
            <a:ext cx="3492360" cy="0"/>
          </a:xfrm>
          <a:prstGeom prst="line">
            <a:avLst/>
          </a:prstGeom>
          <a:ln w="252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7800" y="272880"/>
            <a:ext cx="55400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307800" y="1600560"/>
            <a:ext cx="55400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746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206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30520" indent="-220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205000" indent="-2206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205000" indent="-2206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205000" indent="-2206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中里 二三夫</cp:lastModifiedBy>
  <dcterms:modified xsi:type="dcterms:W3CDTF">2021-01-06T04:25:56Z</dcterms:modified>
  <cp:revision>22</cp:revision>
  <dc:subject/>
  <dc:title>スライド 1</dc:title>
</cp:coreProperties>
</file>