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10655300" cy="128555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59680" y="12815640"/>
            <a:ext cx="796680" cy="15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32800" y="3008160"/>
            <a:ext cx="9590040" cy="35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32800" y="6902640"/>
            <a:ext cx="9590040" cy="35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859680" y="12815640"/>
            <a:ext cx="796680" cy="15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532800" y="3008160"/>
            <a:ext cx="4679640" cy="35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446800" y="3008160"/>
            <a:ext cx="4679640" cy="35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32800" y="6902640"/>
            <a:ext cx="4679640" cy="35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446800" y="6902640"/>
            <a:ext cx="4679640" cy="35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859680" y="12815640"/>
            <a:ext cx="796680" cy="15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32800" y="3008160"/>
            <a:ext cx="3087720" cy="35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775320" y="3008160"/>
            <a:ext cx="3087720" cy="35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7017840" y="3008160"/>
            <a:ext cx="3087720" cy="35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32800" y="6902640"/>
            <a:ext cx="3087720" cy="35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775320" y="6902640"/>
            <a:ext cx="3087720" cy="35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7017840" y="6902640"/>
            <a:ext cx="3087720" cy="35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859680" y="12815640"/>
            <a:ext cx="796680" cy="15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32800" y="3008160"/>
            <a:ext cx="9590040" cy="74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859680" y="12815640"/>
            <a:ext cx="796680" cy="15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2800" y="3008160"/>
            <a:ext cx="9590040" cy="74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859680" y="12815640"/>
            <a:ext cx="796680" cy="15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2800" y="3008160"/>
            <a:ext cx="4679640" cy="74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446800" y="3008160"/>
            <a:ext cx="4679640" cy="74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859680" y="12815640"/>
            <a:ext cx="796680" cy="15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9859680" y="10262880"/>
            <a:ext cx="796680" cy="55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01"/>
              </a:spcBef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859680" y="12815640"/>
            <a:ext cx="796680" cy="15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2800" y="3008160"/>
            <a:ext cx="4679640" cy="35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446800" y="3008160"/>
            <a:ext cx="4679640" cy="74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32800" y="6902640"/>
            <a:ext cx="4679640" cy="35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859680" y="12815640"/>
            <a:ext cx="796680" cy="15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532800" y="3008160"/>
            <a:ext cx="9590040" cy="74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859680" y="12815640"/>
            <a:ext cx="796680" cy="15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2800" y="3008160"/>
            <a:ext cx="4679640" cy="74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446800" y="3008160"/>
            <a:ext cx="4679640" cy="35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446800" y="6902640"/>
            <a:ext cx="4679640" cy="35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859680" y="12815640"/>
            <a:ext cx="796680" cy="15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2800" y="3008160"/>
            <a:ext cx="4679640" cy="35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446800" y="3008160"/>
            <a:ext cx="4679640" cy="35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32800" y="6902640"/>
            <a:ext cx="9590040" cy="35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859680" y="12815640"/>
            <a:ext cx="796680" cy="15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2800" y="3008160"/>
            <a:ext cx="9590040" cy="35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32800" y="6902640"/>
            <a:ext cx="9590040" cy="35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859680" y="12815640"/>
            <a:ext cx="796680" cy="15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2800" y="3008160"/>
            <a:ext cx="4679640" cy="35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446800" y="3008160"/>
            <a:ext cx="4679640" cy="35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32800" y="6902640"/>
            <a:ext cx="4679640" cy="35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446800" y="6902640"/>
            <a:ext cx="4679640" cy="35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859680" y="12815640"/>
            <a:ext cx="796680" cy="15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2800" y="3008160"/>
            <a:ext cx="3087720" cy="35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775320" y="3008160"/>
            <a:ext cx="3087720" cy="35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7017840" y="3008160"/>
            <a:ext cx="3087720" cy="35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32800" y="6902640"/>
            <a:ext cx="3087720" cy="35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775320" y="6902640"/>
            <a:ext cx="3087720" cy="35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7017840" y="6902640"/>
            <a:ext cx="3087720" cy="35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859680" y="12815640"/>
            <a:ext cx="796680" cy="15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2800" y="3008160"/>
            <a:ext cx="9590040" cy="74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859680" y="12815640"/>
            <a:ext cx="796680" cy="15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32800" y="3008160"/>
            <a:ext cx="4679640" cy="74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446800" y="3008160"/>
            <a:ext cx="4679640" cy="74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859680" y="12815640"/>
            <a:ext cx="796680" cy="15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9859680" y="10262880"/>
            <a:ext cx="796680" cy="55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01"/>
              </a:spcBef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59680" y="12815640"/>
            <a:ext cx="796680" cy="15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2800" y="3008160"/>
            <a:ext cx="4679640" cy="35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446800" y="3008160"/>
            <a:ext cx="4679640" cy="74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32800" y="6902640"/>
            <a:ext cx="4679640" cy="35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59680" y="12815640"/>
            <a:ext cx="796680" cy="15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2800" y="3008160"/>
            <a:ext cx="4679640" cy="74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46800" y="3008160"/>
            <a:ext cx="4679640" cy="35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46800" y="6902640"/>
            <a:ext cx="4679640" cy="35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859680" y="12815640"/>
            <a:ext cx="796680" cy="15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2800" y="3008160"/>
            <a:ext cx="4679640" cy="35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446800" y="3008160"/>
            <a:ext cx="4679640" cy="35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32800" y="6902640"/>
            <a:ext cx="9590040" cy="35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hyperlink" Target="http://www.suprint.jp/studio/service/" TargetMode="External"/><Relationship Id="rId3" Type="http://schemas.openxmlformats.org/officeDocument/2006/relationships/image" Target="../media/image1.jpeg"/><Relationship Id="rId4" Type="http://schemas.openxmlformats.org/officeDocument/2006/relationships/image" Target="../media/image2.wmf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16"/>
          <p:cNvGrpSpPr/>
          <p:nvPr/>
        </p:nvGrpSpPr>
        <p:grpSpPr>
          <a:xfrm>
            <a:off x="1079640" y="270000"/>
            <a:ext cx="8497800" cy="11504520"/>
            <a:chOff x="1079640" y="270000"/>
            <a:chExt cx="8497800" cy="11504520"/>
          </a:xfrm>
        </p:grpSpPr>
        <p:sp>
          <p:nvSpPr>
            <p:cNvPr id="1" name="Freeform 103"/>
            <p:cNvSpPr/>
            <p:nvPr/>
          </p:nvSpPr>
          <p:spPr>
            <a:xfrm>
              <a:off x="1477800" y="270000"/>
              <a:ext cx="7701120" cy="1077840"/>
            </a:xfrm>
            <a:custGeom>
              <a:avLst/>
              <a:gdLst/>
              <a:ahLst/>
              <a:rect l="l" t="t" r="r" b="b"/>
              <a:pathLst>
                <a:path w="4851" h="679">
                  <a:moveTo>
                    <a:pt x="4851" y="679"/>
                  </a:moveTo>
                  <a:lnTo>
                    <a:pt x="4667" y="0"/>
                  </a:lnTo>
                  <a:lnTo>
                    <a:pt x="188" y="0"/>
                  </a:lnTo>
                  <a:lnTo>
                    <a:pt x="0" y="679"/>
                  </a:lnTo>
                </a:path>
              </a:pathLst>
            </a:custGeom>
            <a:noFill/>
            <a:ln w="12600">
              <a:solidFill>
                <a:srgbClr val="ababa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113"/>
            <p:cNvGrpSpPr/>
            <p:nvPr/>
          </p:nvGrpSpPr>
          <p:grpSpPr>
            <a:xfrm>
              <a:off x="1079640" y="1079640"/>
              <a:ext cx="8497800" cy="10694880"/>
              <a:chOff x="1079640" y="1079640"/>
              <a:chExt cx="8497800" cy="10694880"/>
            </a:xfrm>
          </p:grpSpPr>
          <p:sp>
            <p:nvSpPr>
              <p:cNvPr id="3" name="Line 61"/>
              <p:cNvSpPr/>
              <p:nvPr/>
            </p:nvSpPr>
            <p:spPr>
              <a:xfrm>
                <a:off x="1079640" y="1330200"/>
                <a:ext cx="8497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2"/>
              <p:cNvSpPr/>
              <p:nvPr/>
            </p:nvSpPr>
            <p:spPr>
              <a:xfrm>
                <a:off x="1079640" y="1438200"/>
                <a:ext cx="8497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Line 63"/>
              <p:cNvSpPr/>
              <p:nvPr/>
            </p:nvSpPr>
            <p:spPr>
              <a:xfrm>
                <a:off x="1079640" y="6427800"/>
                <a:ext cx="8497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Line 64"/>
              <p:cNvSpPr/>
              <p:nvPr/>
            </p:nvSpPr>
            <p:spPr>
              <a:xfrm>
                <a:off x="1079640" y="11407680"/>
                <a:ext cx="8497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Line 65"/>
              <p:cNvSpPr/>
              <p:nvPr/>
            </p:nvSpPr>
            <p:spPr>
              <a:xfrm>
                <a:off x="1079640" y="11515680"/>
                <a:ext cx="8497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Line 66"/>
              <p:cNvSpPr/>
              <p:nvPr/>
            </p:nvSpPr>
            <p:spPr>
              <a:xfrm>
                <a:off x="1330200" y="1079640"/>
                <a:ext cx="0" cy="106948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Line 67"/>
              <p:cNvSpPr/>
              <p:nvPr/>
            </p:nvSpPr>
            <p:spPr>
              <a:xfrm>
                <a:off x="1438200" y="1079640"/>
                <a:ext cx="0" cy="106948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Line 68"/>
              <p:cNvSpPr/>
              <p:nvPr/>
            </p:nvSpPr>
            <p:spPr>
              <a:xfrm>
                <a:off x="5326200" y="1079640"/>
                <a:ext cx="0" cy="106948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Line 69"/>
              <p:cNvSpPr/>
              <p:nvPr/>
            </p:nvSpPr>
            <p:spPr>
              <a:xfrm>
                <a:off x="9212400" y="1079640"/>
                <a:ext cx="0" cy="106948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Line 70"/>
              <p:cNvSpPr/>
              <p:nvPr/>
            </p:nvSpPr>
            <p:spPr>
              <a:xfrm>
                <a:off x="9320040" y="1079640"/>
                <a:ext cx="0" cy="106948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Rectangle 71"/>
              <p:cNvSpPr/>
              <p:nvPr/>
            </p:nvSpPr>
            <p:spPr>
              <a:xfrm>
                <a:off x="1330200" y="1330200"/>
                <a:ext cx="7989840" cy="10185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859680" y="12854160"/>
            <a:ext cx="796680" cy="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0960" bIns="3096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Text Box 88"/>
          <p:cNvSpPr/>
          <p:nvPr/>
        </p:nvSpPr>
        <p:spPr>
          <a:xfrm>
            <a:off x="1079640" y="1079640"/>
            <a:ext cx="190440" cy="1904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116"/>
          <p:cNvGrpSpPr/>
          <p:nvPr/>
        </p:nvGrpSpPr>
        <p:grpSpPr>
          <a:xfrm>
            <a:off x="1079640" y="270000"/>
            <a:ext cx="8497800" cy="11504520"/>
            <a:chOff x="1079640" y="270000"/>
            <a:chExt cx="8497800" cy="11504520"/>
          </a:xfrm>
        </p:grpSpPr>
        <p:sp>
          <p:nvSpPr>
            <p:cNvPr id="53" name="Freeform 103"/>
            <p:cNvSpPr/>
            <p:nvPr/>
          </p:nvSpPr>
          <p:spPr>
            <a:xfrm>
              <a:off x="1477800" y="270000"/>
              <a:ext cx="7701120" cy="1077840"/>
            </a:xfrm>
            <a:custGeom>
              <a:avLst/>
              <a:gdLst/>
              <a:ahLst/>
              <a:rect l="l" t="t" r="r" b="b"/>
              <a:pathLst>
                <a:path w="4851" h="679">
                  <a:moveTo>
                    <a:pt x="4851" y="679"/>
                  </a:moveTo>
                  <a:lnTo>
                    <a:pt x="4667" y="0"/>
                  </a:lnTo>
                  <a:lnTo>
                    <a:pt x="188" y="0"/>
                  </a:lnTo>
                  <a:lnTo>
                    <a:pt x="0" y="679"/>
                  </a:lnTo>
                </a:path>
              </a:pathLst>
            </a:custGeom>
            <a:noFill/>
            <a:ln w="12600">
              <a:solidFill>
                <a:srgbClr val="ababa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113"/>
            <p:cNvGrpSpPr/>
            <p:nvPr/>
          </p:nvGrpSpPr>
          <p:grpSpPr>
            <a:xfrm>
              <a:off x="1079640" y="1079640"/>
              <a:ext cx="8497800" cy="10694880"/>
              <a:chOff x="1079640" y="1079640"/>
              <a:chExt cx="8497800" cy="10694880"/>
            </a:xfrm>
          </p:grpSpPr>
          <p:sp>
            <p:nvSpPr>
              <p:cNvPr id="55" name="Line 61"/>
              <p:cNvSpPr/>
              <p:nvPr/>
            </p:nvSpPr>
            <p:spPr>
              <a:xfrm>
                <a:off x="1079640" y="1330200"/>
                <a:ext cx="8497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Line 62"/>
              <p:cNvSpPr/>
              <p:nvPr/>
            </p:nvSpPr>
            <p:spPr>
              <a:xfrm>
                <a:off x="1079640" y="1438200"/>
                <a:ext cx="8497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Line 63"/>
              <p:cNvSpPr/>
              <p:nvPr/>
            </p:nvSpPr>
            <p:spPr>
              <a:xfrm>
                <a:off x="1079640" y="6427800"/>
                <a:ext cx="8497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Line 64"/>
              <p:cNvSpPr/>
              <p:nvPr/>
            </p:nvSpPr>
            <p:spPr>
              <a:xfrm>
                <a:off x="1079640" y="11407680"/>
                <a:ext cx="8497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Line 65"/>
              <p:cNvSpPr/>
              <p:nvPr/>
            </p:nvSpPr>
            <p:spPr>
              <a:xfrm>
                <a:off x="1079640" y="11515680"/>
                <a:ext cx="8497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Line 66"/>
              <p:cNvSpPr/>
              <p:nvPr/>
            </p:nvSpPr>
            <p:spPr>
              <a:xfrm>
                <a:off x="1330200" y="1079640"/>
                <a:ext cx="0" cy="106948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Line 67"/>
              <p:cNvSpPr/>
              <p:nvPr/>
            </p:nvSpPr>
            <p:spPr>
              <a:xfrm>
                <a:off x="1438200" y="1079640"/>
                <a:ext cx="0" cy="106948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Line 68"/>
              <p:cNvSpPr/>
              <p:nvPr/>
            </p:nvSpPr>
            <p:spPr>
              <a:xfrm>
                <a:off x="5326200" y="1079640"/>
                <a:ext cx="0" cy="106948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Line 69"/>
              <p:cNvSpPr/>
              <p:nvPr/>
            </p:nvSpPr>
            <p:spPr>
              <a:xfrm>
                <a:off x="9212400" y="1079640"/>
                <a:ext cx="0" cy="106948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Line 70"/>
              <p:cNvSpPr/>
              <p:nvPr/>
            </p:nvSpPr>
            <p:spPr>
              <a:xfrm>
                <a:off x="9320040" y="1079640"/>
                <a:ext cx="0" cy="106948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Rectangle 71"/>
              <p:cNvSpPr/>
              <p:nvPr/>
            </p:nvSpPr>
            <p:spPr>
              <a:xfrm>
                <a:off x="1330200" y="1330200"/>
                <a:ext cx="7989840" cy="10185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" name="Text Box 88"/>
          <p:cNvSpPr/>
          <p:nvPr/>
        </p:nvSpPr>
        <p:spPr>
          <a:xfrm>
            <a:off x="1079640" y="1079640"/>
            <a:ext cx="190440" cy="1904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グループ化 17"/>
          <p:cNvGrpSpPr/>
          <p:nvPr/>
        </p:nvGrpSpPr>
        <p:grpSpPr>
          <a:xfrm>
            <a:off x="54000" y="54000"/>
            <a:ext cx="9163080" cy="11358360"/>
            <a:chOff x="54000" y="54000"/>
            <a:chExt cx="9163080" cy="11358360"/>
          </a:xfrm>
        </p:grpSpPr>
        <p:pic>
          <p:nvPicPr>
            <p:cNvPr id="68" name="図 18" descr="">
              <a:hlinkClick r:id="rId2"/>
            </p:cNvPr>
            <p:cNvPicPr/>
            <p:nvPr/>
          </p:nvPicPr>
          <p:blipFill>
            <a:blip r:embed="rId3"/>
            <a:stretch/>
          </p:blipFill>
          <p:spPr>
            <a:xfrm>
              <a:off x="6336000" y="72000"/>
              <a:ext cx="2561400" cy="899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9" name="Group 136"/>
            <p:cNvGrpSpPr/>
            <p:nvPr/>
          </p:nvGrpSpPr>
          <p:grpSpPr>
            <a:xfrm>
              <a:off x="54000" y="54000"/>
              <a:ext cx="9163080" cy="11358360"/>
              <a:chOff x="54000" y="54000"/>
              <a:chExt cx="9163080" cy="11358360"/>
            </a:xfrm>
          </p:grpSpPr>
          <p:grpSp>
            <p:nvGrpSpPr>
              <p:cNvPr id="70" name="Group 128"/>
              <p:cNvGrpSpPr/>
              <p:nvPr/>
            </p:nvGrpSpPr>
            <p:grpSpPr>
              <a:xfrm>
                <a:off x="61920" y="1314360"/>
                <a:ext cx="9155160" cy="10098000"/>
                <a:chOff x="61920" y="1314360"/>
                <a:chExt cx="9155160" cy="10098000"/>
              </a:xfrm>
            </p:grpSpPr>
            <p:sp>
              <p:nvSpPr>
                <p:cNvPr id="71" name="Rectangle 80"/>
                <p:cNvSpPr/>
                <p:nvPr/>
              </p:nvSpPr>
              <p:spPr>
                <a:xfrm>
                  <a:off x="1440000" y="1441440"/>
                  <a:ext cx="7777080" cy="9970920"/>
                </a:xfrm>
                <a:prstGeom prst="rect">
                  <a:avLst/>
                </a:prstGeom>
                <a:noFill/>
                <a:ln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4160" rIns="74160" tIns="9000" bIns="9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2" name="Group 74"/>
                <p:cNvGrpSpPr/>
                <p:nvPr/>
              </p:nvGrpSpPr>
              <p:grpSpPr>
                <a:xfrm>
                  <a:off x="61920" y="1314360"/>
                  <a:ext cx="1368360" cy="544680"/>
                  <a:chOff x="61920" y="1314360"/>
                  <a:chExt cx="1368360" cy="544680"/>
                </a:xfrm>
              </p:grpSpPr>
              <p:sp>
                <p:nvSpPr>
                  <p:cNvPr id="73" name="Line 75"/>
                  <p:cNvSpPr/>
                  <p:nvPr/>
                </p:nvSpPr>
                <p:spPr>
                  <a:xfrm>
                    <a:off x="871560" y="1587600"/>
                    <a:ext cx="558720" cy="0"/>
                  </a:xfrm>
                  <a:prstGeom prst="line">
                    <a:avLst/>
                  </a:prstGeom>
                  <a:ln w="9360">
                    <a:solidFill>
                      <a:srgbClr val="0000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Text Box 76"/>
                  <p:cNvSpPr/>
                  <p:nvPr/>
                </p:nvSpPr>
                <p:spPr>
                  <a:xfrm>
                    <a:off x="61920" y="1314360"/>
                    <a:ext cx="936360" cy="544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この</a:t>
                    </a:r>
                    <a:r>
                      <a:rPr b="1" lang="ja-JP" sz="1000" spc="-1" strike="noStrike">
                        <a:solidFill>
                          <a:srgbClr val="ff0000"/>
                        </a:solidFill>
                        <a:latin typeface="Century"/>
                        <a:ea typeface="ＭＳ 明朝"/>
                      </a:rPr>
                      <a:t>青</a:t>
                    </a: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い線が仕上がり位置となります。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5" name="Group 134"/>
              <p:cNvGrpSpPr/>
              <p:nvPr/>
            </p:nvGrpSpPr>
            <p:grpSpPr>
              <a:xfrm>
                <a:off x="61920" y="2898720"/>
                <a:ext cx="8790120" cy="7416720"/>
                <a:chOff x="61920" y="2898720"/>
                <a:chExt cx="8790120" cy="7416720"/>
              </a:xfrm>
            </p:grpSpPr>
            <p:grpSp>
              <p:nvGrpSpPr>
                <p:cNvPr id="76" name="Group 89"/>
                <p:cNvGrpSpPr/>
                <p:nvPr/>
              </p:nvGrpSpPr>
              <p:grpSpPr>
                <a:xfrm>
                  <a:off x="61920" y="2898720"/>
                  <a:ext cx="1736640" cy="684360"/>
                  <a:chOff x="61920" y="2898720"/>
                  <a:chExt cx="1736640" cy="684360"/>
                </a:xfrm>
              </p:grpSpPr>
              <p:sp>
                <p:nvSpPr>
                  <p:cNvPr id="77" name="Line 69"/>
                  <p:cNvSpPr/>
                  <p:nvPr/>
                </p:nvSpPr>
                <p:spPr>
                  <a:xfrm>
                    <a:off x="719280" y="3240000"/>
                    <a:ext cx="1079280" cy="0"/>
                  </a:xfrm>
                  <a:prstGeom prst="line">
                    <a:avLst/>
                  </a:prstGeom>
                  <a:ln w="9360">
                    <a:solidFill>
                      <a:srgbClr val="00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" name="Text Box 70"/>
                  <p:cNvSpPr/>
                  <p:nvPr/>
                </p:nvSpPr>
                <p:spPr>
                  <a:xfrm>
                    <a:off x="61920" y="2898720"/>
                    <a:ext cx="936720" cy="6843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この</a:t>
                    </a:r>
                    <a:r>
                      <a:rPr b="1" lang="ja-JP" sz="1000" spc="-1" strike="noStrike">
                        <a:solidFill>
                          <a:srgbClr val="ff0000"/>
                        </a:solidFill>
                        <a:latin typeface="Century"/>
                        <a:ea typeface="ＭＳ 明朝"/>
                      </a:rPr>
                      <a:t>水色</a:t>
                    </a: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の線の内側に配置してください。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9" name="Rectangle 125"/>
                <p:cNvSpPr/>
                <p:nvPr/>
              </p:nvSpPr>
              <p:spPr>
                <a:xfrm>
                  <a:off x="1798560" y="2987640"/>
                  <a:ext cx="7053480" cy="7327800"/>
                </a:xfrm>
                <a:prstGeom prst="rect">
                  <a:avLst/>
                </a:prstGeom>
                <a:noFill/>
                <a:ln w="93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80" name="Picture 135" descr=""/>
              <p:cNvPicPr/>
              <p:nvPr/>
            </p:nvPicPr>
            <p:blipFill>
              <a:blip r:embed="rId4"/>
              <a:stretch/>
            </p:blipFill>
            <p:spPr>
              <a:xfrm>
                <a:off x="1438200" y="1438200"/>
                <a:ext cx="7774200" cy="98568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81" name="Group 132"/>
              <p:cNvGrpSpPr/>
              <p:nvPr/>
            </p:nvGrpSpPr>
            <p:grpSpPr>
              <a:xfrm>
                <a:off x="54000" y="54000"/>
                <a:ext cx="6008760" cy="900000"/>
                <a:chOff x="54000" y="54000"/>
                <a:chExt cx="6008760" cy="900000"/>
              </a:xfrm>
            </p:grpSpPr>
            <p:sp>
              <p:nvSpPr>
                <p:cNvPr id="82" name="Rectangle 65"/>
                <p:cNvSpPr/>
                <p:nvPr/>
              </p:nvSpPr>
              <p:spPr>
                <a:xfrm>
                  <a:off x="54000" y="54000"/>
                  <a:ext cx="1332000" cy="9000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36000" rIns="36000" tIns="36000" bIns="36000" anchor="t">
                  <a:noAutofit/>
                </a:bodyPr>
                <a:p>
                  <a:pPr>
                    <a:tabLst>
                      <a:tab algn="l" pos="0"/>
                      <a:tab algn="l" pos="1803240"/>
                      <a:tab algn="l" pos="3606840"/>
                      <a:tab algn="l" pos="5410080"/>
                      <a:tab algn="l" pos="7213680"/>
                      <a:tab algn="l" pos="9016920"/>
                      <a:tab algn="l" pos="10820520"/>
                    </a:tabLst>
                  </a:pPr>
                  <a:r>
                    <a:rPr b="1" lang="ja-JP" sz="1600" spc="-1" strike="noStrike">
                      <a:solidFill>
                        <a:srgbClr val="000000"/>
                      </a:solidFill>
                      <a:latin typeface="Arial"/>
                    </a:rPr>
                    <a:t>角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r>
                    <a:rPr b="1" lang="ja-JP" sz="1600" spc="-1" strike="noStrike">
                      <a:solidFill>
                        <a:srgbClr val="000000"/>
                      </a:solidFill>
                      <a:latin typeface="Arial"/>
                    </a:rPr>
                    <a:t>封筒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1803240"/>
                      <a:tab algn="l" pos="3606840"/>
                      <a:tab algn="l" pos="5410080"/>
                      <a:tab algn="l" pos="7213680"/>
                      <a:tab algn="l" pos="9016920"/>
                      <a:tab algn="l" pos="1082052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216×277mm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1803240"/>
                      <a:tab algn="l" pos="3606840"/>
                      <a:tab algn="l" pos="5410080"/>
                      <a:tab algn="l" pos="7213680"/>
                      <a:tab algn="l" pos="9016920"/>
                      <a:tab algn="l" pos="1082052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83" name="Picture 98" descr="新Suprintロゴ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71280" y="557280"/>
                  <a:ext cx="543240" cy="3427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4" name="Text Box 67"/>
                <p:cNvSpPr/>
                <p:nvPr/>
              </p:nvSpPr>
              <p:spPr>
                <a:xfrm>
                  <a:off x="1384200" y="54000"/>
                  <a:ext cx="4678560" cy="9000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000" rIns="36000" tIns="36000" bIns="36000" anchor="ctr">
                  <a:noAutofit/>
                </a:bodyPr>
                <a:p>
                  <a:pPr marL="114480" indent="-114480" algn="just">
                    <a:lnSpc>
                      <a:spcPct val="100000"/>
                    </a:lnSpc>
                    <a:buClr>
                      <a:srgbClr val="000000"/>
                    </a:buClr>
                    <a:buFont typeface="ＭＳ 明朝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1" lang="en-US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PowerPoint 2007</a:t>
                  </a:r>
                  <a:r>
                    <a:rPr b="1" lang="ja-JP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以降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をご使用の方は</a:t>
                  </a:r>
                  <a:r>
                    <a:rPr b="1" lang="en-US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【</a:t>
                  </a:r>
                  <a:r>
                    <a:rPr b="1" lang="en-US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PowerPoint</a:t>
                  </a:r>
                  <a:r>
                    <a:rPr b="1" lang="ja-JP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プレゼンテーション（</a:t>
                  </a:r>
                  <a:r>
                    <a:rPr b="1" lang="en-US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.pptx</a:t>
                  </a:r>
                  <a:r>
                    <a:rPr b="1" lang="ja-JP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）</a:t>
                  </a:r>
                  <a:r>
                    <a:rPr b="1" lang="en-US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】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で保存しなおしてください。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14480" indent="-114480" algn="just">
                    <a:lnSpc>
                      <a:spcPct val="100000"/>
                    </a:lnSpc>
                    <a:buClr>
                      <a:srgbClr val="000000"/>
                    </a:buClr>
                    <a:buFont typeface="ＭＳ 明朝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ja-JP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封をした場合にフタにより隠れる部分を除いた、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ＭＳ Ｐ明朝"/>
                      <a:ea typeface="ＭＳ Ｐ明朝"/>
                    </a:rPr>
                    <a:t>水色の枠内にレイアウト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してください。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14480" indent="-114480" algn="just">
                    <a:lnSpc>
                      <a:spcPct val="100000"/>
                    </a:lnSpc>
                    <a:buClr>
                      <a:srgbClr val="000000"/>
                    </a:buClr>
                    <a:buFont typeface="ＭＳ 明朝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ja-JP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製袋された封筒に印刷のため、貼り合わせ部分（下図の灰色の点線）にかかるベタなどはかすれる可能性があります。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14480" indent="-114480" algn="just">
                    <a:lnSpc>
                      <a:spcPct val="100000"/>
                    </a:lnSpc>
                    <a:buClr>
                      <a:srgbClr val="000000"/>
                    </a:buClr>
                    <a:buFont typeface="ＭＳ 明朝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ja-JP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データは黒</a:t>
                  </a:r>
                  <a:r>
                    <a:rPr b="0" lang="en-US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1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色の濃淡で作成してください。色の掛け合わせはできません。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14480" indent="-114480" algn="just">
                    <a:lnSpc>
                      <a:spcPct val="100000"/>
                    </a:lnSpc>
                    <a:buClr>
                      <a:srgbClr val="000000"/>
                    </a:buClr>
                    <a:buFont typeface="ＭＳ 明朝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1" lang="ja-JP" sz="700" spc="-1" strike="noStrike">
                      <a:solidFill>
                        <a:srgbClr val="ff0000"/>
                      </a:solidFill>
                      <a:latin typeface="ＭＳ Ｐ明朝"/>
                      <a:ea typeface="ＭＳ Ｐ明朝"/>
                    </a:rPr>
                    <a:t>透過性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や</a:t>
                  </a:r>
                  <a:r>
                    <a:rPr b="1" lang="ja-JP" sz="700" spc="-1" strike="noStrike">
                      <a:solidFill>
                        <a:srgbClr val="ff0000"/>
                      </a:solidFill>
                      <a:latin typeface="ＭＳ Ｐ明朝"/>
                      <a:ea typeface="ＭＳ Ｐ明朝"/>
                    </a:rPr>
                    <a:t>半透明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、</a:t>
                  </a:r>
                  <a:r>
                    <a:rPr b="1" lang="ja-JP" sz="700" spc="-1" strike="noStrike">
                      <a:solidFill>
                        <a:srgbClr val="ff0000"/>
                      </a:solidFill>
                      <a:latin typeface="ＭＳ Ｐ明朝"/>
                      <a:ea typeface="ＭＳ Ｐ明朝"/>
                    </a:rPr>
                    <a:t>パターン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など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ＭＳ Ｐ明朝"/>
                      <a:ea typeface="ＭＳ Ｐ明朝"/>
                    </a:rPr>
                    <a:t>変換が正常に出来ない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場合があります。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14480" indent="-114480" algn="just">
                    <a:lnSpc>
                      <a:spcPct val="100000"/>
                    </a:lnSpc>
                    <a:buClr>
                      <a:srgbClr val="000000"/>
                    </a:buClr>
                    <a:buFont typeface="ＭＳ 明朝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ja-JP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用紙サイズの変更や、トンボの移動、変形などなさらないようお願いします。　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14480" indent="-114480" algn="just">
                    <a:lnSpc>
                      <a:spcPct val="100000"/>
                    </a:lnSpc>
                    <a:buClr>
                      <a:srgbClr val="000000"/>
                    </a:buClr>
                    <a:buFont typeface="ＭＳ 明朝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en-US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PDF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を作成する際は、説明部分を削除してください。（同封の</a:t>
                  </a:r>
                  <a:r>
                    <a:rPr b="0" lang="en-US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【</a:t>
                  </a:r>
                  <a:r>
                    <a:rPr b="0" lang="en-US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PDF</a:t>
                  </a:r>
                  <a:r>
                    <a:rPr b="0" lang="en-US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作成前の準備</a:t>
                  </a:r>
                  <a:r>
                    <a:rPr b="0" lang="en-US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PowerPoint</a:t>
                  </a:r>
                  <a:r>
                    <a:rPr b="0" lang="en-US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用</a:t>
                  </a:r>
                  <a:r>
                    <a:rPr b="0" lang="en-US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.pdf</a:t>
                  </a:r>
                  <a:r>
                    <a:rPr b="0" lang="en-US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】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をご覧ください。）また、テンプレート同じサイズで</a:t>
                  </a:r>
                  <a:r>
                    <a:rPr b="0" lang="en-US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PDF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が作成されているかご確認ください。　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859680" y="12854160"/>
            <a:ext cx="796680" cy="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0960" bIns="3096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532800" y="3008160"/>
            <a:ext cx="9590040" cy="74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  <a:p>
            <a:pPr lvl="1" marL="1222200" indent="-471240">
              <a:spcBef>
                <a:spcPts val="1151"/>
              </a:spcBef>
              <a:buClr>
                <a:srgbClr val="000000"/>
              </a:buClr>
              <a:buFont typeface="Arial"/>
              <a:buChar char="–"/>
              <a:tabLst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lvl="2" marL="1881360" indent="-37656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3" marL="2637000" indent="-37800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4" marL="3389400" indent="-37620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5" marL="3389400" indent="-37620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6" marL="3389400" indent="-37620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>suprint</dc:creator>
  <dc:description/>
  <dc:language>en-US</dc:language>
  <cp:lastModifiedBy>ugo-99</cp:lastModifiedBy>
  <dcterms:modified xsi:type="dcterms:W3CDTF">2015-08-26T08:45:02Z</dcterms:modified>
  <cp:revision>18</cp:revision>
  <dc:subject/>
  <dc:title>スライド 1</dc:title>
</cp:coreProperties>
</file>