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1523663" cy="1483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servic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1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3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86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52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54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Text Box 86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11328480" cy="13338000"/>
            <a:chOff x="54000" y="54000"/>
            <a:chExt cx="11328480" cy="13338000"/>
          </a:xfrm>
        </p:grpSpPr>
        <p:pic>
          <p:nvPicPr>
            <p:cNvPr id="67" name="図 8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8820360" y="71280"/>
              <a:ext cx="2562120" cy="90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Group 113"/>
            <p:cNvGrpSpPr/>
            <p:nvPr/>
          </p:nvGrpSpPr>
          <p:grpSpPr>
            <a:xfrm>
              <a:off x="54000" y="54000"/>
              <a:ext cx="10026720" cy="13338000"/>
              <a:chOff x="54000" y="54000"/>
              <a:chExt cx="10026720" cy="13338000"/>
            </a:xfrm>
          </p:grpSpPr>
          <p:grpSp>
            <p:nvGrpSpPr>
              <p:cNvPr id="69" name="Group 97"/>
              <p:cNvGrpSpPr/>
              <p:nvPr/>
            </p:nvGrpSpPr>
            <p:grpSpPr>
              <a:xfrm>
                <a:off x="61920" y="1798560"/>
                <a:ext cx="9653760" cy="11228400"/>
                <a:chOff x="61920" y="1798560"/>
                <a:chExt cx="9653760" cy="11228400"/>
              </a:xfrm>
            </p:grpSpPr>
            <p:sp>
              <p:nvSpPr>
                <p:cNvPr id="70" name="Rectangle 72"/>
                <p:cNvSpPr/>
                <p:nvPr/>
              </p:nvSpPr>
              <p:spPr>
                <a:xfrm>
                  <a:off x="1798560" y="1798560"/>
                  <a:ext cx="7917120" cy="11228400"/>
                </a:xfrm>
                <a:prstGeom prst="rect">
                  <a:avLst/>
                </a:prstGeom>
                <a:noFill/>
                <a:ln w="3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1504800"/>
                      <a:tab algn="l" pos="3009960"/>
                      <a:tab algn="l" pos="4514760"/>
                      <a:tab algn="l" pos="6019920"/>
                      <a:tab algn="l" pos="7524720"/>
                      <a:tab algn="l" pos="9029880"/>
                      <a:tab algn="l" pos="10534680"/>
                    </a:tabLst>
                  </a:pPr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" name="Group 87"/>
                <p:cNvGrpSpPr/>
                <p:nvPr/>
              </p:nvGrpSpPr>
              <p:grpSpPr>
                <a:xfrm>
                  <a:off x="61920" y="1987560"/>
                  <a:ext cx="1736640" cy="684360"/>
                  <a:chOff x="61920" y="1987560"/>
                  <a:chExt cx="1736640" cy="684360"/>
                </a:xfrm>
              </p:grpSpPr>
              <p:sp>
                <p:nvSpPr>
                  <p:cNvPr id="72" name="Line 69"/>
                  <p:cNvSpPr/>
                  <p:nvPr/>
                </p:nvSpPr>
                <p:spPr>
                  <a:xfrm>
                    <a:off x="719280" y="2328840"/>
                    <a:ext cx="107928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Text Box 70"/>
                  <p:cNvSpPr/>
                  <p:nvPr/>
                </p:nvSpPr>
                <p:spPr>
                  <a:xfrm>
                    <a:off x="61920" y="1987560"/>
                    <a:ext cx="93672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してください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74" name="Picture 104" descr=""/>
              <p:cNvPicPr/>
              <p:nvPr/>
            </p:nvPicPr>
            <p:blipFill>
              <a:blip r:embed="rId4"/>
              <a:stretch/>
            </p:blipFill>
            <p:spPr>
              <a:xfrm>
                <a:off x="1438200" y="1438200"/>
                <a:ext cx="8637840" cy="11747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5" name="Group 98"/>
              <p:cNvGrpSpPr/>
              <p:nvPr/>
            </p:nvGrpSpPr>
            <p:grpSpPr>
              <a:xfrm>
                <a:off x="61920" y="1314360"/>
                <a:ext cx="10018800" cy="12077640"/>
                <a:chOff x="61920" y="1314360"/>
                <a:chExt cx="10018800" cy="12077640"/>
              </a:xfrm>
            </p:grpSpPr>
            <p:sp>
              <p:nvSpPr>
                <p:cNvPr id="76" name="Rectangle 52"/>
                <p:cNvSpPr/>
                <p:nvPr/>
              </p:nvSpPr>
              <p:spPr>
                <a:xfrm>
                  <a:off x="1440000" y="1441440"/>
                  <a:ext cx="8640720" cy="11950560"/>
                </a:xfrm>
                <a:prstGeom prst="rect">
                  <a:avLst/>
                </a:prstGeom>
                <a:noFill/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8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が仕上がり位置となり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0" name="Group 106"/>
              <p:cNvGrpSpPr/>
              <p:nvPr/>
            </p:nvGrpSpPr>
            <p:grpSpPr>
              <a:xfrm>
                <a:off x="54000" y="54000"/>
                <a:ext cx="8636040" cy="900000"/>
                <a:chOff x="54000" y="54000"/>
                <a:chExt cx="8636040" cy="900000"/>
              </a:xfrm>
            </p:grpSpPr>
            <p:sp>
              <p:nvSpPr>
                <p:cNvPr id="81" name="Text Box 67"/>
                <p:cNvSpPr/>
                <p:nvPr/>
              </p:nvSpPr>
              <p:spPr>
                <a:xfrm>
                  <a:off x="4011480" y="54000"/>
                  <a:ext cx="467856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ctr">
                  <a:noAutofit/>
                </a:bodyPr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 2007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以降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使用の方は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プレゼンテーション（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ptx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）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で保存しなお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封筒の周囲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10mm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とベロ（フタ）部分には印刷することができません。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水色の枠内にレイアウト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製袋された封筒に印刷のため、貼り合わせ部分（下図の灰色の点線）にかかるベタなどはかすれる可能性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データは黒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1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色の濃淡で作成してください。色の掛け合わせはできません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紙サイズの変更や、トンボの移動、変形などなさらない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作成する際は、説明部分を削除してください。（同封の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作成前の準備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覧ください。）また、テンプレート同じサイズで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が作成されているかご確認ください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" name="Group 108"/>
                <p:cNvGrpSpPr/>
                <p:nvPr/>
              </p:nvGrpSpPr>
              <p:grpSpPr>
                <a:xfrm>
                  <a:off x="54000" y="54000"/>
                  <a:ext cx="3958920" cy="900000"/>
                  <a:chOff x="54000" y="54000"/>
                  <a:chExt cx="3958920" cy="900000"/>
                </a:xfrm>
              </p:grpSpPr>
              <p:grpSp>
                <p:nvGrpSpPr>
                  <p:cNvPr id="83" name="Group 109"/>
                  <p:cNvGrpSpPr/>
                  <p:nvPr/>
                </p:nvGrpSpPr>
                <p:grpSpPr>
                  <a:xfrm>
                    <a:off x="54000" y="54000"/>
                    <a:ext cx="1331640" cy="900000"/>
                    <a:chOff x="54000" y="54000"/>
                    <a:chExt cx="1331640" cy="900000"/>
                  </a:xfrm>
                </p:grpSpPr>
                <p:sp>
                  <p:nvSpPr>
                    <p:cNvPr id="84" name="Rectangle 65"/>
                    <p:cNvSpPr/>
                    <p:nvPr/>
                  </p:nvSpPr>
                  <p:spPr>
                    <a:xfrm>
                      <a:off x="54000" y="54000"/>
                      <a:ext cx="1331640" cy="900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0" rIns="36000" tIns="36000" bIns="36000" anchor="t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1803240"/>
                          <a:tab algn="l" pos="3606840"/>
                          <a:tab algn="l" pos="5410080"/>
                          <a:tab algn="l" pos="7213680"/>
                          <a:tab algn="l" pos="9016920"/>
                          <a:tab algn="l" pos="108205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角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封筒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1803240"/>
                          <a:tab algn="l" pos="3606840"/>
                          <a:tab algn="l" pos="5410080"/>
                          <a:tab algn="l" pos="7213680"/>
                          <a:tab algn="l" pos="9016920"/>
                          <a:tab algn="l" pos="108205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サイド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1803240"/>
                          <a:tab algn="l" pos="3606840"/>
                          <a:tab algn="l" pos="5410080"/>
                          <a:tab algn="l" pos="7213680"/>
                          <a:tab algn="l" pos="9016920"/>
                          <a:tab algn="l" pos="108205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×332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85" name="Picture 111" descr="新Suprintロゴ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1280" y="556920"/>
                      <a:ext cx="5425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86" name="Text Box 67"/>
                  <p:cNvSpPr/>
                  <p:nvPr/>
                </p:nvSpPr>
                <p:spPr>
                  <a:xfrm>
                    <a:off x="1385640" y="54000"/>
                    <a:ext cx="2627280" cy="90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ctr">
                    <a:noAutofit/>
                  </a:bodyPr>
                  <a:p>
                    <a:pPr marL="114480" indent="-11448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明朝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このテンプレートは以下の封筒専用となります。下記以外の封筒は、名前に「センター」と着いた物をご使用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14480" indent="-114480"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　■ク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ラフト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封筒／■ケント封筒／■ケント（はく離紙のり付き）／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14480" indent="-114480"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　■グレー封筒／■アクア封筒／■ブルー封筒／■グリーン封筒／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14480" indent="-114480"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　■クリーム封筒／■ピンク封筒／■ホワイト封筒／■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S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グレー封筒／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14480" indent="-114480"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　■ケント（透けない封筒）／■ホワイト（透けない封筒）／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14480" indent="-114480"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　■ブルー（透けない封筒）／■グレー（透けない封筒）／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14480" indent="-114480"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　■グリーン（透けない封筒）／■アクア（透けない封筒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47124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2" marL="1881360" indent="-376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2637000" indent="-37800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3389400" indent="-3762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3389400" indent="-3762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3389400" indent="-3762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6T10:01:59Z</dcterms:modified>
  <cp:revision>16</cp:revision>
  <dc:subject/>
  <dc:title>スライド 1</dc:title>
</cp:coreProperties>
</file>