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11523663" cy="1483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1037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76000" y="7963560"/>
            <a:ext cx="1037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89032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76000" y="796356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890320" y="796356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082400" y="347040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7588800" y="347040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576000" y="796356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4082400" y="796356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7588800" y="796356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576000" y="3470400"/>
            <a:ext cx="1037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1037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506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890320" y="3470400"/>
            <a:ext cx="506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576000" y="591480"/>
            <a:ext cx="10370880" cy="114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01"/>
              </a:spcBef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890320" y="3470400"/>
            <a:ext cx="506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76000" y="796356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576000" y="3470400"/>
            <a:ext cx="1037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506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89032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890320" y="796356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89032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76000" y="7963560"/>
            <a:ext cx="1037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1037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76000" y="7963560"/>
            <a:ext cx="1037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89032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76000" y="796356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5890320" y="796356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082400" y="347040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7588800" y="347040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576000" y="796356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4082400" y="796356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7588800" y="796356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1037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506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890320" y="3470400"/>
            <a:ext cx="506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576000" y="591480"/>
            <a:ext cx="10370880" cy="114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01"/>
              </a:spcBef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890320" y="3470400"/>
            <a:ext cx="506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76000" y="796356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506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89032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890320" y="796356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89032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76000" y="7963560"/>
            <a:ext cx="1037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www.suprint.jp/studio/service/" TargetMode="External"/><Relationship Id="rId3" Type="http://schemas.openxmlformats.org/officeDocument/2006/relationships/image" Target="../media/image1.jpeg"/><Relationship Id="rId4" Type="http://schemas.openxmlformats.org/officeDocument/2006/relationships/image" Target="../media/image2.wmf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85"/>
          <p:cNvGrpSpPr/>
          <p:nvPr/>
        </p:nvGrpSpPr>
        <p:grpSpPr>
          <a:xfrm>
            <a:off x="1079640" y="69840"/>
            <a:ext cx="9362880" cy="13684320"/>
            <a:chOff x="1079640" y="69840"/>
            <a:chExt cx="9362880" cy="13684320"/>
          </a:xfrm>
        </p:grpSpPr>
        <p:sp>
          <p:nvSpPr>
            <p:cNvPr id="1" name="Freeform 84"/>
            <p:cNvSpPr/>
            <p:nvPr/>
          </p:nvSpPr>
          <p:spPr>
            <a:xfrm>
              <a:off x="1438200" y="69840"/>
              <a:ext cx="8637840" cy="1370160"/>
            </a:xfrm>
            <a:custGeom>
              <a:avLst/>
              <a:gdLst/>
              <a:ahLst/>
              <a:rect l="l" t="t" r="r" b="b"/>
              <a:pathLst>
                <a:path w="6428" h="1019">
                  <a:moveTo>
                    <a:pt x="6132" y="0"/>
                  </a:moveTo>
                  <a:lnTo>
                    <a:pt x="295" y="0"/>
                  </a:lnTo>
                  <a:lnTo>
                    <a:pt x="0" y="1019"/>
                  </a:lnTo>
                  <a:lnTo>
                    <a:pt x="6428" y="1019"/>
                  </a:lnTo>
                  <a:lnTo>
                    <a:pt x="6132" y="0"/>
                  </a:lnTo>
                  <a:close/>
                </a:path>
              </a:pathLst>
            </a:custGeom>
            <a:noFill/>
            <a:ln w="15840">
              <a:solidFill>
                <a:srgbClr val="cc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60"/>
            <p:cNvGrpSpPr/>
            <p:nvPr/>
          </p:nvGrpSpPr>
          <p:grpSpPr>
            <a:xfrm>
              <a:off x="1079640" y="1079640"/>
              <a:ext cx="9362880" cy="12674520"/>
              <a:chOff x="1079640" y="1079640"/>
              <a:chExt cx="9362880" cy="12674520"/>
            </a:xfrm>
          </p:grpSpPr>
          <p:sp>
            <p:nvSpPr>
              <p:cNvPr id="3" name="Line 28"/>
              <p:cNvSpPr/>
              <p:nvPr/>
            </p:nvSpPr>
            <p:spPr>
              <a:xfrm>
                <a:off x="1079640" y="1330200"/>
                <a:ext cx="93628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29"/>
              <p:cNvSpPr/>
              <p:nvPr/>
            </p:nvSpPr>
            <p:spPr>
              <a:xfrm>
                <a:off x="1079640" y="1438200"/>
                <a:ext cx="93628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Line 30"/>
              <p:cNvSpPr/>
              <p:nvPr/>
            </p:nvSpPr>
            <p:spPr>
              <a:xfrm>
                <a:off x="1079640" y="7413480"/>
                <a:ext cx="93628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Line 31"/>
              <p:cNvSpPr/>
              <p:nvPr/>
            </p:nvSpPr>
            <p:spPr>
              <a:xfrm>
                <a:off x="1079640" y="13387320"/>
                <a:ext cx="93628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Line 32"/>
              <p:cNvSpPr/>
              <p:nvPr/>
            </p:nvSpPr>
            <p:spPr>
              <a:xfrm>
                <a:off x="1079640" y="13495320"/>
                <a:ext cx="93628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Line 33"/>
              <p:cNvSpPr/>
              <p:nvPr/>
            </p:nvSpPr>
            <p:spPr>
              <a:xfrm>
                <a:off x="1330200" y="1079640"/>
                <a:ext cx="0" cy="126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Line 34"/>
              <p:cNvSpPr/>
              <p:nvPr/>
            </p:nvSpPr>
            <p:spPr>
              <a:xfrm>
                <a:off x="1438200" y="1079640"/>
                <a:ext cx="0" cy="126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Line 35"/>
              <p:cNvSpPr/>
              <p:nvPr/>
            </p:nvSpPr>
            <p:spPr>
              <a:xfrm>
                <a:off x="5757840" y="1079640"/>
                <a:ext cx="0" cy="126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Line 36"/>
              <p:cNvSpPr/>
              <p:nvPr/>
            </p:nvSpPr>
            <p:spPr>
              <a:xfrm>
                <a:off x="10076040" y="1079640"/>
                <a:ext cx="0" cy="126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Line 37"/>
              <p:cNvSpPr/>
              <p:nvPr/>
            </p:nvSpPr>
            <p:spPr>
              <a:xfrm>
                <a:off x="10183680" y="1079640"/>
                <a:ext cx="0" cy="126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Rectangle 38"/>
              <p:cNvSpPr/>
              <p:nvPr/>
            </p:nvSpPr>
            <p:spPr>
              <a:xfrm>
                <a:off x="1330200" y="1330200"/>
                <a:ext cx="8853480" cy="121636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" name="Text Box 86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85"/>
          <p:cNvGrpSpPr/>
          <p:nvPr/>
        </p:nvGrpSpPr>
        <p:grpSpPr>
          <a:xfrm>
            <a:off x="1079640" y="69840"/>
            <a:ext cx="9362880" cy="13684320"/>
            <a:chOff x="1079640" y="69840"/>
            <a:chExt cx="9362880" cy="13684320"/>
          </a:xfrm>
        </p:grpSpPr>
        <p:sp>
          <p:nvSpPr>
            <p:cNvPr id="52" name="Freeform 84"/>
            <p:cNvSpPr/>
            <p:nvPr/>
          </p:nvSpPr>
          <p:spPr>
            <a:xfrm>
              <a:off x="1438200" y="69840"/>
              <a:ext cx="8637840" cy="1370160"/>
            </a:xfrm>
            <a:custGeom>
              <a:avLst/>
              <a:gdLst/>
              <a:ahLst/>
              <a:rect l="l" t="t" r="r" b="b"/>
              <a:pathLst>
                <a:path w="6428" h="1019">
                  <a:moveTo>
                    <a:pt x="6132" y="0"/>
                  </a:moveTo>
                  <a:lnTo>
                    <a:pt x="295" y="0"/>
                  </a:lnTo>
                  <a:lnTo>
                    <a:pt x="0" y="1019"/>
                  </a:lnTo>
                  <a:lnTo>
                    <a:pt x="6428" y="1019"/>
                  </a:lnTo>
                  <a:lnTo>
                    <a:pt x="6132" y="0"/>
                  </a:lnTo>
                  <a:close/>
                </a:path>
              </a:pathLst>
            </a:custGeom>
            <a:noFill/>
            <a:ln w="15840">
              <a:solidFill>
                <a:srgbClr val="cc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60"/>
            <p:cNvGrpSpPr/>
            <p:nvPr/>
          </p:nvGrpSpPr>
          <p:grpSpPr>
            <a:xfrm>
              <a:off x="1079640" y="1079640"/>
              <a:ext cx="9362880" cy="12674520"/>
              <a:chOff x="1079640" y="1079640"/>
              <a:chExt cx="9362880" cy="12674520"/>
            </a:xfrm>
          </p:grpSpPr>
          <p:sp>
            <p:nvSpPr>
              <p:cNvPr id="54" name="Line 28"/>
              <p:cNvSpPr/>
              <p:nvPr/>
            </p:nvSpPr>
            <p:spPr>
              <a:xfrm>
                <a:off x="1079640" y="1330200"/>
                <a:ext cx="93628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29"/>
              <p:cNvSpPr/>
              <p:nvPr/>
            </p:nvSpPr>
            <p:spPr>
              <a:xfrm>
                <a:off x="1079640" y="1438200"/>
                <a:ext cx="93628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Line 30"/>
              <p:cNvSpPr/>
              <p:nvPr/>
            </p:nvSpPr>
            <p:spPr>
              <a:xfrm>
                <a:off x="1079640" y="7413480"/>
                <a:ext cx="93628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Line 31"/>
              <p:cNvSpPr/>
              <p:nvPr/>
            </p:nvSpPr>
            <p:spPr>
              <a:xfrm>
                <a:off x="1079640" y="13387320"/>
                <a:ext cx="93628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Line 32"/>
              <p:cNvSpPr/>
              <p:nvPr/>
            </p:nvSpPr>
            <p:spPr>
              <a:xfrm>
                <a:off x="1079640" y="13495320"/>
                <a:ext cx="93628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33"/>
              <p:cNvSpPr/>
              <p:nvPr/>
            </p:nvSpPr>
            <p:spPr>
              <a:xfrm>
                <a:off x="1330200" y="1079640"/>
                <a:ext cx="0" cy="126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34"/>
              <p:cNvSpPr/>
              <p:nvPr/>
            </p:nvSpPr>
            <p:spPr>
              <a:xfrm>
                <a:off x="1438200" y="1079640"/>
                <a:ext cx="0" cy="126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Line 35"/>
              <p:cNvSpPr/>
              <p:nvPr/>
            </p:nvSpPr>
            <p:spPr>
              <a:xfrm>
                <a:off x="5757840" y="1079640"/>
                <a:ext cx="0" cy="126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Line 36"/>
              <p:cNvSpPr/>
              <p:nvPr/>
            </p:nvSpPr>
            <p:spPr>
              <a:xfrm>
                <a:off x="10076040" y="1079640"/>
                <a:ext cx="0" cy="126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Line 37"/>
              <p:cNvSpPr/>
              <p:nvPr/>
            </p:nvSpPr>
            <p:spPr>
              <a:xfrm>
                <a:off x="10183680" y="1079640"/>
                <a:ext cx="0" cy="126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38"/>
              <p:cNvSpPr/>
              <p:nvPr/>
            </p:nvSpPr>
            <p:spPr>
              <a:xfrm>
                <a:off x="1330200" y="1330200"/>
                <a:ext cx="8853480" cy="121636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Text Box 86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グループ化 16"/>
          <p:cNvGrpSpPr/>
          <p:nvPr/>
        </p:nvGrpSpPr>
        <p:grpSpPr>
          <a:xfrm>
            <a:off x="54000" y="54000"/>
            <a:ext cx="11328480" cy="13338000"/>
            <a:chOff x="54000" y="54000"/>
            <a:chExt cx="11328480" cy="13338000"/>
          </a:xfrm>
        </p:grpSpPr>
        <p:pic>
          <p:nvPicPr>
            <p:cNvPr id="67" name="図 8" descr="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8820360" y="71280"/>
              <a:ext cx="2562120" cy="900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8" name="Group 133"/>
            <p:cNvGrpSpPr/>
            <p:nvPr/>
          </p:nvGrpSpPr>
          <p:grpSpPr>
            <a:xfrm>
              <a:off x="54000" y="54000"/>
              <a:ext cx="10026720" cy="13338000"/>
              <a:chOff x="54000" y="54000"/>
              <a:chExt cx="10026720" cy="13338000"/>
            </a:xfrm>
          </p:grpSpPr>
          <p:grpSp>
            <p:nvGrpSpPr>
              <p:cNvPr id="69" name="Group 119"/>
              <p:cNvGrpSpPr/>
              <p:nvPr/>
            </p:nvGrpSpPr>
            <p:grpSpPr>
              <a:xfrm>
                <a:off x="61920" y="1314360"/>
                <a:ext cx="10018800" cy="12077640"/>
                <a:chOff x="61920" y="1314360"/>
                <a:chExt cx="10018800" cy="12077640"/>
              </a:xfrm>
            </p:grpSpPr>
            <p:sp>
              <p:nvSpPr>
                <p:cNvPr id="70" name="Rectangle 52"/>
                <p:cNvSpPr/>
                <p:nvPr/>
              </p:nvSpPr>
              <p:spPr>
                <a:xfrm>
                  <a:off x="1440000" y="1441440"/>
                  <a:ext cx="8640720" cy="11950560"/>
                </a:xfrm>
                <a:prstGeom prst="rect">
                  <a:avLst/>
                </a:prstGeom>
                <a:noFill/>
                <a:ln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4160" rIns="74160" tIns="9000" bIns="9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1" name="Group 74"/>
                <p:cNvGrpSpPr/>
                <p:nvPr/>
              </p:nvGrpSpPr>
              <p:grpSpPr>
                <a:xfrm>
                  <a:off x="61920" y="1314360"/>
                  <a:ext cx="1368360" cy="544680"/>
                  <a:chOff x="61920" y="1314360"/>
                  <a:chExt cx="1368360" cy="544680"/>
                </a:xfrm>
              </p:grpSpPr>
              <p:sp>
                <p:nvSpPr>
                  <p:cNvPr id="72" name="Line 75"/>
                  <p:cNvSpPr/>
                  <p:nvPr/>
                </p:nvSpPr>
                <p:spPr>
                  <a:xfrm>
                    <a:off x="871560" y="1587600"/>
                    <a:ext cx="558720" cy="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Text Box 76"/>
                  <p:cNvSpPr/>
                  <p:nvPr/>
                </p:nvSpPr>
                <p:spPr>
                  <a:xfrm>
                    <a:off x="61920" y="1314360"/>
                    <a:ext cx="936360" cy="544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この</a:t>
                    </a: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青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い線が仕上がり位置となります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pic>
            <p:nvPicPr>
              <p:cNvPr id="74" name="Picture 124" descr=""/>
              <p:cNvPicPr/>
              <p:nvPr/>
            </p:nvPicPr>
            <p:blipFill>
              <a:blip r:embed="rId4"/>
              <a:stretch/>
            </p:blipFill>
            <p:spPr>
              <a:xfrm>
                <a:off x="1438200" y="1438200"/>
                <a:ext cx="8637840" cy="117475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75" name="Group 123"/>
              <p:cNvGrpSpPr/>
              <p:nvPr/>
            </p:nvGrpSpPr>
            <p:grpSpPr>
              <a:xfrm>
                <a:off x="61920" y="3168720"/>
                <a:ext cx="9653760" cy="9139320"/>
                <a:chOff x="61920" y="3168720"/>
                <a:chExt cx="9653760" cy="9139320"/>
              </a:xfrm>
            </p:grpSpPr>
            <p:grpSp>
              <p:nvGrpSpPr>
                <p:cNvPr id="76" name="Group 87"/>
                <p:cNvGrpSpPr/>
                <p:nvPr/>
              </p:nvGrpSpPr>
              <p:grpSpPr>
                <a:xfrm>
                  <a:off x="61920" y="3168720"/>
                  <a:ext cx="1736640" cy="684000"/>
                  <a:chOff x="61920" y="3168720"/>
                  <a:chExt cx="1736640" cy="684000"/>
                </a:xfrm>
              </p:grpSpPr>
              <p:sp>
                <p:nvSpPr>
                  <p:cNvPr id="77" name="Line 69"/>
                  <p:cNvSpPr/>
                  <p:nvPr/>
                </p:nvSpPr>
                <p:spPr>
                  <a:xfrm>
                    <a:off x="719280" y="3509640"/>
                    <a:ext cx="1079280" cy="0"/>
                  </a:xfrm>
                  <a:prstGeom prst="line">
                    <a:avLst/>
                  </a:prstGeom>
                  <a:ln w="9360">
                    <a:solidFill>
                      <a:srgbClr val="00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" name="Text Box 70"/>
                  <p:cNvSpPr/>
                  <p:nvPr/>
                </p:nvSpPr>
                <p:spPr>
                  <a:xfrm>
                    <a:off x="61920" y="3168720"/>
                    <a:ext cx="936720" cy="6840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この</a:t>
                    </a: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水色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の線の内側に配置してください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9" name="Rectangle 116"/>
                <p:cNvSpPr/>
                <p:nvPr/>
              </p:nvSpPr>
              <p:spPr>
                <a:xfrm>
                  <a:off x="1798560" y="3238560"/>
                  <a:ext cx="7917120" cy="9069480"/>
                </a:xfrm>
                <a:prstGeom prst="rect">
                  <a:avLst/>
                </a:prstGeom>
                <a:noFill/>
                <a:ln w="3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" name="Group 126"/>
              <p:cNvGrpSpPr/>
              <p:nvPr/>
            </p:nvGrpSpPr>
            <p:grpSpPr>
              <a:xfrm>
                <a:off x="54000" y="54000"/>
                <a:ext cx="8636040" cy="900000"/>
                <a:chOff x="54000" y="54000"/>
                <a:chExt cx="8636040" cy="900000"/>
              </a:xfrm>
            </p:grpSpPr>
            <p:sp>
              <p:nvSpPr>
                <p:cNvPr id="81" name="Text Box 67"/>
                <p:cNvSpPr/>
                <p:nvPr/>
              </p:nvSpPr>
              <p:spPr>
                <a:xfrm>
                  <a:off x="4011480" y="54000"/>
                  <a:ext cx="4678560" cy="9000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36000" bIns="36000" anchor="ctr">
                  <a:noAutofit/>
                </a:bodyPr>
                <a:p>
                  <a:pPr marL="114480" indent="-114480" algn="just">
                    <a:lnSpc>
                      <a:spcPct val="100000"/>
                    </a:lnSpc>
                    <a:buClr>
                      <a:srgbClr val="000000"/>
                    </a:buClr>
                    <a:buFont typeface="ＭＳ 明朝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PowerPoint 2007</a:t>
                  </a:r>
                  <a:r>
                    <a:rPr b="1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以降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をご使用の方は</a:t>
                  </a:r>
                  <a:r>
                    <a:rPr b="1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【</a:t>
                  </a:r>
                  <a:r>
                    <a:rPr b="1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PowerPoint</a:t>
                  </a:r>
                  <a:r>
                    <a:rPr b="1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プレゼンテーション（</a:t>
                  </a:r>
                  <a:r>
                    <a:rPr b="1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.pptx</a:t>
                  </a:r>
                  <a:r>
                    <a:rPr b="1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）</a:t>
                  </a:r>
                  <a:r>
                    <a:rPr b="1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】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で保存しなおしてください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 algn="just">
                    <a:lnSpc>
                      <a:spcPct val="100000"/>
                    </a:lnSpc>
                    <a:buClr>
                      <a:srgbClr val="000000"/>
                    </a:buClr>
                    <a:buFont typeface="ＭＳ 明朝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封をした場合にフタにより隠れる部分を除いた、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ＭＳ Ｐ明朝"/>
                      <a:ea typeface="ＭＳ Ｐ明朝"/>
                    </a:rPr>
                    <a:t>水色の枠内にレイアウト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してください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 algn="just">
                    <a:lnSpc>
                      <a:spcPct val="100000"/>
                    </a:lnSpc>
                    <a:buClr>
                      <a:srgbClr val="000000"/>
                    </a:buClr>
                    <a:buFont typeface="ＭＳ 明朝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製袋された封筒に印刷のため、貼り合わせ部分（下図の灰色の点線）にかかるベタなどはかすれる可能性があります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 algn="just">
                    <a:lnSpc>
                      <a:spcPct val="100000"/>
                    </a:lnSpc>
                    <a:buClr>
                      <a:srgbClr val="000000"/>
                    </a:buClr>
                    <a:buFont typeface="ＭＳ 明朝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データは黒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1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色の濃淡で作成してください。色の掛け合わせはできません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 algn="just">
                    <a:lnSpc>
                      <a:spcPct val="100000"/>
                    </a:lnSpc>
                    <a:buClr>
                      <a:srgbClr val="000000"/>
                    </a:buClr>
                    <a:buFont typeface="ＭＳ 明朝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ja-JP" sz="700" spc="-1" strike="noStrike">
                      <a:solidFill>
                        <a:srgbClr val="ff0000"/>
                      </a:solidFill>
                      <a:latin typeface="ＭＳ Ｐ明朝"/>
                      <a:ea typeface="ＭＳ Ｐ明朝"/>
                    </a:rPr>
                    <a:t>透過性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や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ＭＳ Ｐ明朝"/>
                      <a:ea typeface="ＭＳ Ｐ明朝"/>
                    </a:rPr>
                    <a:t>半透明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、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ＭＳ Ｐ明朝"/>
                      <a:ea typeface="ＭＳ Ｐ明朝"/>
                    </a:rPr>
                    <a:t>パターン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など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ＭＳ Ｐ明朝"/>
                      <a:ea typeface="ＭＳ Ｐ明朝"/>
                    </a:rPr>
                    <a:t>変換が正常に出来ない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場合があります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 algn="just">
                    <a:lnSpc>
                      <a:spcPct val="100000"/>
                    </a:lnSpc>
                    <a:buClr>
                      <a:srgbClr val="000000"/>
                    </a:buClr>
                    <a:buFont typeface="ＭＳ 明朝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用紙サイズの変更や、トンボの移動、変形などなさらないようお願いします。　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 algn="just">
                    <a:lnSpc>
                      <a:spcPct val="100000"/>
                    </a:lnSpc>
                    <a:buClr>
                      <a:srgbClr val="000000"/>
                    </a:buClr>
                    <a:buFont typeface="ＭＳ 明朝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PDF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を作成する際は、説明部分を削除してください。（同封の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【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PDF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作成前の準備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PowerPoint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用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.pdf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】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をご覧ください。）また、テンプレート同じサイズで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PDF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が作成されているかご確認ください。　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2" name="Group 128"/>
                <p:cNvGrpSpPr/>
                <p:nvPr/>
              </p:nvGrpSpPr>
              <p:grpSpPr>
                <a:xfrm>
                  <a:off x="54000" y="54000"/>
                  <a:ext cx="3958920" cy="900000"/>
                  <a:chOff x="54000" y="54000"/>
                  <a:chExt cx="3958920" cy="900000"/>
                </a:xfrm>
              </p:grpSpPr>
              <p:grpSp>
                <p:nvGrpSpPr>
                  <p:cNvPr id="83" name="Group 129"/>
                  <p:cNvGrpSpPr/>
                  <p:nvPr/>
                </p:nvGrpSpPr>
                <p:grpSpPr>
                  <a:xfrm>
                    <a:off x="54000" y="54000"/>
                    <a:ext cx="1331640" cy="900000"/>
                    <a:chOff x="54000" y="54000"/>
                    <a:chExt cx="1331640" cy="900000"/>
                  </a:xfrm>
                </p:grpSpPr>
                <p:sp>
                  <p:nvSpPr>
                    <p:cNvPr id="84" name="Rectangle 65"/>
                    <p:cNvSpPr/>
                    <p:nvPr/>
                  </p:nvSpPr>
                  <p:spPr>
                    <a:xfrm>
                      <a:off x="54000" y="54000"/>
                      <a:ext cx="1331640" cy="9000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36000" rIns="36000" tIns="36000" bIns="36000" anchor="t">
                      <a:noAutofit/>
                    </a:bodyPr>
                    <a:p>
                      <a:pPr>
                        <a:lnSpc>
                          <a:spcPts val="1397"/>
                        </a:lnSpc>
                        <a:tabLst>
                          <a:tab algn="l" pos="0"/>
                          <a:tab algn="l" pos="1803240"/>
                          <a:tab algn="l" pos="3606840"/>
                          <a:tab algn="l" pos="5410080"/>
                          <a:tab algn="l" pos="7213680"/>
                          <a:tab algn="l" pos="9016920"/>
                          <a:tab algn="l" pos="108205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角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封筒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1803240"/>
                          <a:tab algn="l" pos="3606840"/>
                          <a:tab algn="l" pos="5410080"/>
                          <a:tab algn="l" pos="7213680"/>
                          <a:tab algn="l" pos="9016920"/>
                          <a:tab algn="l" pos="1082052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サイド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1803240"/>
                          <a:tab algn="l" pos="3606840"/>
                          <a:tab algn="l" pos="5410080"/>
                          <a:tab algn="l" pos="7213680"/>
                          <a:tab algn="l" pos="9016920"/>
                          <a:tab algn="l" pos="108205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×332m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pic>
                  <p:nvPicPr>
                    <p:cNvPr id="85" name="Picture 131" descr="新Suprintロゴ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71280" y="556920"/>
                      <a:ext cx="542520" cy="342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  <p:sp>
                <p:nvSpPr>
                  <p:cNvPr id="86" name="Text Box 67"/>
                  <p:cNvSpPr/>
                  <p:nvPr/>
                </p:nvSpPr>
                <p:spPr>
                  <a:xfrm>
                    <a:off x="1385640" y="54000"/>
                    <a:ext cx="2627280" cy="9000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36000" rIns="36000" tIns="36000" bIns="36000" anchor="ctr">
                    <a:noAutofit/>
                  </a:bodyPr>
                  <a:p>
                    <a:pPr marL="114480" indent="-114480" algn="just">
                      <a:lnSpc>
                        <a:spcPct val="100000"/>
                      </a:lnSpc>
                      <a:buClr>
                        <a:srgbClr val="000000"/>
                      </a:buClr>
                      <a:buFont typeface="ＭＳ 明朝"/>
                      <a:buChar char="※"/>
                      <a:tabLst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明朝"/>
                        <a:ea typeface="ＭＳ Ｐ明朝"/>
                      </a:rPr>
                      <a:t>このテンプレートは以下の封筒専用となります。下記以外の封筒は、名前に「センター」と着いた物をご使用ください。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14480" indent="-114480"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明朝"/>
                        <a:ea typeface="ＭＳ Ｐ明朝"/>
                      </a:rPr>
                      <a:t>　■ク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明朝"/>
                        <a:ea typeface="ＭＳ Ｐ明朝"/>
                      </a:rPr>
                      <a:t>ラフト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明朝"/>
                        <a:ea typeface="ＭＳ Ｐ明朝"/>
                      </a:rPr>
                      <a:t>封筒／■ケント封筒／■ケント（はく離紙のり付き）／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14480" indent="-114480"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明朝"/>
                        <a:ea typeface="ＭＳ Ｐ明朝"/>
                      </a:rPr>
                      <a:t>　■グレー封筒／■アクア封筒／■ブルー封筒／■グリーン封筒／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14480" indent="-114480"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明朝"/>
                        <a:ea typeface="ＭＳ Ｐ明朝"/>
                      </a:rPr>
                      <a:t>　■クリーム封筒／■ピンク封筒／■ホワイト封筒／■</a:t>
                    </a:r>
                    <a:r>
                      <a:rPr b="0" lang="en-US" sz="700" spc="-1" strike="noStrike">
                        <a:solidFill>
                          <a:srgbClr val="000000"/>
                        </a:solidFill>
                        <a:latin typeface="ＭＳ Ｐ明朝"/>
                        <a:ea typeface="ＭＳ Ｐ明朝"/>
                      </a:rPr>
                      <a:t>S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明朝"/>
                        <a:ea typeface="ＭＳ Ｐ明朝"/>
                      </a:rPr>
                      <a:t>グレー封筒／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14480" indent="-114480"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明朝"/>
                        <a:ea typeface="ＭＳ Ｐ明朝"/>
                      </a:rPr>
                      <a:t>　■ケント（透けない封筒）／■ホワイト（透けない封筒）／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14480" indent="-114480"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明朝"/>
                        <a:ea typeface="ＭＳ Ｐ明朝"/>
                      </a:rPr>
                      <a:t>　■ブルー（透けない封筒）／■グレー（透けない封筒）／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14480" indent="-114480"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明朝"/>
                        <a:ea typeface="ＭＳ Ｐ明朝"/>
                      </a:rPr>
                      <a:t>　■グリーン（透けない封筒）／■アクア（透けない封筒）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576000" y="3470400"/>
            <a:ext cx="1037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lvl="1" marL="1222200" indent="-471240">
              <a:spcBef>
                <a:spcPts val="1151"/>
              </a:spcBef>
              <a:buClr>
                <a:srgbClr val="000000"/>
              </a:buClr>
              <a:buFont typeface="Arial"/>
              <a:buChar char="–"/>
              <a:tabLst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lvl="2" marL="1881360" indent="-37656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3" marL="2637000" indent="-37800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4" marL="3389400" indent="-37620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5" marL="3389400" indent="-37620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6" marL="3389400" indent="-37620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>suprint</dc:creator>
  <dc:description/>
  <dc:language>en-US</dc:language>
  <cp:lastModifiedBy>ugo-99</cp:lastModifiedBy>
  <dcterms:modified xsi:type="dcterms:W3CDTF">2015-08-26T10:02:12Z</dcterms:modified>
  <cp:revision>16</cp:revision>
  <dc:subject/>
  <dc:title>スライド 1</dc:title>
</cp:coreProperties>
</file>