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52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54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1328480" cy="13338000"/>
            <a:chOff x="54000" y="54000"/>
            <a:chExt cx="11328480" cy="13338000"/>
          </a:xfrm>
        </p:grpSpPr>
        <p:grpSp>
          <p:nvGrpSpPr>
            <p:cNvPr id="67" name="グループ化 20"/>
            <p:cNvGrpSpPr/>
            <p:nvPr/>
          </p:nvGrpSpPr>
          <p:grpSpPr>
            <a:xfrm>
              <a:off x="54000" y="54000"/>
              <a:ext cx="11328480" cy="13338000"/>
              <a:chOff x="54000" y="54000"/>
              <a:chExt cx="11328480" cy="13338000"/>
            </a:xfrm>
          </p:grpSpPr>
          <p:pic>
            <p:nvPicPr>
              <p:cNvPr id="68" name="図 8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8820360" y="71280"/>
                <a:ext cx="2562120" cy="900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" name="グループ化 22"/>
              <p:cNvGrpSpPr/>
              <p:nvPr/>
            </p:nvGrpSpPr>
            <p:grpSpPr>
              <a:xfrm>
                <a:off x="54000" y="54000"/>
                <a:ext cx="10026720" cy="13338000"/>
                <a:chOff x="54000" y="54000"/>
                <a:chExt cx="10026720" cy="13338000"/>
              </a:xfrm>
            </p:grpSpPr>
            <p:grpSp>
              <p:nvGrpSpPr>
                <p:cNvPr id="70" name="Group 119"/>
                <p:cNvGrpSpPr/>
                <p:nvPr/>
              </p:nvGrpSpPr>
              <p:grpSpPr>
                <a:xfrm>
                  <a:off x="61920" y="1314360"/>
                  <a:ext cx="10018800" cy="12077640"/>
                  <a:chOff x="61920" y="1314360"/>
                  <a:chExt cx="10018800" cy="12077640"/>
                </a:xfrm>
              </p:grpSpPr>
              <p:sp>
                <p:nvSpPr>
                  <p:cNvPr id="71" name="Rectangle 52"/>
                  <p:cNvSpPr/>
                  <p:nvPr/>
                </p:nvSpPr>
                <p:spPr>
                  <a:xfrm>
                    <a:off x="1440000" y="1441440"/>
                    <a:ext cx="8640720" cy="11950560"/>
                  </a:xfrm>
                  <a:prstGeom prst="rect">
                    <a:avLst/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9000" bIns="9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73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が仕上がり位置となり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" name="Group 118"/>
                <p:cNvGrpSpPr/>
                <p:nvPr/>
              </p:nvGrpSpPr>
              <p:grpSpPr>
                <a:xfrm>
                  <a:off x="61920" y="3168360"/>
                  <a:ext cx="9676080" cy="9140760"/>
                  <a:chOff x="61920" y="3168360"/>
                  <a:chExt cx="9676080" cy="9140760"/>
                </a:xfrm>
              </p:grpSpPr>
              <p:grpSp>
                <p:nvGrpSpPr>
                  <p:cNvPr id="76" name="Group 87"/>
                  <p:cNvGrpSpPr/>
                  <p:nvPr/>
                </p:nvGrpSpPr>
                <p:grpSpPr>
                  <a:xfrm>
                    <a:off x="61920" y="3168360"/>
                    <a:ext cx="1736640" cy="684000"/>
                    <a:chOff x="61920" y="3168360"/>
                    <a:chExt cx="1736640" cy="684000"/>
                  </a:xfrm>
                </p:grpSpPr>
                <p:sp>
                  <p:nvSpPr>
                    <p:cNvPr id="77" name="Line 69"/>
                    <p:cNvSpPr/>
                    <p:nvPr/>
                  </p:nvSpPr>
                  <p:spPr>
                    <a:xfrm>
                      <a:off x="719280" y="3509280"/>
                      <a:ext cx="107928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Text Box 70"/>
                    <p:cNvSpPr/>
                    <p:nvPr/>
                  </p:nvSpPr>
                  <p:spPr>
                    <a:xfrm>
                      <a:off x="61920" y="3168360"/>
                      <a:ext cx="936720" cy="684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してください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" name="Rectangle 116"/>
                  <p:cNvSpPr/>
                  <p:nvPr/>
                </p:nvSpPr>
                <p:spPr>
                  <a:xfrm>
                    <a:off x="1803240" y="3238200"/>
                    <a:ext cx="3689640" cy="906948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Rectangle 117"/>
                  <p:cNvSpPr/>
                  <p:nvPr/>
                </p:nvSpPr>
                <p:spPr>
                  <a:xfrm>
                    <a:off x="6048720" y="3239640"/>
                    <a:ext cx="3689280" cy="906948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グループ化 25"/>
                <p:cNvGrpSpPr/>
                <p:nvPr/>
              </p:nvGrpSpPr>
              <p:grpSpPr>
                <a:xfrm>
                  <a:off x="54000" y="54000"/>
                  <a:ext cx="8636040" cy="900000"/>
                  <a:chOff x="54000" y="54000"/>
                  <a:chExt cx="8636040" cy="900000"/>
                </a:xfrm>
              </p:grpSpPr>
              <p:pic>
                <p:nvPicPr>
                  <p:cNvPr id="82" name="Picture 96" descr="新Suprintロゴ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" y="557280"/>
                    <a:ext cx="5428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83" name="Group 128"/>
                  <p:cNvGrpSpPr/>
                  <p:nvPr/>
                </p:nvGrpSpPr>
                <p:grpSpPr>
                  <a:xfrm>
                    <a:off x="54000" y="54000"/>
                    <a:ext cx="8636040" cy="900000"/>
                    <a:chOff x="54000" y="54000"/>
                    <a:chExt cx="8636040" cy="900000"/>
                  </a:xfrm>
                </p:grpSpPr>
                <p:sp>
                  <p:nvSpPr>
                    <p:cNvPr id="84" name="Text Box 67"/>
                    <p:cNvSpPr/>
                    <p:nvPr/>
                  </p:nvSpPr>
                  <p:spPr>
                    <a:xfrm>
                      <a:off x="4011480" y="54000"/>
                      <a:ext cx="4678560" cy="900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36000" rIns="36000" tIns="36000" bIns="36000" anchor="ctr">
                      <a:noAutofit/>
                    </a:bodyPr>
                    <a:p>
                      <a:pPr marL="114480" indent="-1144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ＭＳ 明朝"/>
                        <a:buChar char="※"/>
                        <a:tabLst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PowerPoint 2007</a:t>
                      </a: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以降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をご使用の方は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【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PowerPoint</a:t>
                      </a: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レゼンテーション（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.pptx</a:t>
                      </a: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）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】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で保存しなおしてください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ＭＳ 明朝"/>
                        <a:buChar char="※"/>
                        <a:tabLst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封をした場合にフタにより隠れる部分を除いた、</a:t>
                      </a:r>
                      <a:r>
                        <a:rPr b="0" lang="ja-JP" sz="700" spc="-1" strike="noStrike">
                          <a:solidFill>
                            <a:srgbClr val="ff0000"/>
                          </a:solidFill>
                          <a:latin typeface="ＭＳ Ｐ明朝"/>
                          <a:ea typeface="ＭＳ Ｐ明朝"/>
                        </a:rPr>
                        <a:t>水色の枠内にレイアウト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してください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ＭＳ 明朝"/>
                        <a:buChar char="※"/>
                        <a:tabLst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製袋された封筒に印刷のため、貼り合わせ部分（下図の灰色の点線）にかかるベタなどはかすれる可能性があります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ＭＳ 明朝"/>
                        <a:buChar char="※"/>
                        <a:tabLst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データは黒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1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色の濃淡で作成してください。色の掛け合わせはできません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ＭＳ 明朝"/>
                        <a:buChar char="※"/>
                        <a:tabLst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700" spc="-1" strike="noStrike">
                          <a:solidFill>
                            <a:srgbClr val="ff0000"/>
                          </a:solidFill>
                          <a:latin typeface="ＭＳ Ｐ明朝"/>
                          <a:ea typeface="ＭＳ Ｐ明朝"/>
                        </a:rPr>
                        <a:t>透過性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や</a:t>
                      </a:r>
                      <a:r>
                        <a:rPr b="1" lang="ja-JP" sz="700" spc="-1" strike="noStrike">
                          <a:solidFill>
                            <a:srgbClr val="ff0000"/>
                          </a:solidFill>
                          <a:latin typeface="ＭＳ Ｐ明朝"/>
                          <a:ea typeface="ＭＳ Ｐ明朝"/>
                        </a:rPr>
                        <a:t>半透明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、</a:t>
                      </a:r>
                      <a:r>
                        <a:rPr b="1" lang="ja-JP" sz="700" spc="-1" strike="noStrike">
                          <a:solidFill>
                            <a:srgbClr val="ff0000"/>
                          </a:solidFill>
                          <a:latin typeface="ＭＳ Ｐ明朝"/>
                          <a:ea typeface="ＭＳ Ｐ明朝"/>
                        </a:rPr>
                        <a:t>パターン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など</a:t>
                      </a:r>
                      <a:r>
                        <a:rPr b="0" lang="ja-JP" sz="700" spc="-1" strike="noStrike">
                          <a:solidFill>
                            <a:srgbClr val="ff0000"/>
                          </a:solidFill>
                          <a:latin typeface="ＭＳ Ｐ明朝"/>
                          <a:ea typeface="ＭＳ Ｐ明朝"/>
                        </a:rPr>
                        <a:t>変換が正常に出来ない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場合があります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ＭＳ 明朝"/>
                        <a:buChar char="※"/>
                        <a:tabLst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用紙サイズの変更や、トンボの移動、変形などなさらないようお願いします。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ＭＳ 明朝"/>
                        <a:buChar char="※"/>
                        <a:tabLst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PDF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を作成する際は、説明部分を削除してください。（同封の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【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PDF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作成前の準備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PowerPoint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.pdf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】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をご覧ください。）また、テンプレート同じサイズで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PDF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が作成されているかご確認ください。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5" name="Group 123"/>
                    <p:cNvGrpSpPr/>
                    <p:nvPr/>
                  </p:nvGrpSpPr>
                  <p:grpSpPr>
                    <a:xfrm>
                      <a:off x="54000" y="54000"/>
                      <a:ext cx="3958920" cy="900000"/>
                      <a:chOff x="54000" y="54000"/>
                      <a:chExt cx="3958920" cy="900000"/>
                    </a:xfrm>
                  </p:grpSpPr>
                  <p:grpSp>
                    <p:nvGrpSpPr>
                      <p:cNvPr id="86" name="Group 124"/>
                      <p:cNvGrpSpPr/>
                      <p:nvPr/>
                    </p:nvGrpSpPr>
                    <p:grpSpPr>
                      <a:xfrm>
                        <a:off x="54000" y="54000"/>
                        <a:ext cx="1331640" cy="900000"/>
                        <a:chOff x="54000" y="54000"/>
                        <a:chExt cx="1331640" cy="900000"/>
                      </a:xfrm>
                    </p:grpSpPr>
                    <p:sp>
                      <p:nvSpPr>
                        <p:cNvPr id="87" name="Rectangle 65"/>
                        <p:cNvSpPr/>
                        <p:nvPr/>
                      </p:nvSpPr>
                      <p:spPr>
                        <a:xfrm>
                          <a:off x="54000" y="54000"/>
                          <a:ext cx="1331640" cy="900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36000" rIns="36000" tIns="36000" bIns="36000" anchor="t">
                          <a:noAutofit/>
                        </a:bodyPr>
                        <a:p>
                          <a:pPr>
                            <a:lnSpc>
                              <a:spcPts val="1397"/>
                            </a:lnSpc>
                            <a:tabLst>
                              <a:tab algn="l" pos="0"/>
                              <a:tab algn="l" pos="1803240"/>
                              <a:tab algn="l" pos="3606840"/>
                              <a:tab algn="l" pos="5410080"/>
                              <a:tab algn="l" pos="7213680"/>
                              <a:tab algn="l" pos="9016920"/>
                              <a:tab algn="l" pos="10820520"/>
                            </a:tabLst>
                          </a:pPr>
                          <a:r>
                            <a:rPr b="1" lang="ja-JP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角</a:t>
                          </a: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ja-JP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封筒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ts val="1199"/>
                            </a:lnSpc>
                            <a:tabLst>
                              <a:tab algn="l" pos="0"/>
                              <a:tab algn="l" pos="1803240"/>
                              <a:tab algn="l" pos="3606840"/>
                              <a:tab algn="l" pos="5410080"/>
                              <a:tab algn="l" pos="7213680"/>
                              <a:tab algn="l" pos="9016920"/>
                              <a:tab algn="l" pos="10820520"/>
                            </a:tabLst>
                          </a:pPr>
                          <a:r>
                            <a:rPr b="0" lang="ja-JP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センター貼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ts val="1199"/>
                            </a:lnSpc>
                            <a:tabLst>
                              <a:tab algn="l" pos="0"/>
                              <a:tab algn="l" pos="1803240"/>
                              <a:tab algn="l" pos="3606840"/>
                              <a:tab algn="l" pos="5410080"/>
                              <a:tab algn="l" pos="7213680"/>
                              <a:tab algn="l" pos="9016920"/>
                              <a:tab algn="l" pos="1082052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240×332mm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pic>
                      <p:nvPicPr>
                        <p:cNvPr id="88" name="Picture 126" descr="新Suprintロゴ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71280" y="556920"/>
                          <a:ext cx="542520" cy="34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sp>
                    <p:nvSpPr>
                      <p:cNvPr id="89" name="Text Box 67"/>
                      <p:cNvSpPr/>
                      <p:nvPr/>
                    </p:nvSpPr>
                    <p:spPr>
                      <a:xfrm>
                        <a:off x="1385640" y="54000"/>
                        <a:ext cx="2627280" cy="9000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36000" rIns="36000" tIns="36000" bIns="36000" anchor="t">
                        <a:noAutofit/>
                      </a:bodyPr>
                      <a:p>
                        <a:pPr marL="114480" indent="-114480" algn="just">
                          <a:lnSpc>
                            <a:spcPct val="100000"/>
                          </a:lnSpc>
                          <a:buClr>
                            <a:srgbClr val="000000"/>
                          </a:buClr>
                          <a:buFont typeface="ＭＳ 明朝"/>
                          <a:buChar char="※"/>
                          <a:tabLst>
                            <a:tab algn="l" pos="696960"/>
                            <a:tab algn="l" pos="1393920"/>
                            <a:tab algn="l" pos="2090880"/>
                            <a:tab algn="l" pos="2787480"/>
                            <a:tab algn="l" pos="3484440"/>
                            <a:tab algn="l" pos="4181400"/>
                            <a:tab algn="l" pos="4878360"/>
                            <a:tab algn="l" pos="5575320"/>
                            <a:tab algn="l" pos="6272280"/>
                            <a:tab algn="l" pos="6969240"/>
                            <a:tab algn="l" pos="7666200"/>
                            <a:tab algn="l" pos="8362800"/>
                            <a:tab algn="l" pos="9059760"/>
                            <a:tab algn="l" pos="9756720"/>
                            <a:tab algn="l" pos="10453680"/>
                          </a:tabLst>
                        </a:pPr>
                        <a:r>
                          <a:rPr b="0" lang="ja-JP" sz="700" spc="-1" strike="noStrike">
                            <a:solidFill>
                              <a:srgbClr val="000000"/>
                            </a:solidFill>
                            <a:latin typeface="ＭＳ Ｐ明朝"/>
                            <a:ea typeface="ＭＳ Ｐ明朝"/>
                          </a:rPr>
                          <a:t>このテンプレートは下記の封筒専用となります。下記以外の封筒は、名前に「サイド」と着いた物をご使用ください。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marL="114480" indent="-114480"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696960"/>
                            <a:tab algn="l" pos="1393920"/>
                            <a:tab algn="l" pos="2090880"/>
                            <a:tab algn="l" pos="2787480"/>
                            <a:tab algn="l" pos="3484440"/>
                            <a:tab algn="l" pos="4181400"/>
                            <a:tab algn="l" pos="4878360"/>
                            <a:tab algn="l" pos="5575320"/>
                            <a:tab algn="l" pos="6272280"/>
                            <a:tab algn="l" pos="6969240"/>
                            <a:tab algn="l" pos="7666200"/>
                            <a:tab algn="l" pos="8362800"/>
                            <a:tab algn="l" pos="9059760"/>
                            <a:tab algn="l" pos="9756720"/>
                            <a:tab algn="l" pos="10453680"/>
                          </a:tabLst>
                        </a:pPr>
                        <a:r>
                          <a:rPr b="0" lang="ja-JP" sz="700" spc="-1" strike="noStrike">
                            <a:solidFill>
                              <a:srgbClr val="000000"/>
                            </a:solidFill>
                            <a:latin typeface="ＭＳ Ｐ明朝"/>
                            <a:ea typeface="ＭＳ Ｐ明朝"/>
                          </a:rPr>
                          <a:t>　■クラフト封筒（はく離紙のり付き）／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marL="114480" indent="-114480"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696960"/>
                            <a:tab algn="l" pos="1393920"/>
                            <a:tab algn="l" pos="2090880"/>
                            <a:tab algn="l" pos="2787480"/>
                            <a:tab algn="l" pos="3484440"/>
                            <a:tab algn="l" pos="4181400"/>
                            <a:tab algn="l" pos="4878360"/>
                            <a:tab algn="l" pos="5575320"/>
                            <a:tab algn="l" pos="6272280"/>
                            <a:tab algn="l" pos="6969240"/>
                            <a:tab algn="l" pos="7666200"/>
                            <a:tab algn="l" pos="8362800"/>
                            <a:tab algn="l" pos="9059760"/>
                            <a:tab algn="l" pos="9756720"/>
                            <a:tab algn="l" pos="10453680"/>
                          </a:tabLst>
                        </a:pPr>
                        <a:r>
                          <a:rPr b="0" lang="ja-JP" sz="700" spc="-1" strike="noStrike">
                            <a:solidFill>
                              <a:srgbClr val="000000"/>
                            </a:solidFill>
                            <a:latin typeface="ＭＳ Ｐ明朝"/>
                            <a:ea typeface="ＭＳ Ｐ明朝"/>
                          </a:rPr>
                          <a:t>　■</a:t>
                        </a: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ＭＳ Ｐ明朝"/>
                            <a:ea typeface="ＭＳ Ｐ明朝"/>
                          </a:rPr>
                          <a:t>S</a:t>
                        </a:r>
                        <a:r>
                          <a:rPr b="0" lang="ja-JP" sz="700" spc="-1" strike="noStrike">
                            <a:solidFill>
                              <a:srgbClr val="000000"/>
                            </a:solidFill>
                            <a:latin typeface="ＭＳ Ｐ明朝"/>
                            <a:ea typeface="ＭＳ Ｐ明朝"/>
                          </a:rPr>
                          <a:t>クリーム封筒／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marL="114480" indent="-114480"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696960"/>
                            <a:tab algn="l" pos="1393920"/>
                            <a:tab algn="l" pos="2090880"/>
                            <a:tab algn="l" pos="2787480"/>
                            <a:tab algn="l" pos="3484440"/>
                            <a:tab algn="l" pos="4181400"/>
                            <a:tab algn="l" pos="4878360"/>
                            <a:tab algn="l" pos="5575320"/>
                            <a:tab algn="l" pos="6272280"/>
                            <a:tab algn="l" pos="6969240"/>
                            <a:tab algn="l" pos="7666200"/>
                            <a:tab algn="l" pos="8362800"/>
                            <a:tab algn="l" pos="9059760"/>
                            <a:tab algn="l" pos="9756720"/>
                            <a:tab algn="l" pos="10453680"/>
                          </a:tabLst>
                        </a:pPr>
                        <a:r>
                          <a:rPr b="0" lang="ja-JP" sz="700" spc="-1" strike="noStrike">
                            <a:solidFill>
                              <a:srgbClr val="000000"/>
                            </a:solidFill>
                            <a:latin typeface="ＭＳ Ｐ明朝"/>
                            <a:ea typeface="ＭＳ Ｐ明朝"/>
                          </a:rPr>
                          <a:t>　■</a:t>
                        </a: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ＭＳ Ｐ明朝"/>
                            <a:ea typeface="ＭＳ Ｐ明朝"/>
                          </a:rPr>
                          <a:t>S</a:t>
                        </a:r>
                        <a:r>
                          <a:rPr b="0" lang="ja-JP" sz="700" spc="-1" strike="noStrike">
                            <a:solidFill>
                              <a:srgbClr val="000000"/>
                            </a:solidFill>
                            <a:latin typeface="ＭＳ Ｐ明朝"/>
                            <a:ea typeface="ＭＳ Ｐ明朝"/>
                          </a:rPr>
                          <a:t>スカイ封筒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90" name="Group 115"/>
            <p:cNvGrpSpPr/>
            <p:nvPr/>
          </p:nvGrpSpPr>
          <p:grpSpPr>
            <a:xfrm>
              <a:off x="1444680" y="1444320"/>
              <a:ext cx="8628120" cy="11744280"/>
              <a:chOff x="1444680" y="1444320"/>
              <a:chExt cx="8628120" cy="11744280"/>
            </a:xfrm>
          </p:grpSpPr>
          <p:sp>
            <p:nvSpPr>
              <p:cNvPr id="91" name="Line 111"/>
              <p:cNvSpPr/>
              <p:nvPr/>
            </p:nvSpPr>
            <p:spPr>
              <a:xfrm>
                <a:off x="1450800" y="1444320"/>
                <a:ext cx="4448520" cy="539640"/>
              </a:xfrm>
              <a:prstGeom prst="line">
                <a:avLst/>
              </a:prstGeom>
              <a:ln w="1260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12"/>
              <p:cNvSpPr/>
              <p:nvPr/>
            </p:nvSpPr>
            <p:spPr>
              <a:xfrm>
                <a:off x="5649840" y="1444320"/>
                <a:ext cx="4422960" cy="11142720"/>
              </a:xfrm>
              <a:custGeom>
                <a:avLst/>
                <a:gdLst/>
                <a:ahLst/>
                <a:rect l="l" t="t" r="r" b="b"/>
                <a:pathLst>
                  <a:path w="2786" h="7019">
                    <a:moveTo>
                      <a:pt x="2786" y="0"/>
                    </a:moveTo>
                    <a:lnTo>
                      <a:pt x="0" y="360"/>
                    </a:lnTo>
                    <a:lnTo>
                      <a:pt x="0" y="7019"/>
                    </a:lnTo>
                  </a:path>
                </a:pathLst>
              </a:custGeom>
              <a:noFill/>
              <a:ln w="1260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13"/>
              <p:cNvSpPr/>
              <p:nvPr/>
            </p:nvSpPr>
            <p:spPr>
              <a:xfrm>
                <a:off x="1444680" y="12587040"/>
                <a:ext cx="8628120" cy="601560"/>
              </a:xfrm>
              <a:custGeom>
                <a:avLst/>
                <a:gdLst/>
                <a:ahLst/>
                <a:rect l="l" t="t" r="r" b="b"/>
                <a:pathLst>
                  <a:path w="5435" h="379">
                    <a:moveTo>
                      <a:pt x="0" y="379"/>
                    </a:moveTo>
                    <a:lnTo>
                      <a:pt x="254" y="0"/>
                    </a:lnTo>
                    <a:lnTo>
                      <a:pt x="5195" y="0"/>
                    </a:lnTo>
                    <a:lnTo>
                      <a:pt x="5435" y="379"/>
                    </a:lnTo>
                  </a:path>
                </a:pathLst>
              </a:custGeom>
              <a:noFill/>
              <a:ln w="1260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4712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881360" indent="-376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637000" indent="-378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7T01:23:45Z</dcterms:modified>
  <cp:revision>18</cp:revision>
  <dc:subject/>
  <dc:title>スライド 1</dc:title>
</cp:coreProperties>
</file>