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6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53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54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6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11106000" cy="15138360"/>
            <a:chOff x="54000" y="54000"/>
            <a:chExt cx="11106000" cy="15138360"/>
          </a:xfrm>
        </p:grpSpPr>
        <p:pic>
          <p:nvPicPr>
            <p:cNvPr id="68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92720" y="71280"/>
              <a:ext cx="256068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Group 89"/>
            <p:cNvGrpSpPr/>
            <p:nvPr/>
          </p:nvGrpSpPr>
          <p:grpSpPr>
            <a:xfrm>
              <a:off x="54000" y="54000"/>
              <a:ext cx="11106000" cy="15138360"/>
              <a:chOff x="54000" y="54000"/>
              <a:chExt cx="11106000" cy="15138360"/>
            </a:xfrm>
          </p:grpSpPr>
          <p:grpSp>
            <p:nvGrpSpPr>
              <p:cNvPr id="70" name="Group 84"/>
              <p:cNvGrpSpPr/>
              <p:nvPr/>
            </p:nvGrpSpPr>
            <p:grpSpPr>
              <a:xfrm>
                <a:off x="1428840" y="1434960"/>
                <a:ext cx="9725040" cy="13613040"/>
                <a:chOff x="1428840" y="1434960"/>
                <a:chExt cx="9725040" cy="13613040"/>
              </a:xfrm>
            </p:grpSpPr>
            <p:sp>
              <p:nvSpPr>
                <p:cNvPr id="71" name="Freeform 57"/>
                <p:cNvSpPr/>
                <p:nvPr/>
              </p:nvSpPr>
              <p:spPr>
                <a:xfrm>
                  <a:off x="1428840" y="1434960"/>
                  <a:ext cx="5271840" cy="13613040"/>
                </a:xfrm>
                <a:custGeom>
                  <a:avLst/>
                  <a:gdLst/>
                  <a:ahLst/>
                  <a:rect l="l" t="t" r="r" b="b"/>
                  <a:pathLst>
                    <a:path w="3321" h="8575">
                      <a:moveTo>
                        <a:pt x="0" y="0"/>
                      </a:moveTo>
                      <a:lnTo>
                        <a:pt x="3320" y="364"/>
                      </a:lnTo>
                      <a:lnTo>
                        <a:pt x="3321" y="8514"/>
                      </a:lnTo>
                      <a:lnTo>
                        <a:pt x="9" y="8575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58"/>
                <p:cNvSpPr/>
                <p:nvPr/>
              </p:nvSpPr>
              <p:spPr>
                <a:xfrm>
                  <a:off x="6186600" y="1440000"/>
                  <a:ext cx="4967280" cy="13606200"/>
                </a:xfrm>
                <a:custGeom>
                  <a:avLst/>
                  <a:gdLst/>
                  <a:ahLst/>
                  <a:rect l="l" t="t" r="r" b="b"/>
                  <a:pathLst>
                    <a:path w="3129" h="8571">
                      <a:moveTo>
                        <a:pt x="3129" y="0"/>
                      </a:moveTo>
                      <a:lnTo>
                        <a:pt x="0" y="357"/>
                      </a:lnTo>
                      <a:lnTo>
                        <a:pt x="3" y="8511"/>
                      </a:lnTo>
                      <a:lnTo>
                        <a:pt x="3120" y="857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59"/>
                <p:cNvSpPr/>
                <p:nvPr/>
              </p:nvSpPr>
              <p:spPr>
                <a:xfrm>
                  <a:off x="1442880" y="14408280"/>
                  <a:ext cx="9705960" cy="614160"/>
                </a:xfrm>
                <a:custGeom>
                  <a:avLst/>
                  <a:gdLst/>
                  <a:ahLst/>
                  <a:rect l="l" t="t" r="r" b="b"/>
                  <a:pathLst>
                    <a:path w="6114" h="387">
                      <a:moveTo>
                        <a:pt x="0" y="363"/>
                      </a:moveTo>
                      <a:lnTo>
                        <a:pt x="243" y="0"/>
                      </a:lnTo>
                      <a:lnTo>
                        <a:pt x="5851" y="0"/>
                      </a:lnTo>
                      <a:lnTo>
                        <a:pt x="6114" y="387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76"/>
              <p:cNvGrpSpPr/>
              <p:nvPr/>
            </p:nvGrpSpPr>
            <p:grpSpPr>
              <a:xfrm>
                <a:off x="61920" y="1798560"/>
                <a:ext cx="10736280" cy="13032000"/>
                <a:chOff x="61920" y="1798560"/>
                <a:chExt cx="10736280" cy="13032000"/>
              </a:xfrm>
            </p:grpSpPr>
            <p:sp>
              <p:nvSpPr>
                <p:cNvPr id="75" name="Rectangle 47"/>
                <p:cNvSpPr/>
                <p:nvPr/>
              </p:nvSpPr>
              <p:spPr>
                <a:xfrm>
                  <a:off x="1798560" y="1798560"/>
                  <a:ext cx="8999640" cy="130320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5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77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77"/>
              <p:cNvGrpSpPr/>
              <p:nvPr/>
            </p:nvGrpSpPr>
            <p:grpSpPr>
              <a:xfrm>
                <a:off x="61920" y="1314360"/>
                <a:ext cx="11098080" cy="13878000"/>
                <a:chOff x="61920" y="1314360"/>
                <a:chExt cx="11098080" cy="13878000"/>
              </a:xfrm>
            </p:grpSpPr>
            <p:sp>
              <p:nvSpPr>
                <p:cNvPr id="80" name="Rectangle 46"/>
                <p:cNvSpPr/>
                <p:nvPr/>
              </p:nvSpPr>
              <p:spPr>
                <a:xfrm>
                  <a:off x="1440000" y="1441440"/>
                  <a:ext cx="9720000" cy="1375092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2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88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角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70×3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" name="Picture 83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52200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2087640" indent="-417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924280" indent="-4176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3759120" indent="-4176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8:37:49Z</dcterms:modified>
  <cp:revision>22</cp:revision>
  <dc:subject/>
  <dc:title>スライド 1</dc:title>
</cp:coreProperties>
</file>