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1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8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13" name="Rectangle 22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23"/>
            <p:cNvSpPr/>
            <p:nvPr/>
          </p:nvSpPr>
          <p:spPr>
            <a:xfrm>
              <a:off x="4648320" y="1079640"/>
              <a:ext cx="215640" cy="215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4"/>
            <p:cNvSpPr/>
            <p:nvPr/>
          </p:nvSpPr>
          <p:spPr>
            <a:xfrm>
              <a:off x="4648320" y="3492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Text Box 49"/>
            <p:cNvSpPr/>
            <p:nvPr/>
          </p:nvSpPr>
          <p:spPr>
            <a:xfrm>
              <a:off x="4616280" y="1700280"/>
              <a:ext cx="22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表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54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58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66" name="Rectangle 22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3"/>
            <p:cNvSpPr/>
            <p:nvPr/>
          </p:nvSpPr>
          <p:spPr>
            <a:xfrm>
              <a:off x="4648320" y="1079640"/>
              <a:ext cx="215640" cy="215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4"/>
            <p:cNvSpPr/>
            <p:nvPr/>
          </p:nvSpPr>
          <p:spPr>
            <a:xfrm>
              <a:off x="4648320" y="3492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9"/>
            <p:cNvSpPr/>
            <p:nvPr/>
          </p:nvSpPr>
          <p:spPr>
            <a:xfrm>
              <a:off x="4616280" y="1700280"/>
              <a:ext cx="22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表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グループ化 18"/>
          <p:cNvGrpSpPr/>
          <p:nvPr/>
        </p:nvGrpSpPr>
        <p:grpSpPr>
          <a:xfrm>
            <a:off x="19080" y="54000"/>
            <a:ext cx="5921280" cy="4706640"/>
            <a:chOff x="19080" y="54000"/>
            <a:chExt cx="5921280" cy="4706640"/>
          </a:xfrm>
        </p:grpSpPr>
        <p:pic>
          <p:nvPicPr>
            <p:cNvPr id="71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3522600" y="3810240"/>
              <a:ext cx="236844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グループ化 19"/>
            <p:cNvGrpSpPr/>
            <p:nvPr/>
          </p:nvGrpSpPr>
          <p:grpSpPr>
            <a:xfrm>
              <a:off x="19080" y="54000"/>
              <a:ext cx="5921280" cy="4706640"/>
              <a:chOff x="19080" y="54000"/>
              <a:chExt cx="5921280" cy="4706640"/>
            </a:xfrm>
          </p:grpSpPr>
          <p:grpSp>
            <p:nvGrpSpPr>
              <p:cNvPr id="73" name="Group 54"/>
              <p:cNvGrpSpPr/>
              <p:nvPr/>
            </p:nvGrpSpPr>
            <p:grpSpPr>
              <a:xfrm>
                <a:off x="61920" y="1547640"/>
                <a:ext cx="4334040" cy="1692360"/>
                <a:chOff x="61920" y="1547640"/>
                <a:chExt cx="4334040" cy="1692360"/>
              </a:xfrm>
            </p:grpSpPr>
            <p:sp>
              <p:nvSpPr>
                <p:cNvPr id="74" name="Rectangle 21"/>
                <p:cNvSpPr/>
                <p:nvPr/>
              </p:nvSpPr>
              <p:spPr>
                <a:xfrm>
                  <a:off x="1547640" y="1547640"/>
                  <a:ext cx="2848320" cy="16923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68"/>
                <p:cNvGrpSpPr/>
                <p:nvPr/>
              </p:nvGrpSpPr>
              <p:grpSpPr>
                <a:xfrm>
                  <a:off x="61920" y="1916280"/>
                  <a:ext cx="1476360" cy="684000"/>
                  <a:chOff x="61920" y="1916280"/>
                  <a:chExt cx="1476360" cy="684000"/>
                </a:xfrm>
              </p:grpSpPr>
              <p:sp>
                <p:nvSpPr>
                  <p:cNvPr id="76" name="Line 69"/>
                  <p:cNvSpPr/>
                  <p:nvPr/>
                </p:nvSpPr>
                <p:spPr>
                  <a:xfrm>
                    <a:off x="871560" y="225720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0"/>
                  <p:cNvSpPr/>
                  <p:nvPr/>
                </p:nvSpPr>
                <p:spPr>
                  <a:xfrm>
                    <a:off x="61920" y="191628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71"/>
              <p:cNvGrpSpPr/>
              <p:nvPr/>
            </p:nvGrpSpPr>
            <p:grpSpPr>
              <a:xfrm>
                <a:off x="61920" y="2729160"/>
                <a:ext cx="1260360" cy="539640"/>
                <a:chOff x="61920" y="2729160"/>
                <a:chExt cx="1260360" cy="539640"/>
              </a:xfrm>
            </p:grpSpPr>
            <p:sp>
              <p:nvSpPr>
                <p:cNvPr id="79" name="Line 72"/>
                <p:cNvSpPr/>
                <p:nvPr/>
              </p:nvSpPr>
              <p:spPr>
                <a:xfrm>
                  <a:off x="871560" y="299916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73"/>
                <p:cNvSpPr/>
                <p:nvPr/>
              </p:nvSpPr>
              <p:spPr>
                <a:xfrm>
                  <a:off x="61920" y="272916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47"/>
              <p:cNvGrpSpPr/>
              <p:nvPr/>
            </p:nvGrpSpPr>
            <p:grpSpPr>
              <a:xfrm>
                <a:off x="61920" y="1243080"/>
                <a:ext cx="4441680" cy="2104920"/>
                <a:chOff x="61920" y="1243080"/>
                <a:chExt cx="4441680" cy="2104920"/>
              </a:xfrm>
            </p:grpSpPr>
            <p:sp>
              <p:nvSpPr>
                <p:cNvPr id="82" name="Rectangle 20"/>
                <p:cNvSpPr/>
                <p:nvPr/>
              </p:nvSpPr>
              <p:spPr>
                <a:xfrm>
                  <a:off x="1440000" y="1440000"/>
                  <a:ext cx="3063600" cy="19080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" name="Group 74"/>
                <p:cNvGrpSpPr/>
                <p:nvPr/>
              </p:nvGrpSpPr>
              <p:grpSpPr>
                <a:xfrm>
                  <a:off x="61920" y="1243080"/>
                  <a:ext cx="1368360" cy="544320"/>
                  <a:chOff x="61920" y="1243080"/>
                  <a:chExt cx="1368360" cy="544320"/>
                </a:xfrm>
              </p:grpSpPr>
              <p:sp>
                <p:nvSpPr>
                  <p:cNvPr id="84" name="Line 75"/>
                  <p:cNvSpPr/>
                  <p:nvPr/>
                </p:nvSpPr>
                <p:spPr>
                  <a:xfrm>
                    <a:off x="871560" y="151596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76"/>
                  <p:cNvSpPr/>
                  <p:nvPr/>
                </p:nvSpPr>
                <p:spPr>
                  <a:xfrm>
                    <a:off x="61920" y="124308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6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4923000" y="954000"/>
                <a:ext cx="101736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" name="Group 41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Arial"/>
                    </a:rPr>
                    <a:t>スタンプカード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Arial"/>
                    </a:rPr>
                    <a:t>裏表紙用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5×53m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0" name="Picture 44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" name="Group 50"/>
              <p:cNvGrpSpPr/>
              <p:nvPr/>
            </p:nvGrpSpPr>
            <p:grpSpPr>
              <a:xfrm>
                <a:off x="19080" y="3441960"/>
                <a:ext cx="3732120" cy="1318680"/>
                <a:chOff x="19080" y="3441960"/>
                <a:chExt cx="3732120" cy="1318680"/>
              </a:xfrm>
            </p:grpSpPr>
            <p:pic>
              <p:nvPicPr>
                <p:cNvPr id="92" name="Picture 51" descr="スタンプカードA_イラスト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6720" y="3616920"/>
                  <a:ext cx="1486080" cy="114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52"/>
                <p:cNvSpPr/>
                <p:nvPr/>
              </p:nvSpPr>
              <p:spPr>
                <a:xfrm>
                  <a:off x="19080" y="3441960"/>
                  <a:ext cx="1828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722160"/>
                      <a:tab algn="l" pos="1444680"/>
                      <a:tab algn="l" pos="2166840"/>
                      <a:tab algn="l" pos="2889360"/>
                      <a:tab algn="l" pos="3611520"/>
                      <a:tab algn="l" pos="4334040"/>
                      <a:tab algn="l" pos="5056200"/>
                      <a:tab algn="l" pos="5778360"/>
                      <a:tab algn="l" pos="6500880"/>
                      <a:tab algn="l" pos="7223040"/>
                      <a:tab algn="l" pos="7945560"/>
                      <a:tab algn="l" pos="8667720"/>
                      <a:tab algn="l" pos="9390240"/>
                      <a:tab algn="l" pos="10112400"/>
                      <a:tab algn="l" pos="108345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■</a:t>
                  </a:r>
                  <a:r>
                    <a:rPr b="0" lang="ja-JP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イメー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53"/>
                <p:cNvSpPr/>
                <p:nvPr/>
              </p:nvSpPr>
              <p:spPr>
                <a:xfrm>
                  <a:off x="1579320" y="3827520"/>
                  <a:ext cx="217188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722160"/>
                      <a:tab algn="l" pos="1444680"/>
                      <a:tab algn="l" pos="2166840"/>
                      <a:tab algn="l" pos="2889360"/>
                      <a:tab algn="l" pos="3611520"/>
                      <a:tab algn="l" pos="4334040"/>
                      <a:tab algn="l" pos="5056200"/>
                      <a:tab algn="l" pos="5778360"/>
                      <a:tab algn="l" pos="6500880"/>
                      <a:tab algn="l" pos="7223040"/>
                      <a:tab algn="l" pos="7945560"/>
                      <a:tab algn="l" pos="8667720"/>
                      <a:tab algn="l" pos="9390240"/>
                      <a:tab algn="l" pos="10112400"/>
                      <a:tab algn="l" pos="108345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316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>User</dc:creator>
  <dc:description/>
  <dc:language>en-US</dc:language>
  <cp:lastModifiedBy>ugo-99</cp:lastModifiedBy>
  <dcterms:modified xsi:type="dcterms:W3CDTF">2015-08-26T07:11:13Z</dcterms:modified>
  <cp:revision>8</cp:revision>
  <dc:subject/>
  <dc:title>スライド 1</dc:title>
</cp:coreProperties>
</file>