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940425" cy="4787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10456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91212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9700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10456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391212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97000" y="190800"/>
            <a:ext cx="5345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10456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1212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29700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10456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391212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97000" y="190800"/>
            <a:ext cx="5345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7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1" name="Line 8"/>
            <p:cNvSpPr/>
            <p:nvPr/>
          </p:nvSpPr>
          <p:spPr>
            <a:xfrm>
              <a:off x="1079640" y="1332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1079640" y="1440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1079640" y="3456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079640" y="3348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079640" y="2394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332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1440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4611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4503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7"/>
            <p:cNvSpPr/>
            <p:nvPr/>
          </p:nvSpPr>
          <p:spPr>
            <a:xfrm>
              <a:off x="29718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1332000" y="1332000"/>
              <a:ext cx="3279600" cy="212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8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13" name="Rectangle 22"/>
            <p:cNvSpPr/>
            <p:nvPr/>
          </p:nvSpPr>
          <p:spPr>
            <a:xfrm>
              <a:off x="1079640" y="1079640"/>
              <a:ext cx="190440" cy="190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23"/>
            <p:cNvSpPr/>
            <p:nvPr/>
          </p:nvSpPr>
          <p:spPr>
            <a:xfrm>
              <a:off x="4648320" y="1079640"/>
              <a:ext cx="215640" cy="215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ＭＳ Ｐ明朝"/>
                  <a:ea typeface="ＭＳ Ｐ明朝"/>
                </a:rPr>
                <a:t>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24"/>
            <p:cNvSpPr/>
            <p:nvPr/>
          </p:nvSpPr>
          <p:spPr>
            <a:xfrm>
              <a:off x="4648320" y="34923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ＭＳ Ｐ明朝"/>
                  <a:ea typeface="ＭＳ Ｐ明朝"/>
                </a:rPr>
                <a:t>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Text Box 49"/>
            <p:cNvSpPr/>
            <p:nvPr/>
          </p:nvSpPr>
          <p:spPr>
            <a:xfrm>
              <a:off x="4616280" y="1700280"/>
              <a:ext cx="228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表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7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54" name="Line 8"/>
            <p:cNvSpPr/>
            <p:nvPr/>
          </p:nvSpPr>
          <p:spPr>
            <a:xfrm>
              <a:off x="1079640" y="1332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1079640" y="1440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1079640" y="3456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1079640" y="3348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1079640" y="2394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1332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1440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4611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4503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29718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1332000" y="1332000"/>
              <a:ext cx="3279600" cy="212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58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66" name="Rectangle 22"/>
            <p:cNvSpPr/>
            <p:nvPr/>
          </p:nvSpPr>
          <p:spPr>
            <a:xfrm>
              <a:off x="1079640" y="1079640"/>
              <a:ext cx="190440" cy="190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3"/>
            <p:cNvSpPr/>
            <p:nvPr/>
          </p:nvSpPr>
          <p:spPr>
            <a:xfrm>
              <a:off x="4648320" y="1079640"/>
              <a:ext cx="215640" cy="215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ＭＳ Ｐ明朝"/>
                  <a:ea typeface="ＭＳ Ｐ明朝"/>
                </a:rPr>
                <a:t>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4"/>
            <p:cNvSpPr/>
            <p:nvPr/>
          </p:nvSpPr>
          <p:spPr>
            <a:xfrm>
              <a:off x="4648320" y="34923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ＭＳ Ｐ明朝"/>
                  <a:ea typeface="ＭＳ Ｐ明朝"/>
                </a:rPr>
                <a:t>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9"/>
            <p:cNvSpPr/>
            <p:nvPr/>
          </p:nvSpPr>
          <p:spPr>
            <a:xfrm>
              <a:off x="4616280" y="1700280"/>
              <a:ext cx="228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表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グループ化 18"/>
          <p:cNvGrpSpPr/>
          <p:nvPr/>
        </p:nvGrpSpPr>
        <p:grpSpPr>
          <a:xfrm>
            <a:off x="19080" y="54000"/>
            <a:ext cx="5931000" cy="4706640"/>
            <a:chOff x="19080" y="54000"/>
            <a:chExt cx="5931000" cy="4706640"/>
          </a:xfrm>
        </p:grpSpPr>
        <p:pic>
          <p:nvPicPr>
            <p:cNvPr id="71" name="図 5" descr="">
              <a:hlinkClick r:id="rId2"/>
            </p:cNvPr>
            <p:cNvPicPr/>
            <p:nvPr/>
          </p:nvPicPr>
          <p:blipFill>
            <a:blip r:embed="rId3"/>
            <a:srcRect l="0" t="0" r="40409" b="0"/>
            <a:stretch/>
          </p:blipFill>
          <p:spPr>
            <a:xfrm>
              <a:off x="3522960" y="3810240"/>
              <a:ext cx="2368440" cy="8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グループ化 20"/>
            <p:cNvGrpSpPr/>
            <p:nvPr/>
          </p:nvGrpSpPr>
          <p:grpSpPr>
            <a:xfrm>
              <a:off x="19080" y="54000"/>
              <a:ext cx="5931000" cy="4706640"/>
              <a:chOff x="19080" y="54000"/>
              <a:chExt cx="5931000" cy="4706640"/>
            </a:xfrm>
          </p:grpSpPr>
          <p:grpSp>
            <p:nvGrpSpPr>
              <p:cNvPr id="73" name="Group 55"/>
              <p:cNvGrpSpPr/>
              <p:nvPr/>
            </p:nvGrpSpPr>
            <p:grpSpPr>
              <a:xfrm>
                <a:off x="61920" y="1547640"/>
                <a:ext cx="4334040" cy="1692360"/>
                <a:chOff x="61920" y="1547640"/>
                <a:chExt cx="4334040" cy="1692360"/>
              </a:xfrm>
            </p:grpSpPr>
            <p:sp>
              <p:nvSpPr>
                <p:cNvPr id="74" name="Rectangle 21"/>
                <p:cNvSpPr/>
                <p:nvPr/>
              </p:nvSpPr>
              <p:spPr>
                <a:xfrm>
                  <a:off x="1547640" y="1547640"/>
                  <a:ext cx="2848320" cy="169236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68"/>
                <p:cNvGrpSpPr/>
                <p:nvPr/>
              </p:nvGrpSpPr>
              <p:grpSpPr>
                <a:xfrm>
                  <a:off x="61920" y="1916280"/>
                  <a:ext cx="1476360" cy="684000"/>
                  <a:chOff x="61920" y="1916280"/>
                  <a:chExt cx="1476360" cy="684000"/>
                </a:xfrm>
              </p:grpSpPr>
              <p:sp>
                <p:nvSpPr>
                  <p:cNvPr id="76" name="Line 69"/>
                  <p:cNvSpPr/>
                  <p:nvPr/>
                </p:nvSpPr>
                <p:spPr>
                  <a:xfrm>
                    <a:off x="871560" y="225720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70"/>
                  <p:cNvSpPr/>
                  <p:nvPr/>
                </p:nvSpPr>
                <p:spPr>
                  <a:xfrm>
                    <a:off x="61920" y="1916280"/>
                    <a:ext cx="93636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" name="Group 71"/>
              <p:cNvGrpSpPr/>
              <p:nvPr/>
            </p:nvGrpSpPr>
            <p:grpSpPr>
              <a:xfrm>
                <a:off x="61920" y="2729160"/>
                <a:ext cx="1260360" cy="539640"/>
                <a:chOff x="61920" y="2729160"/>
                <a:chExt cx="1260360" cy="539640"/>
              </a:xfrm>
            </p:grpSpPr>
            <p:sp>
              <p:nvSpPr>
                <p:cNvPr id="79" name="Line 72"/>
                <p:cNvSpPr/>
                <p:nvPr/>
              </p:nvSpPr>
              <p:spPr>
                <a:xfrm>
                  <a:off x="871560" y="299916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73"/>
                <p:cNvSpPr/>
                <p:nvPr/>
              </p:nvSpPr>
              <p:spPr>
                <a:xfrm>
                  <a:off x="61920" y="272916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47"/>
              <p:cNvGrpSpPr/>
              <p:nvPr/>
            </p:nvGrpSpPr>
            <p:grpSpPr>
              <a:xfrm>
                <a:off x="61920" y="1243080"/>
                <a:ext cx="4441680" cy="2104920"/>
                <a:chOff x="61920" y="1243080"/>
                <a:chExt cx="4441680" cy="2104920"/>
              </a:xfrm>
            </p:grpSpPr>
            <p:sp>
              <p:nvSpPr>
                <p:cNvPr id="82" name="Rectangle 20"/>
                <p:cNvSpPr/>
                <p:nvPr/>
              </p:nvSpPr>
              <p:spPr>
                <a:xfrm>
                  <a:off x="1440000" y="1440000"/>
                  <a:ext cx="3063600" cy="190800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" name="Group 74"/>
                <p:cNvGrpSpPr/>
                <p:nvPr/>
              </p:nvGrpSpPr>
              <p:grpSpPr>
                <a:xfrm>
                  <a:off x="61920" y="1243080"/>
                  <a:ext cx="1368360" cy="544320"/>
                  <a:chOff x="61920" y="1243080"/>
                  <a:chExt cx="1368360" cy="544320"/>
                </a:xfrm>
              </p:grpSpPr>
              <p:sp>
                <p:nvSpPr>
                  <p:cNvPr id="84" name="Line 75"/>
                  <p:cNvSpPr/>
                  <p:nvPr/>
                </p:nvSpPr>
                <p:spPr>
                  <a:xfrm>
                    <a:off x="871560" y="151596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76"/>
                  <p:cNvSpPr/>
                  <p:nvPr/>
                </p:nvSpPr>
                <p:spPr>
                  <a:xfrm>
                    <a:off x="61920" y="1243080"/>
                    <a:ext cx="93636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6" name="Picture 77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4932720" y="954000"/>
                <a:ext cx="101736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" name="Group 41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Arial"/>
                    </a:rPr>
                    <a:t>スタンプカード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Arial"/>
                    </a:rPr>
                    <a:t>表紙用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85×53m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0" name="Picture 44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1" name="Group 50"/>
              <p:cNvGrpSpPr/>
              <p:nvPr/>
            </p:nvGrpSpPr>
            <p:grpSpPr>
              <a:xfrm>
                <a:off x="19080" y="3441960"/>
                <a:ext cx="3732480" cy="1318680"/>
                <a:chOff x="19080" y="3441960"/>
                <a:chExt cx="3732480" cy="1318680"/>
              </a:xfrm>
            </p:grpSpPr>
            <p:pic>
              <p:nvPicPr>
                <p:cNvPr id="92" name="Picture 51" descr="スタンプカードA_イラスト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6720" y="3616920"/>
                  <a:ext cx="1486080" cy="114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Text Box 52"/>
                <p:cNvSpPr/>
                <p:nvPr/>
              </p:nvSpPr>
              <p:spPr>
                <a:xfrm>
                  <a:off x="19080" y="3441960"/>
                  <a:ext cx="1829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722160"/>
                      <a:tab algn="l" pos="1444680"/>
                      <a:tab algn="l" pos="2166840"/>
                      <a:tab algn="l" pos="2889360"/>
                      <a:tab algn="l" pos="3611520"/>
                      <a:tab algn="l" pos="4334040"/>
                      <a:tab algn="l" pos="5056200"/>
                      <a:tab algn="l" pos="5778360"/>
                      <a:tab algn="l" pos="6500880"/>
                      <a:tab algn="l" pos="7223040"/>
                      <a:tab algn="l" pos="7945560"/>
                      <a:tab algn="l" pos="8667720"/>
                      <a:tab algn="l" pos="9390240"/>
                      <a:tab algn="l" pos="10112400"/>
                      <a:tab algn="l" pos="108345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■</a:t>
                  </a:r>
                  <a:r>
                    <a:rPr b="0" lang="ja-JP" sz="9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イメージ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Text Box 53"/>
                <p:cNvSpPr/>
                <p:nvPr/>
              </p:nvSpPr>
              <p:spPr>
                <a:xfrm>
                  <a:off x="1579320" y="3827520"/>
                  <a:ext cx="217224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722160"/>
                      <a:tab algn="l" pos="1444680"/>
                      <a:tab algn="l" pos="2166840"/>
                      <a:tab algn="l" pos="2889360"/>
                      <a:tab algn="l" pos="3611520"/>
                      <a:tab algn="l" pos="4334040"/>
                      <a:tab algn="l" pos="5056200"/>
                      <a:tab algn="l" pos="5778360"/>
                      <a:tab algn="l" pos="6500880"/>
                      <a:tab algn="l" pos="7223040"/>
                      <a:tab algn="l" pos="7945560"/>
                      <a:tab algn="l" pos="8667720"/>
                      <a:tab algn="l" pos="9390240"/>
                      <a:tab algn="l" pos="10112400"/>
                      <a:tab algn="l" pos="10834560"/>
                    </a:tabLst>
                  </a:pPr>
                  <a:r>
                    <a:rPr b="0" lang="ja-JP" sz="9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表紙は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180</a:t>
                  </a:r>
                  <a:r>
                    <a:rPr b="0" lang="ja-JP" sz="9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度回転になります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2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316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8:22:24Z</dcterms:created>
  <dc:creator>User</dc:creator>
  <dc:description/>
  <dc:language>en-US</dc:language>
  <cp:lastModifiedBy>ugo-99</cp:lastModifiedBy>
  <dcterms:modified xsi:type="dcterms:W3CDTF">2015-08-26T07:08:34Z</dcterms:modified>
  <cp:revision>7</cp:revision>
  <dc:subject/>
  <dc:title>スライド 1</dc:title>
</cp:coreProperties>
</file>