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480175" cy="82073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24000" y="327240"/>
            <a:ext cx="583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24000" y="1920600"/>
            <a:ext cx="583164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00" y="4406760"/>
            <a:ext cx="583164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4000" y="327240"/>
            <a:ext cx="583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24000" y="1920600"/>
            <a:ext cx="284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12360" y="1920600"/>
            <a:ext cx="284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324000" y="4406760"/>
            <a:ext cx="284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3312360" y="4406760"/>
            <a:ext cx="284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24000" y="327240"/>
            <a:ext cx="583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24000" y="1920600"/>
            <a:ext cx="1877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2295720" y="1920600"/>
            <a:ext cx="1877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267440" y="1920600"/>
            <a:ext cx="1877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324000" y="4406760"/>
            <a:ext cx="1877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2295720" y="4406760"/>
            <a:ext cx="1877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4267440" y="4406760"/>
            <a:ext cx="1877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24000" y="327240"/>
            <a:ext cx="583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324000" y="1920600"/>
            <a:ext cx="583164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24000" y="327240"/>
            <a:ext cx="583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24000" y="1920600"/>
            <a:ext cx="583164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24000" y="327240"/>
            <a:ext cx="583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4000" y="1920600"/>
            <a:ext cx="284580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312360" y="1920600"/>
            <a:ext cx="284580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24000" y="327240"/>
            <a:ext cx="583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324000" y="327240"/>
            <a:ext cx="5831640" cy="635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24000" y="327240"/>
            <a:ext cx="583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24000" y="1920600"/>
            <a:ext cx="284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2360" y="1920600"/>
            <a:ext cx="284580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324000" y="4406760"/>
            <a:ext cx="284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24000" y="327240"/>
            <a:ext cx="583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324000" y="1920600"/>
            <a:ext cx="583164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24000" y="327240"/>
            <a:ext cx="583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24000" y="1920600"/>
            <a:ext cx="284580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312360" y="1920600"/>
            <a:ext cx="284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3312360" y="4406760"/>
            <a:ext cx="284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24000" y="327240"/>
            <a:ext cx="583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24000" y="1920600"/>
            <a:ext cx="284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312360" y="1920600"/>
            <a:ext cx="284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324000" y="4406760"/>
            <a:ext cx="583164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24000" y="327240"/>
            <a:ext cx="583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24000" y="1920600"/>
            <a:ext cx="583164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4000" y="4406760"/>
            <a:ext cx="583164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24000" y="327240"/>
            <a:ext cx="583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24000" y="1920600"/>
            <a:ext cx="284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2360" y="1920600"/>
            <a:ext cx="284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24000" y="4406760"/>
            <a:ext cx="284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312360" y="4406760"/>
            <a:ext cx="284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24000" y="327240"/>
            <a:ext cx="583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24000" y="1920600"/>
            <a:ext cx="1877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295720" y="1920600"/>
            <a:ext cx="1877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267440" y="1920600"/>
            <a:ext cx="1877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324000" y="4406760"/>
            <a:ext cx="1877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295720" y="4406760"/>
            <a:ext cx="1877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4267440" y="4406760"/>
            <a:ext cx="1877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24000" y="327240"/>
            <a:ext cx="583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24000" y="1920600"/>
            <a:ext cx="583164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24000" y="327240"/>
            <a:ext cx="583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24000" y="1920600"/>
            <a:ext cx="284580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3312360" y="1920600"/>
            <a:ext cx="284580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24000" y="327240"/>
            <a:ext cx="583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324000" y="327240"/>
            <a:ext cx="5831640" cy="635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4000" y="327240"/>
            <a:ext cx="583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4000" y="1920600"/>
            <a:ext cx="284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312360" y="1920600"/>
            <a:ext cx="284580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24000" y="4406760"/>
            <a:ext cx="284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24000" y="327240"/>
            <a:ext cx="583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24000" y="1920600"/>
            <a:ext cx="284580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312360" y="1920600"/>
            <a:ext cx="284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312360" y="4406760"/>
            <a:ext cx="284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24000" y="327240"/>
            <a:ext cx="583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24000" y="1920600"/>
            <a:ext cx="284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2360" y="1920600"/>
            <a:ext cx="284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24000" y="4406760"/>
            <a:ext cx="583164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hyperlink" Target="http://www.suprint.jp/studio/design_inquiry/regist.php" TargetMode="External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81"/>
          <p:cNvGrpSpPr/>
          <p:nvPr/>
        </p:nvGrpSpPr>
        <p:grpSpPr>
          <a:xfrm>
            <a:off x="1079640" y="1079640"/>
            <a:ext cx="4321080" cy="6049800"/>
            <a:chOff x="1079640" y="1079640"/>
            <a:chExt cx="4321080" cy="6049800"/>
          </a:xfrm>
        </p:grpSpPr>
        <p:grpSp>
          <p:nvGrpSpPr>
            <p:cNvPr id="1" name="Group 63"/>
            <p:cNvGrpSpPr/>
            <p:nvPr/>
          </p:nvGrpSpPr>
          <p:grpSpPr>
            <a:xfrm>
              <a:off x="1079640" y="1079640"/>
              <a:ext cx="4321080" cy="6049800"/>
              <a:chOff x="1079640" y="1079640"/>
              <a:chExt cx="4321080" cy="6049800"/>
            </a:xfrm>
          </p:grpSpPr>
          <p:sp>
            <p:nvSpPr>
              <p:cNvPr id="2" name="Line 22"/>
              <p:cNvSpPr/>
              <p:nvPr/>
            </p:nvSpPr>
            <p:spPr>
              <a:xfrm>
                <a:off x="1079640" y="1330200"/>
                <a:ext cx="43210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Line 23"/>
              <p:cNvSpPr/>
              <p:nvPr/>
            </p:nvSpPr>
            <p:spPr>
              <a:xfrm>
                <a:off x="1079640" y="1438200"/>
                <a:ext cx="43210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24"/>
              <p:cNvSpPr/>
              <p:nvPr/>
            </p:nvSpPr>
            <p:spPr>
              <a:xfrm>
                <a:off x="1079640" y="4102200"/>
                <a:ext cx="43210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Line 25"/>
              <p:cNvSpPr/>
              <p:nvPr/>
            </p:nvSpPr>
            <p:spPr>
              <a:xfrm>
                <a:off x="1079640" y="6764400"/>
                <a:ext cx="43210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Line 26"/>
              <p:cNvSpPr/>
              <p:nvPr/>
            </p:nvSpPr>
            <p:spPr>
              <a:xfrm>
                <a:off x="1079640" y="6875640"/>
                <a:ext cx="43210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Line 27"/>
              <p:cNvSpPr/>
              <p:nvPr/>
            </p:nvSpPr>
            <p:spPr>
              <a:xfrm>
                <a:off x="1330200" y="1079640"/>
                <a:ext cx="0" cy="6049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Line 28"/>
              <p:cNvSpPr/>
              <p:nvPr/>
            </p:nvSpPr>
            <p:spPr>
              <a:xfrm>
                <a:off x="1438200" y="1079640"/>
                <a:ext cx="0" cy="6049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Line 29"/>
              <p:cNvSpPr/>
              <p:nvPr/>
            </p:nvSpPr>
            <p:spPr>
              <a:xfrm>
                <a:off x="3240000" y="1079640"/>
                <a:ext cx="0" cy="6049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Line 30"/>
              <p:cNvSpPr/>
              <p:nvPr/>
            </p:nvSpPr>
            <p:spPr>
              <a:xfrm>
                <a:off x="5037120" y="1079640"/>
                <a:ext cx="0" cy="6049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Line 31"/>
              <p:cNvSpPr/>
              <p:nvPr/>
            </p:nvSpPr>
            <p:spPr>
              <a:xfrm>
                <a:off x="5145120" y="1079640"/>
                <a:ext cx="0" cy="6049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" name="Rectangle 32"/>
            <p:cNvSpPr/>
            <p:nvPr/>
          </p:nvSpPr>
          <p:spPr>
            <a:xfrm>
              <a:off x="1330200" y="1330200"/>
              <a:ext cx="3814920" cy="554544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" name="Text Box 12"/>
          <p:cNvSpPr/>
          <p:nvPr/>
        </p:nvSpPr>
        <p:spPr>
          <a:xfrm>
            <a:off x="1079640" y="1079640"/>
            <a:ext cx="190440" cy="190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" name="Group 83"/>
          <p:cNvGrpSpPr/>
          <p:nvPr/>
        </p:nvGrpSpPr>
        <p:grpSpPr>
          <a:xfrm>
            <a:off x="5227560" y="996840"/>
            <a:ext cx="244440" cy="6204240"/>
            <a:chOff x="5227560" y="996840"/>
            <a:chExt cx="244440" cy="6204240"/>
          </a:xfrm>
        </p:grpSpPr>
        <p:sp>
          <p:nvSpPr>
            <p:cNvPr id="15" name="Oval 95"/>
            <p:cNvSpPr/>
            <p:nvPr/>
          </p:nvSpPr>
          <p:spPr>
            <a:xfrm>
              <a:off x="5229360" y="996840"/>
              <a:ext cx="242640" cy="243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96960"/>
                  <a:tab algn="l" pos="1393920"/>
                  <a:tab algn="l" pos="2090880"/>
                  <a:tab algn="l" pos="2787480"/>
                  <a:tab algn="l" pos="3484440"/>
                  <a:tab algn="l" pos="4181400"/>
                  <a:tab algn="l" pos="4878360"/>
                  <a:tab algn="l" pos="5575320"/>
                  <a:tab algn="l" pos="6272280"/>
                  <a:tab algn="l" pos="6969240"/>
                  <a:tab algn="l" pos="7666200"/>
                  <a:tab algn="l" pos="8362800"/>
                  <a:tab algn="l" pos="9059760"/>
                  <a:tab algn="l" pos="9756720"/>
                  <a:tab algn="l" pos="1045368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Century"/>
                  <a:ea typeface="ＭＳ 明朝"/>
                </a:rPr>
                <a:t>天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96960"/>
                  <a:tab algn="l" pos="1393920"/>
                  <a:tab algn="l" pos="2090880"/>
                  <a:tab algn="l" pos="2787480"/>
                  <a:tab algn="l" pos="3484440"/>
                  <a:tab algn="l" pos="4181400"/>
                  <a:tab algn="l" pos="4878360"/>
                  <a:tab algn="l" pos="5575320"/>
                  <a:tab algn="l" pos="6272280"/>
                  <a:tab algn="l" pos="6969240"/>
                  <a:tab algn="l" pos="7666200"/>
                  <a:tab algn="l" pos="8362800"/>
                  <a:tab algn="l" pos="9059760"/>
                  <a:tab algn="l" pos="9756720"/>
                  <a:tab algn="l" pos="1045368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96"/>
            <p:cNvSpPr/>
            <p:nvPr/>
          </p:nvSpPr>
          <p:spPr>
            <a:xfrm>
              <a:off x="5227560" y="6958080"/>
              <a:ext cx="243000" cy="243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96960"/>
                  <a:tab algn="l" pos="1393920"/>
                  <a:tab algn="l" pos="2090880"/>
                  <a:tab algn="l" pos="2787480"/>
                  <a:tab algn="l" pos="3484440"/>
                  <a:tab algn="l" pos="4181400"/>
                  <a:tab algn="l" pos="4878360"/>
                  <a:tab algn="l" pos="5575320"/>
                  <a:tab algn="l" pos="6272280"/>
                  <a:tab algn="l" pos="6969240"/>
                  <a:tab algn="l" pos="7666200"/>
                  <a:tab algn="l" pos="8362800"/>
                  <a:tab algn="l" pos="9059760"/>
                  <a:tab algn="l" pos="9756720"/>
                  <a:tab algn="l" pos="1045368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Century"/>
                  <a:ea typeface="ＭＳ 明朝"/>
                </a:rPr>
                <a:t>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96960"/>
                  <a:tab algn="l" pos="1393920"/>
                  <a:tab algn="l" pos="2090880"/>
                  <a:tab algn="l" pos="2787480"/>
                  <a:tab algn="l" pos="3484440"/>
                  <a:tab algn="l" pos="4181400"/>
                  <a:tab algn="l" pos="4878360"/>
                  <a:tab algn="l" pos="5575320"/>
                  <a:tab algn="l" pos="6272280"/>
                  <a:tab algn="l" pos="6969240"/>
                  <a:tab algn="l" pos="7666200"/>
                  <a:tab algn="l" pos="8362800"/>
                  <a:tab algn="l" pos="9059760"/>
                  <a:tab algn="l" pos="9756720"/>
                  <a:tab algn="l" pos="1045368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Group 81"/>
          <p:cNvGrpSpPr/>
          <p:nvPr/>
        </p:nvGrpSpPr>
        <p:grpSpPr>
          <a:xfrm>
            <a:off x="1079640" y="1079640"/>
            <a:ext cx="4321080" cy="6049800"/>
            <a:chOff x="1079640" y="1079640"/>
            <a:chExt cx="4321080" cy="6049800"/>
          </a:xfrm>
        </p:grpSpPr>
        <p:grpSp>
          <p:nvGrpSpPr>
            <p:cNvPr id="54" name="Group 63"/>
            <p:cNvGrpSpPr/>
            <p:nvPr/>
          </p:nvGrpSpPr>
          <p:grpSpPr>
            <a:xfrm>
              <a:off x="1079640" y="1079640"/>
              <a:ext cx="4321080" cy="6049800"/>
              <a:chOff x="1079640" y="1079640"/>
              <a:chExt cx="4321080" cy="6049800"/>
            </a:xfrm>
          </p:grpSpPr>
          <p:sp>
            <p:nvSpPr>
              <p:cNvPr id="55" name="Line 22"/>
              <p:cNvSpPr/>
              <p:nvPr/>
            </p:nvSpPr>
            <p:spPr>
              <a:xfrm>
                <a:off x="1079640" y="1330200"/>
                <a:ext cx="43210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Line 23"/>
              <p:cNvSpPr/>
              <p:nvPr/>
            </p:nvSpPr>
            <p:spPr>
              <a:xfrm>
                <a:off x="1079640" y="1438200"/>
                <a:ext cx="43210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Line 24"/>
              <p:cNvSpPr/>
              <p:nvPr/>
            </p:nvSpPr>
            <p:spPr>
              <a:xfrm>
                <a:off x="1079640" y="4102200"/>
                <a:ext cx="43210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Line 25"/>
              <p:cNvSpPr/>
              <p:nvPr/>
            </p:nvSpPr>
            <p:spPr>
              <a:xfrm>
                <a:off x="1079640" y="6764400"/>
                <a:ext cx="43210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Line 26"/>
              <p:cNvSpPr/>
              <p:nvPr/>
            </p:nvSpPr>
            <p:spPr>
              <a:xfrm>
                <a:off x="1079640" y="6875640"/>
                <a:ext cx="43210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Line 27"/>
              <p:cNvSpPr/>
              <p:nvPr/>
            </p:nvSpPr>
            <p:spPr>
              <a:xfrm>
                <a:off x="1330200" y="1079640"/>
                <a:ext cx="0" cy="6049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Line 28"/>
              <p:cNvSpPr/>
              <p:nvPr/>
            </p:nvSpPr>
            <p:spPr>
              <a:xfrm>
                <a:off x="1438200" y="1079640"/>
                <a:ext cx="0" cy="6049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Line 29"/>
              <p:cNvSpPr/>
              <p:nvPr/>
            </p:nvSpPr>
            <p:spPr>
              <a:xfrm>
                <a:off x="3240000" y="1079640"/>
                <a:ext cx="0" cy="6049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Line 30"/>
              <p:cNvSpPr/>
              <p:nvPr/>
            </p:nvSpPr>
            <p:spPr>
              <a:xfrm>
                <a:off x="5037120" y="1079640"/>
                <a:ext cx="0" cy="6049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Line 31"/>
              <p:cNvSpPr/>
              <p:nvPr/>
            </p:nvSpPr>
            <p:spPr>
              <a:xfrm>
                <a:off x="5145120" y="1079640"/>
                <a:ext cx="0" cy="6049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" name="Rectangle 32"/>
            <p:cNvSpPr/>
            <p:nvPr/>
          </p:nvSpPr>
          <p:spPr>
            <a:xfrm>
              <a:off x="1330200" y="1330200"/>
              <a:ext cx="3814920" cy="554544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Text Box 12"/>
          <p:cNvSpPr/>
          <p:nvPr/>
        </p:nvSpPr>
        <p:spPr>
          <a:xfrm>
            <a:off x="1079640" y="1079640"/>
            <a:ext cx="190440" cy="190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Group 83"/>
          <p:cNvGrpSpPr/>
          <p:nvPr/>
        </p:nvGrpSpPr>
        <p:grpSpPr>
          <a:xfrm>
            <a:off x="5227560" y="996840"/>
            <a:ext cx="244440" cy="6204240"/>
            <a:chOff x="5227560" y="996840"/>
            <a:chExt cx="244440" cy="6204240"/>
          </a:xfrm>
        </p:grpSpPr>
        <p:sp>
          <p:nvSpPr>
            <p:cNvPr id="68" name="Oval 95"/>
            <p:cNvSpPr/>
            <p:nvPr/>
          </p:nvSpPr>
          <p:spPr>
            <a:xfrm>
              <a:off x="5229360" y="996840"/>
              <a:ext cx="242640" cy="243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96960"/>
                  <a:tab algn="l" pos="1393920"/>
                  <a:tab algn="l" pos="2090880"/>
                  <a:tab algn="l" pos="2787480"/>
                  <a:tab algn="l" pos="3484440"/>
                  <a:tab algn="l" pos="4181400"/>
                  <a:tab algn="l" pos="4878360"/>
                  <a:tab algn="l" pos="5575320"/>
                  <a:tab algn="l" pos="6272280"/>
                  <a:tab algn="l" pos="6969240"/>
                  <a:tab algn="l" pos="7666200"/>
                  <a:tab algn="l" pos="8362800"/>
                  <a:tab algn="l" pos="9059760"/>
                  <a:tab algn="l" pos="9756720"/>
                  <a:tab algn="l" pos="1045368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Century"/>
                  <a:ea typeface="ＭＳ 明朝"/>
                </a:rPr>
                <a:t>天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96960"/>
                  <a:tab algn="l" pos="1393920"/>
                  <a:tab algn="l" pos="2090880"/>
                  <a:tab algn="l" pos="2787480"/>
                  <a:tab algn="l" pos="3484440"/>
                  <a:tab algn="l" pos="4181400"/>
                  <a:tab algn="l" pos="4878360"/>
                  <a:tab algn="l" pos="5575320"/>
                  <a:tab algn="l" pos="6272280"/>
                  <a:tab algn="l" pos="6969240"/>
                  <a:tab algn="l" pos="7666200"/>
                  <a:tab algn="l" pos="8362800"/>
                  <a:tab algn="l" pos="9059760"/>
                  <a:tab algn="l" pos="9756720"/>
                  <a:tab algn="l" pos="1045368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Oval 96"/>
            <p:cNvSpPr/>
            <p:nvPr/>
          </p:nvSpPr>
          <p:spPr>
            <a:xfrm>
              <a:off x="5227560" y="6958080"/>
              <a:ext cx="243000" cy="243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96960"/>
                  <a:tab algn="l" pos="1393920"/>
                  <a:tab algn="l" pos="2090880"/>
                  <a:tab algn="l" pos="2787480"/>
                  <a:tab algn="l" pos="3484440"/>
                  <a:tab algn="l" pos="4181400"/>
                  <a:tab algn="l" pos="4878360"/>
                  <a:tab algn="l" pos="5575320"/>
                  <a:tab algn="l" pos="6272280"/>
                  <a:tab algn="l" pos="6969240"/>
                  <a:tab algn="l" pos="7666200"/>
                  <a:tab algn="l" pos="8362800"/>
                  <a:tab algn="l" pos="9059760"/>
                  <a:tab algn="l" pos="9756720"/>
                  <a:tab algn="l" pos="1045368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Century"/>
                  <a:ea typeface="ＭＳ 明朝"/>
                </a:rPr>
                <a:t>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96960"/>
                  <a:tab algn="l" pos="1393920"/>
                  <a:tab algn="l" pos="2090880"/>
                  <a:tab algn="l" pos="2787480"/>
                  <a:tab algn="l" pos="3484440"/>
                  <a:tab algn="l" pos="4181400"/>
                  <a:tab algn="l" pos="4878360"/>
                  <a:tab algn="l" pos="5575320"/>
                  <a:tab algn="l" pos="6272280"/>
                  <a:tab algn="l" pos="6969240"/>
                  <a:tab algn="l" pos="7666200"/>
                  <a:tab algn="l" pos="8362800"/>
                  <a:tab algn="l" pos="9059760"/>
                  <a:tab algn="l" pos="9756720"/>
                  <a:tab algn="l" pos="1045368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グループ化 18"/>
          <p:cNvGrpSpPr/>
          <p:nvPr/>
        </p:nvGrpSpPr>
        <p:grpSpPr>
          <a:xfrm>
            <a:off x="54000" y="54000"/>
            <a:ext cx="6426000" cy="8026200"/>
            <a:chOff x="54000" y="54000"/>
            <a:chExt cx="6426000" cy="8026200"/>
          </a:xfrm>
        </p:grpSpPr>
        <p:grpSp>
          <p:nvGrpSpPr>
            <p:cNvPr id="71" name="Group 80"/>
            <p:cNvGrpSpPr/>
            <p:nvPr/>
          </p:nvGrpSpPr>
          <p:grpSpPr>
            <a:xfrm>
              <a:off x="54000" y="54000"/>
              <a:ext cx="6426000" cy="6715080"/>
              <a:chOff x="54000" y="54000"/>
              <a:chExt cx="6426000" cy="6715080"/>
            </a:xfrm>
          </p:grpSpPr>
          <p:grpSp>
            <p:nvGrpSpPr>
              <p:cNvPr id="72" name="Group 77"/>
              <p:cNvGrpSpPr/>
              <p:nvPr/>
            </p:nvGrpSpPr>
            <p:grpSpPr>
              <a:xfrm>
                <a:off x="61920" y="1547640"/>
                <a:ext cx="4870440" cy="5113440"/>
                <a:chOff x="61920" y="1547640"/>
                <a:chExt cx="4870440" cy="5113440"/>
              </a:xfrm>
            </p:grpSpPr>
            <p:sp>
              <p:nvSpPr>
                <p:cNvPr id="73" name="Rectangle 48"/>
                <p:cNvSpPr/>
                <p:nvPr/>
              </p:nvSpPr>
              <p:spPr>
                <a:xfrm>
                  <a:off x="1547640" y="1547640"/>
                  <a:ext cx="3384720" cy="5113440"/>
                </a:xfrm>
                <a:prstGeom prst="rect">
                  <a:avLst/>
                </a:prstGeom>
                <a:noFill/>
                <a:ln w="64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4160" rIns="74160" tIns="9000" bIns="9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4" name="Group 68"/>
                <p:cNvGrpSpPr/>
                <p:nvPr/>
              </p:nvGrpSpPr>
              <p:grpSpPr>
                <a:xfrm>
                  <a:off x="61920" y="1987560"/>
                  <a:ext cx="1476360" cy="684360"/>
                  <a:chOff x="61920" y="1987560"/>
                  <a:chExt cx="1476360" cy="684360"/>
                </a:xfrm>
              </p:grpSpPr>
              <p:sp>
                <p:nvSpPr>
                  <p:cNvPr id="75" name="Line 69"/>
                  <p:cNvSpPr/>
                  <p:nvPr/>
                </p:nvSpPr>
                <p:spPr>
                  <a:xfrm>
                    <a:off x="871560" y="2328480"/>
                    <a:ext cx="666720" cy="0"/>
                  </a:xfrm>
                  <a:prstGeom prst="line">
                    <a:avLst/>
                  </a:prstGeom>
                  <a:ln w="9360">
                    <a:solidFill>
                      <a:srgbClr val="00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Text Box 70"/>
                  <p:cNvSpPr/>
                  <p:nvPr/>
                </p:nvSpPr>
                <p:spPr>
                  <a:xfrm>
                    <a:off x="61920" y="1987560"/>
                    <a:ext cx="936360" cy="6843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1" lang="ja-JP" sz="1000" spc="-1" strike="noStrike">
                        <a:solidFill>
                          <a:srgbClr val="ff0000"/>
                        </a:solidFill>
                        <a:latin typeface="Century"/>
                        <a:ea typeface="ＭＳ 明朝"/>
                      </a:rPr>
                      <a:t>切れては困る物</a:t>
                    </a: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はこの</a:t>
                    </a:r>
                    <a:r>
                      <a:rPr b="1" lang="ja-JP" sz="1000" spc="-1" strike="noStrike">
                        <a:solidFill>
                          <a:srgbClr val="ff0000"/>
                        </a:solidFill>
                        <a:latin typeface="Century"/>
                        <a:ea typeface="ＭＳ 明朝"/>
                      </a:rPr>
                      <a:t>水色</a:t>
                    </a: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の線の内側に配置。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7" name="Group 71"/>
              <p:cNvGrpSpPr/>
              <p:nvPr/>
            </p:nvGrpSpPr>
            <p:grpSpPr>
              <a:xfrm>
                <a:off x="61920" y="2800440"/>
                <a:ext cx="1260360" cy="539640"/>
                <a:chOff x="61920" y="2800440"/>
                <a:chExt cx="1260360" cy="539640"/>
              </a:xfrm>
            </p:grpSpPr>
            <p:sp>
              <p:nvSpPr>
                <p:cNvPr id="78" name="Line 72"/>
                <p:cNvSpPr/>
                <p:nvPr/>
              </p:nvSpPr>
              <p:spPr>
                <a:xfrm>
                  <a:off x="871560" y="3070440"/>
                  <a:ext cx="45072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" name="Text Box 73"/>
                <p:cNvSpPr/>
                <p:nvPr/>
              </p:nvSpPr>
              <p:spPr>
                <a:xfrm>
                  <a:off x="61920" y="2800440"/>
                  <a:ext cx="936360" cy="539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1" lang="ja-JP" sz="1000" spc="-1" strike="noStrike">
                      <a:solidFill>
                        <a:srgbClr val="ff0000"/>
                      </a:solidFill>
                      <a:latin typeface="Century"/>
                      <a:ea typeface="ＭＳ 明朝"/>
                    </a:rPr>
                    <a:t>フチ無印刷</a:t>
                  </a:r>
                  <a:r>
                    <a:rPr b="0" lang="ja-JP" sz="1000" spc="-1" strike="noStrike">
                      <a:solidFill>
                        <a:srgbClr val="000000"/>
                      </a:solidFill>
                      <a:latin typeface="Century"/>
                      <a:ea typeface="ＭＳ 明朝"/>
                    </a:rPr>
                    <a:t>は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ja-JP" sz="1000" spc="-1" strike="noStrike">
                      <a:solidFill>
                        <a:srgbClr val="000000"/>
                      </a:solidFill>
                      <a:latin typeface="Century"/>
                      <a:ea typeface="ＭＳ 明朝"/>
                    </a:rPr>
                    <a:t>この</a:t>
                  </a:r>
                  <a:r>
                    <a:rPr b="1" lang="ja-JP" sz="1000" spc="-1" strike="noStrike">
                      <a:solidFill>
                        <a:srgbClr val="ff0000"/>
                      </a:solidFill>
                      <a:latin typeface="Century"/>
                      <a:ea typeface="ＭＳ 明朝"/>
                    </a:rPr>
                    <a:t>黒</a:t>
                  </a:r>
                  <a:r>
                    <a:rPr b="0" lang="ja-JP" sz="1000" spc="-1" strike="noStrike">
                      <a:solidFill>
                        <a:srgbClr val="000000"/>
                      </a:solidFill>
                      <a:latin typeface="Century"/>
                      <a:ea typeface="ＭＳ 明朝"/>
                    </a:rPr>
                    <a:t>い線まで伸ばす。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0" name="Group 78"/>
              <p:cNvGrpSpPr/>
              <p:nvPr/>
            </p:nvGrpSpPr>
            <p:grpSpPr>
              <a:xfrm>
                <a:off x="61920" y="1314360"/>
                <a:ext cx="4978440" cy="5454720"/>
                <a:chOff x="61920" y="1314360"/>
                <a:chExt cx="4978440" cy="5454720"/>
              </a:xfrm>
            </p:grpSpPr>
            <p:sp>
              <p:nvSpPr>
                <p:cNvPr id="81" name="Rectangle 56"/>
                <p:cNvSpPr/>
                <p:nvPr/>
              </p:nvSpPr>
              <p:spPr>
                <a:xfrm>
                  <a:off x="1440000" y="1440000"/>
                  <a:ext cx="3600360" cy="5329080"/>
                </a:xfrm>
                <a:prstGeom prst="rect">
                  <a:avLst/>
                </a:prstGeom>
                <a:noFill/>
                <a:ln w="64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4160" rIns="74160" tIns="9000" bIns="9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2" name="Group 74"/>
                <p:cNvGrpSpPr/>
                <p:nvPr/>
              </p:nvGrpSpPr>
              <p:grpSpPr>
                <a:xfrm>
                  <a:off x="61920" y="1314360"/>
                  <a:ext cx="1368360" cy="544680"/>
                  <a:chOff x="61920" y="1314360"/>
                  <a:chExt cx="1368360" cy="544680"/>
                </a:xfrm>
              </p:grpSpPr>
              <p:sp>
                <p:nvSpPr>
                  <p:cNvPr id="83" name="Line 75"/>
                  <p:cNvSpPr/>
                  <p:nvPr/>
                </p:nvSpPr>
                <p:spPr>
                  <a:xfrm>
                    <a:off x="871560" y="1587600"/>
                    <a:ext cx="558720" cy="0"/>
                  </a:xfrm>
                  <a:prstGeom prst="line">
                    <a:avLst/>
                  </a:prstGeom>
                  <a:ln w="9360">
                    <a:solidFill>
                      <a:srgbClr val="0000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Text Box 76"/>
                  <p:cNvSpPr/>
                  <p:nvPr/>
                </p:nvSpPr>
                <p:spPr>
                  <a:xfrm>
                    <a:off x="61920" y="1314360"/>
                    <a:ext cx="936360" cy="544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仕上がり位置。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この</a:t>
                    </a:r>
                    <a:r>
                      <a:rPr b="1" lang="ja-JP" sz="1000" spc="-1" strike="noStrike">
                        <a:solidFill>
                          <a:srgbClr val="ff0000"/>
                        </a:solidFill>
                        <a:latin typeface="Century"/>
                        <a:ea typeface="ＭＳ 明朝"/>
                      </a:rPr>
                      <a:t>青</a:t>
                    </a: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い線でカットします。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5" name="Group 73"/>
              <p:cNvGrpSpPr/>
              <p:nvPr/>
            </p:nvGrpSpPr>
            <p:grpSpPr>
              <a:xfrm>
                <a:off x="54000" y="54000"/>
                <a:ext cx="5065560" cy="900000"/>
                <a:chOff x="54000" y="54000"/>
                <a:chExt cx="5065560" cy="900000"/>
              </a:xfrm>
            </p:grpSpPr>
            <p:sp>
              <p:nvSpPr>
                <p:cNvPr id="86" name="Rectangle 65"/>
                <p:cNvSpPr/>
                <p:nvPr/>
              </p:nvSpPr>
              <p:spPr>
                <a:xfrm>
                  <a:off x="54000" y="54000"/>
                  <a:ext cx="1332000" cy="9000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36000" rIns="36000" tIns="36000" bIns="36000" anchor="t">
                  <a:noAutofit/>
                </a:bodyPr>
                <a:p>
                  <a:pPr>
                    <a:tabLst>
                      <a:tab algn="l" pos="0"/>
                      <a:tab algn="l" pos="1803240"/>
                      <a:tab algn="l" pos="3606840"/>
                      <a:tab algn="l" pos="5410080"/>
                      <a:tab algn="l" pos="7213680"/>
                      <a:tab algn="l" pos="9016920"/>
                      <a:tab algn="l" pos="10820520"/>
                    </a:tabLst>
                  </a:pPr>
                  <a:r>
                    <a:rPr b="1" lang="ja-JP" sz="1500" spc="-1" strike="noStrike">
                      <a:solidFill>
                        <a:srgbClr val="000000"/>
                      </a:solidFill>
                      <a:latin typeface="Arial"/>
                    </a:rPr>
                    <a:t>ポストカード 縦</a:t>
                  </a:r>
                  <a:endParaRPr b="0" lang="en-US" sz="15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1803240"/>
                      <a:tab algn="l" pos="3606840"/>
                      <a:tab algn="l" pos="5410080"/>
                      <a:tab algn="l" pos="7213680"/>
                      <a:tab algn="l" pos="9016920"/>
                      <a:tab algn="l" pos="1082052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100×148mm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1803240"/>
                      <a:tab algn="l" pos="3606840"/>
                      <a:tab algn="l" pos="5410080"/>
                      <a:tab algn="l" pos="7213680"/>
                      <a:tab algn="l" pos="9016920"/>
                      <a:tab algn="l" pos="1082052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Text Box 67"/>
                <p:cNvSpPr/>
                <p:nvPr/>
              </p:nvSpPr>
              <p:spPr>
                <a:xfrm>
                  <a:off x="1384200" y="54000"/>
                  <a:ext cx="3735360" cy="9000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000" rIns="36000" tIns="36000" bIns="36000" anchor="t">
                  <a:noAutofit/>
                </a:bodyPr>
                <a:p>
                  <a:pPr marL="114480" indent="-114480">
                    <a:buClr>
                      <a:srgbClr val="000000"/>
                    </a:buClr>
                    <a:buFont typeface="Arial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1" lang="ja-JP" sz="700" spc="-1" strike="noStrike">
                      <a:solidFill>
                        <a:srgbClr val="ff0000"/>
                      </a:solidFill>
                      <a:latin typeface="Arial"/>
                    </a:rPr>
                    <a:t>フチ無印刷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をご希望の場合、外側の黒い線まで背景や画像を伸ばして下さい。（右下図参照）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14480" indent="-114480">
                    <a:buClr>
                      <a:srgbClr val="000000"/>
                    </a:buClr>
                    <a:buFont typeface="Arial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切れては困る絵柄や文字等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は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、仕上り（青い四角）より</a:t>
                  </a:r>
                  <a:r>
                    <a:rPr b="1" lang="en-US" sz="700" spc="-1" strike="noStrike">
                      <a:solidFill>
                        <a:srgbClr val="ff0000"/>
                      </a:solidFill>
                      <a:latin typeface="Arial"/>
                    </a:rPr>
                    <a:t>2</a:t>
                  </a:r>
                  <a:r>
                    <a:rPr b="1" lang="ja-JP" sz="700" spc="-1" strike="noStrike">
                      <a:solidFill>
                        <a:srgbClr val="ff0000"/>
                      </a:solidFill>
                      <a:latin typeface="Arial"/>
                    </a:rPr>
                    <a:t>～</a:t>
                  </a:r>
                  <a:r>
                    <a:rPr b="1" lang="en-US" sz="700" spc="-1" strike="noStrike">
                      <a:solidFill>
                        <a:srgbClr val="ff0000"/>
                      </a:solidFill>
                      <a:latin typeface="Arial"/>
                    </a:rPr>
                    <a:t>3mm</a:t>
                  </a:r>
                  <a:r>
                    <a:rPr b="1" lang="ja-JP" sz="700" spc="-1" strike="noStrike">
                      <a:solidFill>
                        <a:srgbClr val="ff0000"/>
                      </a:solidFill>
                      <a:latin typeface="Arial"/>
                    </a:rPr>
                    <a:t>以上内側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（水色の四角の中）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に入れて作成してください。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14480" indent="-114480">
                    <a:buClr>
                      <a:srgbClr val="000000"/>
                    </a:buClr>
                    <a:buFont typeface="Arial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1" lang="ja-JP" sz="700" spc="-1" strike="noStrike">
                      <a:solidFill>
                        <a:srgbClr val="ff0000"/>
                      </a:solidFill>
                      <a:latin typeface="Arial"/>
                    </a:rPr>
                    <a:t>透過性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や</a:t>
                  </a:r>
                  <a:r>
                    <a:rPr b="1" lang="ja-JP" sz="700" spc="-1" strike="noStrike">
                      <a:solidFill>
                        <a:srgbClr val="ff0000"/>
                      </a:solidFill>
                      <a:latin typeface="Arial"/>
                    </a:rPr>
                    <a:t>半透明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、</a:t>
                  </a:r>
                  <a:r>
                    <a:rPr b="1" lang="ja-JP" sz="700" spc="-1" strike="noStrike">
                      <a:solidFill>
                        <a:srgbClr val="ff0000"/>
                      </a:solidFill>
                      <a:latin typeface="Arial"/>
                    </a:rPr>
                    <a:t>パターン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など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変換が正常に出来ない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場合があります。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14480" indent="-114480">
                    <a:buClr>
                      <a:srgbClr val="000000"/>
                    </a:buClr>
                    <a:buFont typeface="Arial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用紙サイズの変更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や、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トンボの移動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、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変形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など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なさらない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ようお願いします。　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14480" indent="-114480">
                    <a:buClr>
                      <a:srgbClr val="000000"/>
                    </a:buClr>
                    <a:buFont typeface="Arial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テンプレートを使用して</a:t>
                  </a:r>
                  <a:r>
                    <a:rPr b="0" lang="en-US" sz="700" spc="-1" strike="noStrike">
                      <a:solidFill>
                        <a:srgbClr val="000000"/>
                      </a:solidFill>
                      <a:latin typeface="Arial"/>
                    </a:rPr>
                    <a:t>PDF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を作成する際は、説明部分を削除してください。また、テンプレートと同じサイズかどうか確認してください。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88" name="Picture 76" descr="新Suprintロゴ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71280" y="557280"/>
                  <a:ext cx="543240" cy="3427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89" name="Picture 77" descr="ぬりたし説明"/>
              <p:cNvPicPr/>
              <p:nvPr/>
            </p:nvPicPr>
            <p:blipFill>
              <a:blip r:embed="rId3"/>
              <a:stretch/>
            </p:blipFill>
            <p:spPr>
              <a:xfrm>
                <a:off x="5462640" y="1440000"/>
                <a:ext cx="1017360" cy="28080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90" name="図 1" descr="">
              <a:hlinkClick r:id="rId4"/>
            </p:cNvPr>
            <p:cNvPicPr/>
            <p:nvPr/>
          </p:nvPicPr>
          <p:blipFill>
            <a:blip r:embed="rId5"/>
            <a:srcRect l="0" t="0" r="40717" b="0"/>
            <a:stretch/>
          </p:blipFill>
          <p:spPr>
            <a:xfrm>
              <a:off x="2098440" y="7216920"/>
              <a:ext cx="2260440" cy="863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24000" y="327240"/>
            <a:ext cx="583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324000" y="1920600"/>
            <a:ext cx="583164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06320" indent="-26172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6920" indent="-2109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86080" indent="-2098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89280" indent="-21132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89280" indent="-21132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89280" indent="-21132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>suprint</dc:creator>
  <dc:description/>
  <dc:language>en-US</dc:language>
  <cp:lastModifiedBy>ugo-99</cp:lastModifiedBy>
  <dcterms:modified xsi:type="dcterms:W3CDTF">2015-08-26T04:48:27Z</dcterms:modified>
  <cp:revision>18</cp:revision>
  <dc:subject/>
  <dc:title>スライド 1</dc:title>
</cp:coreProperties>
</file>