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55497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554976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1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55497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554976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786360" cy="11144160"/>
            <a:chOff x="54000" y="54000"/>
            <a:chExt cx="6786360" cy="1114416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2260440" y="10334880"/>
              <a:ext cx="226224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40"/>
            <p:cNvGrpSpPr/>
            <p:nvPr/>
          </p:nvGrpSpPr>
          <p:grpSpPr>
            <a:xfrm>
              <a:off x="54000" y="54000"/>
              <a:ext cx="6786360" cy="9842400"/>
              <a:chOff x="54000" y="54000"/>
              <a:chExt cx="6786360" cy="9842400"/>
            </a:xfrm>
          </p:grpSpPr>
          <p:grpSp>
            <p:nvGrpSpPr>
              <p:cNvPr id="69" name="Group 38"/>
              <p:cNvGrpSpPr/>
              <p:nvPr/>
            </p:nvGrpSpPr>
            <p:grpSpPr>
              <a:xfrm>
                <a:off x="61920" y="1547640"/>
                <a:ext cx="5229360" cy="8240760"/>
                <a:chOff x="61920" y="1547640"/>
                <a:chExt cx="5229360" cy="8240760"/>
              </a:xfrm>
            </p:grpSpPr>
            <p:sp>
              <p:nvSpPr>
                <p:cNvPr id="70" name="Rectangle 20"/>
                <p:cNvSpPr/>
                <p:nvPr/>
              </p:nvSpPr>
              <p:spPr>
                <a:xfrm>
                  <a:off x="1547640" y="1547640"/>
                  <a:ext cx="3743640" cy="824076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39"/>
              <p:cNvGrpSpPr/>
              <p:nvPr/>
            </p:nvGrpSpPr>
            <p:grpSpPr>
              <a:xfrm>
                <a:off x="61920" y="1314360"/>
                <a:ext cx="5337000" cy="8582040"/>
                <a:chOff x="61920" y="1314360"/>
                <a:chExt cx="5337000" cy="8582040"/>
              </a:xfrm>
            </p:grpSpPr>
            <p:sp>
              <p:nvSpPr>
                <p:cNvPr id="78" name="Rectangle 19"/>
                <p:cNvSpPr/>
                <p:nvPr/>
              </p:nvSpPr>
              <p:spPr>
                <a:xfrm>
                  <a:off x="1440000" y="1440000"/>
                  <a:ext cx="3958920" cy="84564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5823000" y="1494000"/>
                <a:ext cx="101736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3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大判はがき</a:t>
                  </a:r>
                  <a:r>
                    <a:rPr b="1" lang="en-US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B</a:t>
                  </a: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　縦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ＭＳ Ｐゴシック"/>
                    </a:rPr>
                    <a:t>11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37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>User</dc:creator>
  <dc:description/>
  <dc:language>en-US</dc:language>
  <cp:lastModifiedBy>ugo-99</cp:lastModifiedBy>
  <dcterms:modified xsi:type="dcterms:W3CDTF">2015-08-26T08:03:00Z</dcterms:modified>
  <cp:revision>4</cp:revision>
  <dc:subject/>
  <dc:title>スライド 1</dc:title>
</cp:coreProperties>
</file>