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6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1" name="Line 42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43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4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5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6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7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8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9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0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1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52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57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58"/>
          <p:cNvSpPr/>
          <p:nvPr/>
        </p:nvSpPr>
        <p:spPr>
          <a:xfrm>
            <a:off x="10045800" y="554976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76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52" name="Line 42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3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44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5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6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7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8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9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0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1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2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5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7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8"/>
          <p:cNvSpPr/>
          <p:nvPr/>
        </p:nvSpPr>
        <p:spPr>
          <a:xfrm>
            <a:off x="10045800" y="554976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1287080" cy="5344920"/>
            <a:chOff x="54000" y="54000"/>
            <a:chExt cx="11287080" cy="534492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5256360" y="71280"/>
              <a:ext cx="226224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77"/>
            <p:cNvGrpSpPr/>
            <p:nvPr/>
          </p:nvGrpSpPr>
          <p:grpSpPr>
            <a:xfrm>
              <a:off x="54000" y="54000"/>
              <a:ext cx="11287080" cy="5344920"/>
              <a:chOff x="54000" y="54000"/>
              <a:chExt cx="11287080" cy="53449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0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73"/>
              <p:cNvGrpSpPr/>
              <p:nvPr/>
            </p:nvGrpSpPr>
            <p:grpSpPr>
              <a:xfrm>
                <a:off x="61920" y="1314360"/>
                <a:ext cx="9834480" cy="4084560"/>
                <a:chOff x="61920" y="1314360"/>
                <a:chExt cx="9834480" cy="4084560"/>
              </a:xfrm>
            </p:grpSpPr>
            <p:sp>
              <p:nvSpPr>
                <p:cNvPr id="73" name="Rectangle 54"/>
                <p:cNvSpPr/>
                <p:nvPr/>
              </p:nvSpPr>
              <p:spPr>
                <a:xfrm>
                  <a:off x="1440000" y="1440000"/>
                  <a:ext cx="8456400" cy="39589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5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75"/>
              <p:cNvGrpSpPr/>
              <p:nvPr/>
            </p:nvGrpSpPr>
            <p:grpSpPr>
              <a:xfrm>
                <a:off x="54000" y="54000"/>
                <a:ext cx="11287080" cy="5237280"/>
                <a:chOff x="54000" y="54000"/>
                <a:chExt cx="11287080" cy="5237280"/>
              </a:xfrm>
            </p:grpSpPr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547640"/>
                  <a:ext cx="9726480" cy="3743640"/>
                  <a:chOff x="61920" y="1547640"/>
                  <a:chExt cx="9726480" cy="3743640"/>
                </a:xfrm>
              </p:grpSpPr>
              <p:sp>
                <p:nvSpPr>
                  <p:cNvPr id="79" name="Rectangle 55"/>
                  <p:cNvSpPr/>
                  <p:nvPr/>
                </p:nvSpPr>
                <p:spPr>
                  <a:xfrm>
                    <a:off x="1547640" y="1547640"/>
                    <a:ext cx="8240760" cy="374364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8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83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323360" y="1494000"/>
                  <a:ext cx="1017720" cy="280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4" name="Group 69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85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大判はがき</a:t>
                    </a: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B</a:t>
                    </a: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　横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110×235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をご希望の場合、外側の黒い線まで背景や画像を伸ばして下さい。（右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切れては困る絵柄や文字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は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、仕上り（青い四角）より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～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Arial"/>
                      </a:rPr>
                      <a:t>3mm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以上内側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（水色の四角の中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に入れて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など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変換が正常に出来ない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や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トンボの移動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変形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など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なさらない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よう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テンプレートを使用して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を作成する際は、説明部分を削除してください。また、テンプレートと同じサイズかどうか確認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87" name="Picture 72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280" y="557280"/>
                    <a:ext cx="5432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>User</dc:creator>
  <dc:description/>
  <dc:language>en-US</dc:language>
  <cp:lastModifiedBy>ugo-99</cp:lastModifiedBy>
  <dcterms:modified xsi:type="dcterms:W3CDTF">2015-08-26T08:02:47Z</dcterms:modified>
  <cp:revision>8</cp:revision>
  <dc:subject/>
  <dc:title>スライド 1</dc:title>
</cp:coreProperties>
</file>