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40538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316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0468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00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316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0468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42000" y="452160"/>
            <a:ext cx="6155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42316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0468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4200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42316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50468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000" y="452160"/>
            <a:ext cx="6155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1079640" y="1079640"/>
            <a:ext cx="4686120" cy="9181800"/>
            <a:chOff x="1079640" y="1079640"/>
            <a:chExt cx="4686120" cy="918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10004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9896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566748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5505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5397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341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417492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22"/>
          <p:cNvSpPr/>
          <p:nvPr/>
        </p:nvSpPr>
        <p:spPr>
          <a:xfrm>
            <a:off x="554976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23"/>
          <p:cNvSpPr/>
          <p:nvPr/>
        </p:nvSpPr>
        <p:spPr>
          <a:xfrm>
            <a:off x="5549760" y="1004580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1"/>
          <p:cNvGrpSpPr/>
          <p:nvPr/>
        </p:nvGrpSpPr>
        <p:grpSpPr>
          <a:xfrm>
            <a:off x="1079640" y="1079640"/>
            <a:ext cx="4686120" cy="9181800"/>
            <a:chOff x="1079640" y="1079640"/>
            <a:chExt cx="4686120" cy="9181800"/>
          </a:xfrm>
        </p:grpSpPr>
        <p:sp>
          <p:nvSpPr>
            <p:cNvPr id="52" name="Line 7"/>
            <p:cNvSpPr/>
            <p:nvPr/>
          </p:nvSpPr>
          <p:spPr>
            <a:xfrm>
              <a:off x="1079640" y="1332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1079640" y="1440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1079640" y="10004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1079640" y="9896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1079640" y="566748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4"/>
            <p:cNvSpPr/>
            <p:nvPr/>
          </p:nvSpPr>
          <p:spPr>
            <a:xfrm>
              <a:off x="5505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5397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341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332000" y="1332000"/>
              <a:ext cx="417492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554976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5549760" y="1004580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786360" cy="11144160"/>
            <a:chOff x="54000" y="54000"/>
            <a:chExt cx="6786360" cy="11144160"/>
          </a:xfrm>
        </p:grpSpPr>
        <p:pic>
          <p:nvPicPr>
            <p:cNvPr id="67" name="図 1" descr="">
              <a:hlinkClick r:id="rId2"/>
            </p:cNvPr>
            <p:cNvPicPr/>
            <p:nvPr/>
          </p:nvPicPr>
          <p:blipFill>
            <a:blip r:embed="rId3"/>
            <a:srcRect l="0" t="0" r="40717" b="0"/>
            <a:stretch/>
          </p:blipFill>
          <p:spPr>
            <a:xfrm>
              <a:off x="2260440" y="10334880"/>
              <a:ext cx="226224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40"/>
            <p:cNvGrpSpPr/>
            <p:nvPr/>
          </p:nvGrpSpPr>
          <p:grpSpPr>
            <a:xfrm>
              <a:off x="54000" y="54000"/>
              <a:ext cx="6786360" cy="9842400"/>
              <a:chOff x="54000" y="54000"/>
              <a:chExt cx="6786360" cy="9842400"/>
            </a:xfrm>
          </p:grpSpPr>
          <p:grpSp>
            <p:nvGrpSpPr>
              <p:cNvPr id="69" name="Group 38"/>
              <p:cNvGrpSpPr/>
              <p:nvPr/>
            </p:nvGrpSpPr>
            <p:grpSpPr>
              <a:xfrm>
                <a:off x="61920" y="1547640"/>
                <a:ext cx="5229360" cy="8240760"/>
                <a:chOff x="61920" y="1547640"/>
                <a:chExt cx="5229360" cy="8240760"/>
              </a:xfrm>
            </p:grpSpPr>
            <p:sp>
              <p:nvSpPr>
                <p:cNvPr id="70" name="Rectangle 20"/>
                <p:cNvSpPr/>
                <p:nvPr/>
              </p:nvSpPr>
              <p:spPr>
                <a:xfrm>
                  <a:off x="1547640" y="1547640"/>
                  <a:ext cx="3743640" cy="824076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5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39"/>
              <p:cNvGrpSpPr/>
              <p:nvPr/>
            </p:nvGrpSpPr>
            <p:grpSpPr>
              <a:xfrm>
                <a:off x="61920" y="1314360"/>
                <a:ext cx="5337000" cy="8582040"/>
                <a:chOff x="61920" y="1314360"/>
                <a:chExt cx="5337000" cy="8582040"/>
              </a:xfrm>
            </p:grpSpPr>
            <p:sp>
              <p:nvSpPr>
                <p:cNvPr id="78" name="Rectangle 19"/>
                <p:cNvSpPr/>
                <p:nvPr/>
              </p:nvSpPr>
              <p:spPr>
                <a:xfrm>
                  <a:off x="1440000" y="1440000"/>
                  <a:ext cx="3958920" cy="845640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2" name="Picture 77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5823000" y="1494000"/>
                <a:ext cx="101736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" name="Group 3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大判はがき</a:t>
                  </a:r>
                  <a:r>
                    <a:rPr b="1" lang="en-US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B</a:t>
                  </a:r>
                  <a:r>
                    <a:rPr b="1" lang="ja-JP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　縦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ＭＳ Ｐゴシック"/>
                    </a:rPr>
                    <a:t>11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" name="Picture 37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>User</dc:creator>
  <dc:description/>
  <dc:language>en-US</dc:language>
  <cp:lastModifiedBy>ugo-99</cp:lastModifiedBy>
  <dcterms:modified xsi:type="dcterms:W3CDTF">2015-08-26T07:59:35Z</dcterms:modified>
  <cp:revision>5</cp:revision>
  <dc:subject/>
  <dc:title>スライド 1</dc:title>
</cp:coreProperties>
</file>