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3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147080" cy="11163240"/>
            <a:chOff x="54000" y="54000"/>
            <a:chExt cx="7147080" cy="1116324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2460600" y="10353960"/>
              <a:ext cx="22604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4"/>
            <p:cNvGrpSpPr/>
            <p:nvPr/>
          </p:nvGrpSpPr>
          <p:grpSpPr>
            <a:xfrm>
              <a:off x="54000" y="54000"/>
              <a:ext cx="7147080" cy="9842400"/>
              <a:chOff x="54000" y="54000"/>
              <a:chExt cx="7147080" cy="9842400"/>
            </a:xfrm>
          </p:grpSpPr>
          <p:grpSp>
            <p:nvGrpSpPr>
              <p:cNvPr id="69" name="Group 41"/>
              <p:cNvGrpSpPr/>
              <p:nvPr/>
            </p:nvGrpSpPr>
            <p:grpSpPr>
              <a:xfrm>
                <a:off x="61920" y="1547640"/>
                <a:ext cx="5587920" cy="8240760"/>
                <a:chOff x="61920" y="1547640"/>
                <a:chExt cx="5587920" cy="824076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4102200" cy="82407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42"/>
              <p:cNvGrpSpPr/>
              <p:nvPr/>
            </p:nvGrpSpPr>
            <p:grpSpPr>
              <a:xfrm>
                <a:off x="61920" y="1314360"/>
                <a:ext cx="5695920" cy="8582040"/>
                <a:chOff x="61920" y="1314360"/>
                <a:chExt cx="5695920" cy="858204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4317840" cy="84564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618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A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User</dc:creator>
  <dc:description/>
  <dc:language>en-US</dc:language>
  <cp:lastModifiedBy>ugo-99</cp:lastModifiedBy>
  <dcterms:modified xsi:type="dcterms:W3CDTF">2015-08-26T07:38:22Z</dcterms:modified>
  <cp:revision>6</cp:revision>
  <dc:subject/>
  <dc:title>スライド 1</dc:title>
</cp:coreProperties>
</file>