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79"/>
          <p:cNvSpPr/>
          <p:nvPr/>
        </p:nvSpPr>
        <p:spPr>
          <a:xfrm>
            <a:off x="692136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80"/>
          <p:cNvSpPr/>
          <p:nvPr/>
        </p:nvSpPr>
        <p:spPr>
          <a:xfrm>
            <a:off x="6915240" y="5192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5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9"/>
          <p:cNvSpPr/>
          <p:nvPr/>
        </p:nvSpPr>
        <p:spPr>
          <a:xfrm>
            <a:off x="6921360" y="1066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0"/>
          <p:cNvSpPr/>
          <p:nvPr/>
        </p:nvSpPr>
        <p:spPr>
          <a:xfrm>
            <a:off x="6915240" y="5192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464240" cy="4803840"/>
            <a:chOff x="54000" y="54000"/>
            <a:chExt cx="7464240" cy="4803840"/>
          </a:xfrm>
        </p:grpSpPr>
        <p:grpSp>
          <p:nvGrpSpPr>
            <p:cNvPr id="67" name="Group 111"/>
            <p:cNvGrpSpPr/>
            <p:nvPr/>
          </p:nvGrpSpPr>
          <p:grpSpPr>
            <a:xfrm>
              <a:off x="54000" y="54000"/>
              <a:ext cx="6531120" cy="4803840"/>
              <a:chOff x="54000" y="54000"/>
              <a:chExt cx="6531120" cy="4803840"/>
            </a:xfrm>
          </p:grpSpPr>
          <p:sp>
            <p:nvSpPr>
              <p:cNvPr id="68" name="Line 75"/>
              <p:cNvSpPr/>
              <p:nvPr/>
            </p:nvSpPr>
            <p:spPr>
              <a:xfrm>
                <a:off x="898560" y="1798560"/>
                <a:ext cx="719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108"/>
              <p:cNvGrpSpPr/>
              <p:nvPr/>
            </p:nvGrpSpPr>
            <p:grpSpPr>
              <a:xfrm>
                <a:off x="54000" y="54000"/>
                <a:ext cx="6531120" cy="4803840"/>
                <a:chOff x="54000" y="54000"/>
                <a:chExt cx="6531120" cy="4803840"/>
              </a:xfrm>
            </p:grpSpPr>
            <p:grpSp>
              <p:nvGrpSpPr>
                <p:cNvPr id="70" name="Group 107"/>
                <p:cNvGrpSpPr/>
                <p:nvPr/>
              </p:nvGrpSpPr>
              <p:grpSpPr>
                <a:xfrm>
                  <a:off x="61920" y="1438200"/>
                  <a:ext cx="6523200" cy="3419640"/>
                  <a:chOff x="61920" y="1438200"/>
                  <a:chExt cx="6523200" cy="3419640"/>
                </a:xfrm>
              </p:grpSpPr>
              <p:sp>
                <p:nvSpPr>
                  <p:cNvPr id="71" name="Rectangle 99"/>
                  <p:cNvSpPr/>
                  <p:nvPr/>
                </p:nvSpPr>
                <p:spPr>
                  <a:xfrm>
                    <a:off x="1619280" y="1619280"/>
                    <a:ext cx="4965840" cy="3238560"/>
                  </a:xfrm>
                  <a:prstGeom prst="rect">
                    <a:avLst/>
                  </a:prstGeom>
                  <a:noFill/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6"/>
                  <p:cNvSpPr/>
                  <p:nvPr/>
                </p:nvSpPr>
                <p:spPr>
                  <a:xfrm>
                    <a:off x="61920" y="1438200"/>
                    <a:ext cx="936720" cy="72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印刷可能範囲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赤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い線の内側に沿ってデザイン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02"/>
                <p:cNvGrpSpPr/>
                <p:nvPr/>
              </p:nvGrpSpPr>
              <p:grpSpPr>
                <a:xfrm>
                  <a:off x="54000" y="54000"/>
                  <a:ext cx="5065560" cy="900000"/>
                  <a:chOff x="54000" y="54000"/>
                  <a:chExt cx="5065560" cy="900000"/>
                </a:xfrm>
              </p:grpSpPr>
              <p:sp>
                <p:nvSpPr>
                  <p:cNvPr id="74" name="Rectangle 65"/>
                  <p:cNvSpPr/>
                  <p:nvPr/>
                </p:nvSpPr>
                <p:spPr>
                  <a:xfrm>
                    <a:off x="54000" y="54000"/>
                    <a:ext cx="1332000" cy="90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0" rIns="36000" tIns="36000" bIns="36000" anchor="t">
                    <a:noAutofit/>
                  </a:bodyPr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500" spc="-1" strike="noStrike">
                        <a:solidFill>
                          <a:srgbClr val="000000"/>
                        </a:solidFill>
                        <a:latin typeface="Arial"/>
                      </a:rPr>
                      <a:t>郵便はがき 横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00×148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67"/>
                  <p:cNvSpPr/>
                  <p:nvPr/>
                </p:nvSpPr>
                <p:spPr>
                  <a:xfrm>
                    <a:off x="1384200" y="54000"/>
                    <a:ext cx="3735360" cy="900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絵柄や文字等は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仕上りより</a:t>
                    </a:r>
                    <a:r>
                      <a:rPr b="1" lang="en-US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5mm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以上内側（赤い線の中）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に入れて作成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透過性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や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半透明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、</a:t>
                    </a:r>
                    <a:r>
                      <a:rPr b="1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パターン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など変換が正常に出来ない場合があります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ff0000"/>
                        </a:solidFill>
                        <a:latin typeface="ＭＳ Ｐ明朝"/>
                        <a:ea typeface="ＭＳ Ｐ明朝"/>
                      </a:rPr>
                      <a:t>用紙サイズの変更や、トンボの移動、変形などなさらないようお願いします。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　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 algn="just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テンプレートを使用して</a:t>
                    </a: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PDF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を作成する際は、説明部分を削除してください。また、テンプレートと同じサイズかどうか確認してください。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14480" indent="-114480">
                      <a:lnSpc>
                        <a:spcPct val="100000"/>
                      </a:lnSpc>
                      <a:buClr>
                        <a:srgbClr val="000000"/>
                      </a:buClr>
                      <a:buFont typeface="ＭＳ Ｐ明朝"/>
                      <a:buChar char="※"/>
                      <a:tabLst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ＭＳ Ｐ明朝"/>
                        <a:ea typeface="ＭＳ Ｐ明朝"/>
                      </a:rPr>
                      <a:t>郵便はがきへの印刷となります。</a:t>
                    </a:r>
                    <a:r>
                      <a:rPr b="0" lang="ja-JP" sz="700" spc="-1" strike="noStrike">
                        <a:solidFill>
                          <a:srgbClr val="000000"/>
                        </a:solidFill>
                        <a:latin typeface="Arial"/>
                        <a:ea typeface="ＭＳ Ｐ明朝"/>
                      </a:rPr>
                      <a:t>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6" name="Picture 105" descr="新Suprintロゴ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557280"/>
                    <a:ext cx="5432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77" name="Picture 106" descr="郵便はがき_縦-[更新済み]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2241720"/>
                  <a:ext cx="895680" cy="1214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78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525600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62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1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209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43:42Z</dcterms:modified>
  <cp:revision>18</cp:revision>
  <dc:subject/>
  <dc:title>スライド 1</dc:title>
</cp:coreProperties>
</file>