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712200" cy="6983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08664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737320" y="163404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3560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08664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737320" y="3749760"/>
            <a:ext cx="252432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35600" y="278640"/>
            <a:ext cx="7840440" cy="54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53200" y="374976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56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53200" y="1634040"/>
            <a:ext cx="382608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5600" y="3749760"/>
            <a:ext cx="7840440" cy="193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0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69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grpSp>
          <p:nvGrpSpPr>
            <p:cNvPr id="2" name="Group 163"/>
            <p:cNvGrpSpPr/>
            <p:nvPr/>
          </p:nvGrpSpPr>
          <p:grpSpPr>
            <a:xfrm>
              <a:off x="1079640" y="1079640"/>
              <a:ext cx="6549840" cy="4825800"/>
              <a:chOff x="1079640" y="1079640"/>
              <a:chExt cx="6549840" cy="4825800"/>
            </a:xfrm>
          </p:grpSpPr>
          <p:sp>
            <p:nvSpPr>
              <p:cNvPr id="3" name="Line 148"/>
              <p:cNvSpPr/>
              <p:nvPr/>
            </p:nvSpPr>
            <p:spPr>
              <a:xfrm>
                <a:off x="1079640" y="133020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149"/>
              <p:cNvSpPr/>
              <p:nvPr/>
            </p:nvSpPr>
            <p:spPr>
              <a:xfrm>
                <a:off x="1079640" y="143820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Line 150"/>
              <p:cNvSpPr/>
              <p:nvPr/>
            </p:nvSpPr>
            <p:spPr>
              <a:xfrm>
                <a:off x="1079640" y="349236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Line 151"/>
              <p:cNvSpPr/>
              <p:nvPr/>
            </p:nvSpPr>
            <p:spPr>
              <a:xfrm>
                <a:off x="1079640" y="554184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Line 152"/>
              <p:cNvSpPr/>
              <p:nvPr/>
            </p:nvSpPr>
            <p:spPr>
              <a:xfrm>
                <a:off x="1079640" y="564984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Line 153"/>
              <p:cNvSpPr/>
              <p:nvPr/>
            </p:nvSpPr>
            <p:spPr>
              <a:xfrm>
                <a:off x="1330200" y="1079640"/>
                <a:ext cx="0" cy="482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Line 154"/>
              <p:cNvSpPr/>
              <p:nvPr/>
            </p:nvSpPr>
            <p:spPr>
              <a:xfrm>
                <a:off x="1438200" y="1079640"/>
                <a:ext cx="0" cy="482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Line 155"/>
              <p:cNvSpPr/>
              <p:nvPr/>
            </p:nvSpPr>
            <p:spPr>
              <a:xfrm>
                <a:off x="4354560" y="1079640"/>
                <a:ext cx="0" cy="48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Line 156"/>
              <p:cNvSpPr/>
              <p:nvPr/>
            </p:nvSpPr>
            <p:spPr>
              <a:xfrm>
                <a:off x="7269120" y="1079640"/>
                <a:ext cx="0" cy="48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Line 157"/>
              <p:cNvSpPr/>
              <p:nvPr/>
            </p:nvSpPr>
            <p:spPr>
              <a:xfrm>
                <a:off x="7378560" y="1079640"/>
                <a:ext cx="0" cy="48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Rectangle 158"/>
              <p:cNvSpPr/>
              <p:nvPr/>
            </p:nvSpPr>
            <p:spPr>
              <a:xfrm>
                <a:off x="1332000" y="1332000"/>
                <a:ext cx="6046560" cy="4317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896760"/>
                    <a:tab algn="l" pos="1793880"/>
                    <a:tab algn="l" pos="2690640"/>
                    <a:tab algn="l" pos="3587760"/>
                    <a:tab algn="l" pos="4484520"/>
                    <a:tab algn="l" pos="5381640"/>
                    <a:tab algn="l" pos="6278400"/>
                    <a:tab algn="l" pos="7175520"/>
                    <a:tab algn="l" pos="8072280"/>
                    <a:tab algn="l" pos="8969400"/>
                    <a:tab algn="l" pos="9866160"/>
                    <a:tab algn="l" pos="107632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" name="Text Box 168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170"/>
          <p:cNvSpPr/>
          <p:nvPr/>
        </p:nvSpPr>
        <p:spPr>
          <a:xfrm rot="5400000">
            <a:off x="3160080" y="-2734560"/>
            <a:ext cx="2381040" cy="5748480"/>
          </a:xfrm>
          <a:custGeom>
            <a:avLst/>
            <a:gdLst/>
            <a:ahLst/>
            <a:rect l="l" t="t" r="r" b="b"/>
            <a:pathLst>
              <a:path w="750" h="1811">
                <a:moveTo>
                  <a:pt x="750" y="0"/>
                </a:moveTo>
                <a:cubicBezTo>
                  <a:pt x="701" y="19"/>
                  <a:pt x="701" y="19"/>
                  <a:pt x="701" y="19"/>
                </a:cubicBezTo>
                <a:cubicBezTo>
                  <a:pt x="660" y="35"/>
                  <a:pt x="605" y="76"/>
                  <a:pt x="579" y="111"/>
                </a:cubicBezTo>
                <a:cubicBezTo>
                  <a:pt x="26" y="842"/>
                  <a:pt x="26" y="842"/>
                  <a:pt x="26" y="842"/>
                </a:cubicBezTo>
                <a:cubicBezTo>
                  <a:pt x="0" y="877"/>
                  <a:pt x="0" y="934"/>
                  <a:pt x="26" y="969"/>
                </a:cubicBezTo>
                <a:cubicBezTo>
                  <a:pt x="579" y="1700"/>
                  <a:pt x="579" y="1700"/>
                  <a:pt x="579" y="1700"/>
                </a:cubicBezTo>
                <a:cubicBezTo>
                  <a:pt x="605" y="1735"/>
                  <a:pt x="660" y="1776"/>
                  <a:pt x="701" y="1792"/>
                </a:cubicBezTo>
                <a:cubicBezTo>
                  <a:pt x="750" y="1811"/>
                  <a:pt x="750" y="1811"/>
                  <a:pt x="750" y="1811"/>
                </a:cubicBezTo>
              </a:path>
            </a:pathLst>
          </a:custGeom>
          <a:noFill/>
          <a:ln w="1260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69"/>
          <p:cNvGrpSpPr/>
          <p:nvPr/>
        </p:nvGrpSpPr>
        <p:grpSpPr>
          <a:xfrm>
            <a:off x="1079640" y="1079640"/>
            <a:ext cx="6549840" cy="4825800"/>
            <a:chOff x="1079640" y="1079640"/>
            <a:chExt cx="6549840" cy="4825800"/>
          </a:xfrm>
        </p:grpSpPr>
        <p:grpSp>
          <p:nvGrpSpPr>
            <p:cNvPr id="53" name="Group 163"/>
            <p:cNvGrpSpPr/>
            <p:nvPr/>
          </p:nvGrpSpPr>
          <p:grpSpPr>
            <a:xfrm>
              <a:off x="1079640" y="1079640"/>
              <a:ext cx="6549840" cy="4825800"/>
              <a:chOff x="1079640" y="1079640"/>
              <a:chExt cx="6549840" cy="4825800"/>
            </a:xfrm>
          </p:grpSpPr>
          <p:sp>
            <p:nvSpPr>
              <p:cNvPr id="54" name="Line 148"/>
              <p:cNvSpPr/>
              <p:nvPr/>
            </p:nvSpPr>
            <p:spPr>
              <a:xfrm>
                <a:off x="1079640" y="133020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49"/>
              <p:cNvSpPr/>
              <p:nvPr/>
            </p:nvSpPr>
            <p:spPr>
              <a:xfrm>
                <a:off x="1079640" y="143820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Line 150"/>
              <p:cNvSpPr/>
              <p:nvPr/>
            </p:nvSpPr>
            <p:spPr>
              <a:xfrm>
                <a:off x="1079640" y="349236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Line 151"/>
              <p:cNvSpPr/>
              <p:nvPr/>
            </p:nvSpPr>
            <p:spPr>
              <a:xfrm>
                <a:off x="1079640" y="554184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Line 152"/>
              <p:cNvSpPr/>
              <p:nvPr/>
            </p:nvSpPr>
            <p:spPr>
              <a:xfrm>
                <a:off x="1079640" y="5649840"/>
                <a:ext cx="654984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Line 153"/>
              <p:cNvSpPr/>
              <p:nvPr/>
            </p:nvSpPr>
            <p:spPr>
              <a:xfrm>
                <a:off x="1330200" y="1079640"/>
                <a:ext cx="0" cy="482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Line 154"/>
              <p:cNvSpPr/>
              <p:nvPr/>
            </p:nvSpPr>
            <p:spPr>
              <a:xfrm>
                <a:off x="1438200" y="1079640"/>
                <a:ext cx="0" cy="4822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Line 155"/>
              <p:cNvSpPr/>
              <p:nvPr/>
            </p:nvSpPr>
            <p:spPr>
              <a:xfrm>
                <a:off x="4354560" y="1079640"/>
                <a:ext cx="0" cy="48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Line 156"/>
              <p:cNvSpPr/>
              <p:nvPr/>
            </p:nvSpPr>
            <p:spPr>
              <a:xfrm>
                <a:off x="7269120" y="1079640"/>
                <a:ext cx="0" cy="48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Line 157"/>
              <p:cNvSpPr/>
              <p:nvPr/>
            </p:nvSpPr>
            <p:spPr>
              <a:xfrm>
                <a:off x="7378560" y="1079640"/>
                <a:ext cx="0" cy="4825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8"/>
              <p:cNvSpPr/>
              <p:nvPr/>
            </p:nvSpPr>
            <p:spPr>
              <a:xfrm>
                <a:off x="1332000" y="1332000"/>
                <a:ext cx="6046560" cy="43178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896760"/>
                    <a:tab algn="l" pos="1793880"/>
                    <a:tab algn="l" pos="2690640"/>
                    <a:tab algn="l" pos="3587760"/>
                    <a:tab algn="l" pos="4484520"/>
                    <a:tab algn="l" pos="5381640"/>
                    <a:tab algn="l" pos="6278400"/>
                    <a:tab algn="l" pos="7175520"/>
                    <a:tab algn="l" pos="8072280"/>
                    <a:tab algn="l" pos="8969400"/>
                    <a:tab algn="l" pos="9866160"/>
                    <a:tab algn="l" pos="10763280"/>
                  </a:tabLst>
                </a:pP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" name="Text Box 168"/>
            <p:cNvSpPr/>
            <p:nvPr/>
          </p:nvSpPr>
          <p:spPr>
            <a:xfrm>
              <a:off x="1079640" y="1079640"/>
              <a:ext cx="190440" cy="19044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1371600"/>
                  <a:tab algn="l" pos="2743200"/>
                  <a:tab algn="l" pos="4114800"/>
                  <a:tab algn="l" pos="5486400"/>
                  <a:tab algn="l" pos="6858000"/>
                  <a:tab algn="l" pos="8229600"/>
                  <a:tab algn="l" pos="9601200"/>
                </a:tabLst>
              </a:pPr>
              <a:r>
                <a:rPr b="0" lang="ja-JP" sz="1200" spc="-1" strike="noStrike">
                  <a:solidFill>
                    <a:srgbClr val="000000"/>
                  </a:solidFill>
                  <a:latin typeface="Arial"/>
                </a:rPr>
                <a:t>裏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" name="グループ化 16"/>
          <p:cNvGrpSpPr/>
          <p:nvPr/>
        </p:nvGrpSpPr>
        <p:grpSpPr>
          <a:xfrm>
            <a:off x="54000" y="54000"/>
            <a:ext cx="8628120" cy="5489640"/>
            <a:chOff x="54000" y="54000"/>
            <a:chExt cx="8628120" cy="5489640"/>
          </a:xfrm>
        </p:grpSpPr>
        <p:pic>
          <p:nvPicPr>
            <p:cNvPr id="67" name="図 8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6121440" y="71280"/>
              <a:ext cx="256068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190"/>
            <p:cNvGrpSpPr/>
            <p:nvPr/>
          </p:nvGrpSpPr>
          <p:grpSpPr>
            <a:xfrm>
              <a:off x="54000" y="54000"/>
              <a:ext cx="7218360" cy="5489640"/>
              <a:chOff x="54000" y="54000"/>
              <a:chExt cx="7218360" cy="5489640"/>
            </a:xfrm>
          </p:grpSpPr>
          <p:grpSp>
            <p:nvGrpSpPr>
              <p:cNvPr id="69" name="Group 164"/>
              <p:cNvGrpSpPr/>
              <p:nvPr/>
            </p:nvGrpSpPr>
            <p:grpSpPr>
              <a:xfrm>
                <a:off x="54000" y="54000"/>
                <a:ext cx="6008760" cy="900000"/>
                <a:chOff x="54000" y="54000"/>
                <a:chExt cx="6008760" cy="900000"/>
              </a:xfrm>
            </p:grpSpPr>
            <p:sp>
              <p:nvSpPr>
                <p:cNvPr id="7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洋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ja-JP" sz="1600" spc="-1" strike="noStrike">
                      <a:solidFill>
                        <a:srgbClr val="000000"/>
                      </a:solidFill>
                      <a:latin typeface="Arial"/>
                    </a:rPr>
                    <a:t>封筒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14×162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1" name="Picture 166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" name="Text Box 67"/>
                <p:cNvSpPr/>
                <p:nvPr/>
              </p:nvSpPr>
              <p:spPr>
                <a:xfrm>
                  <a:off x="1384200" y="54000"/>
                  <a:ext cx="467856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ctr">
                  <a:noAutofit/>
                </a:bodyPr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 2007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以降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使用の方は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プレゼンテーション（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ptx</a:t>
                  </a:r>
                  <a:r>
                    <a:rPr b="1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）</a:t>
                  </a:r>
                  <a:r>
                    <a:rPr b="1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で保存しなお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封をした場合にフタにより隠れる部分を除いた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水色の枠内にレイアウト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製袋された封筒に印刷のため、貼り合わせ部分（下図の灰色の点線）にかかるベタなどはかすれる可能性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データは黒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色の濃淡で作成してください。色の掛け合わせはできません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ＭＳ Ｐ明朝"/>
                      <a:ea typeface="ＭＳ Ｐ明朝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紙サイズの変更や、トンボの移動、変形などなさらない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 algn="just">
                    <a:lnSpc>
                      <a:spcPct val="100000"/>
                    </a:lnSpc>
                    <a:buClr>
                      <a:srgbClr val="000000"/>
                    </a:buClr>
                    <a:buFont typeface="ＭＳ 明朝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作成する際は、説明部分を削除してください。（同封の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【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作成前の準備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owerPoint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用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.pdf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】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をご覧ください。）また、テンプレート同じサイズで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ＭＳ Ｐ明朝"/>
                      <a:ea typeface="ＭＳ Ｐ明朝"/>
                    </a:rPr>
                    <a:t>が作成されているかご確認ください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182"/>
              <p:cNvGrpSpPr/>
              <p:nvPr/>
            </p:nvGrpSpPr>
            <p:grpSpPr>
              <a:xfrm>
                <a:off x="61920" y="1314360"/>
                <a:ext cx="7207200" cy="4227480"/>
                <a:chOff x="61920" y="1314360"/>
                <a:chExt cx="7207200" cy="4227480"/>
              </a:xfrm>
            </p:grpSpPr>
            <p:sp>
              <p:nvSpPr>
                <p:cNvPr id="74" name="Rectangle 172"/>
                <p:cNvSpPr/>
                <p:nvPr/>
              </p:nvSpPr>
              <p:spPr>
                <a:xfrm>
                  <a:off x="1438200" y="1440000"/>
                  <a:ext cx="5830920" cy="4101840"/>
                </a:xfrm>
                <a:prstGeom prst="rect">
                  <a:avLst/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9000" bIns="9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6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となりま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189"/>
              <p:cNvGrpSpPr/>
              <p:nvPr/>
            </p:nvGrpSpPr>
            <p:grpSpPr>
              <a:xfrm>
                <a:off x="61920" y="3780000"/>
                <a:ext cx="3527280" cy="684000"/>
                <a:chOff x="61920" y="3780000"/>
                <a:chExt cx="3527280" cy="684000"/>
              </a:xfrm>
            </p:grpSpPr>
            <p:sp>
              <p:nvSpPr>
                <p:cNvPr id="79" name="Line 69"/>
                <p:cNvSpPr/>
                <p:nvPr/>
              </p:nvSpPr>
              <p:spPr>
                <a:xfrm>
                  <a:off x="744480" y="4121280"/>
                  <a:ext cx="28447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Text Box 70"/>
                <p:cNvSpPr/>
                <p:nvPr/>
              </p:nvSpPr>
              <p:spPr>
                <a:xfrm>
                  <a:off x="61920" y="3780000"/>
                  <a:ext cx="936720" cy="68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Century"/>
                      <a:ea typeface="ＭＳ 明朝"/>
                    </a:rPr>
                    <a:t>水色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Century"/>
                      <a:ea typeface="ＭＳ 明朝"/>
                    </a:rPr>
                    <a:t>の線の内側に配置してください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" name="Group 183"/>
              <p:cNvGrpSpPr/>
              <p:nvPr/>
            </p:nvGrpSpPr>
            <p:grpSpPr>
              <a:xfrm>
                <a:off x="1440000" y="1436760"/>
                <a:ext cx="5832360" cy="4106880"/>
                <a:chOff x="1440000" y="1436760"/>
                <a:chExt cx="5832360" cy="4106880"/>
              </a:xfrm>
            </p:grpSpPr>
            <p:grpSp>
              <p:nvGrpSpPr>
                <p:cNvPr id="82" name="Group 184"/>
                <p:cNvGrpSpPr/>
                <p:nvPr/>
              </p:nvGrpSpPr>
              <p:grpSpPr>
                <a:xfrm>
                  <a:off x="1440000" y="1436760"/>
                  <a:ext cx="5832360" cy="4106880"/>
                  <a:chOff x="1440000" y="1436760"/>
                  <a:chExt cx="5832360" cy="4106880"/>
                </a:xfrm>
              </p:grpSpPr>
              <p:sp>
                <p:nvSpPr>
                  <p:cNvPr id="83" name="Freeform 185"/>
                  <p:cNvSpPr/>
                  <p:nvPr/>
                </p:nvSpPr>
                <p:spPr>
                  <a:xfrm rot="16200000">
                    <a:off x="1573200" y="3362400"/>
                    <a:ext cx="2047680" cy="2314440"/>
                  </a:xfrm>
                  <a:custGeom>
                    <a:avLst/>
                    <a:gdLst/>
                    <a:ahLst/>
                    <a:rect l="l" t="t" r="r" b="b"/>
                    <a:pathLst>
                      <a:path w="3225" h="3645">
                        <a:moveTo>
                          <a:pt x="0" y="0"/>
                        </a:moveTo>
                        <a:lnTo>
                          <a:pt x="975" y="735"/>
                        </a:lnTo>
                        <a:lnTo>
                          <a:pt x="3225" y="3645"/>
                        </a:lnTo>
                      </a:path>
                    </a:pathLst>
                  </a:custGeom>
                  <a:noFill/>
                  <a:ln w="324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8640" bIns="86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Freeform 186"/>
                  <p:cNvSpPr/>
                  <p:nvPr/>
                </p:nvSpPr>
                <p:spPr>
                  <a:xfrm rot="16200000">
                    <a:off x="5097600" y="3372120"/>
                    <a:ext cx="2066760" cy="2276280"/>
                  </a:xfrm>
                  <a:custGeom>
                    <a:avLst/>
                    <a:gdLst/>
                    <a:ahLst/>
                    <a:rect l="l" t="t" r="r" b="b"/>
                    <a:pathLst>
                      <a:path w="3255" h="3585">
                        <a:moveTo>
                          <a:pt x="3255" y="0"/>
                        </a:moveTo>
                        <a:lnTo>
                          <a:pt x="975" y="2880"/>
                        </a:lnTo>
                        <a:lnTo>
                          <a:pt x="0" y="3585"/>
                        </a:lnTo>
                      </a:path>
                    </a:pathLst>
                  </a:custGeom>
                  <a:noFill/>
                  <a:ln w="324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8640" bIns="86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Freeform 187"/>
                  <p:cNvSpPr/>
                  <p:nvPr/>
                </p:nvSpPr>
                <p:spPr>
                  <a:xfrm rot="16200000">
                    <a:off x="3139200" y="-259560"/>
                    <a:ext cx="2436840" cy="5829480"/>
                  </a:xfrm>
                  <a:custGeom>
                    <a:avLst/>
                    <a:gdLst/>
                    <a:ahLst/>
                    <a:rect l="l" t="t" r="r" b="b"/>
                    <a:pathLst>
                      <a:path w="3840" h="9180">
                        <a:moveTo>
                          <a:pt x="3840" y="0"/>
                        </a:moveTo>
                        <a:lnTo>
                          <a:pt x="2880" y="640"/>
                        </a:lnTo>
                        <a:lnTo>
                          <a:pt x="160" y="4220"/>
                        </a:lnTo>
                        <a:lnTo>
                          <a:pt x="40" y="4360"/>
                        </a:lnTo>
                        <a:lnTo>
                          <a:pt x="0" y="4480"/>
                        </a:lnTo>
                        <a:lnTo>
                          <a:pt x="0" y="4600"/>
                        </a:lnTo>
                        <a:lnTo>
                          <a:pt x="0" y="4720"/>
                        </a:lnTo>
                        <a:lnTo>
                          <a:pt x="60" y="4840"/>
                        </a:lnTo>
                        <a:lnTo>
                          <a:pt x="220" y="5040"/>
                        </a:lnTo>
                        <a:lnTo>
                          <a:pt x="2880" y="8580"/>
                        </a:lnTo>
                        <a:lnTo>
                          <a:pt x="3820" y="9180"/>
                        </a:lnTo>
                      </a:path>
                    </a:pathLst>
                  </a:custGeom>
                  <a:noFill/>
                  <a:ln w="324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74160" rIns="74160" tIns="8640" bIns="8640" anchor="t">
                    <a:noAutofit/>
                  </a:bodyPr>
                  <a:p>
                    <a:endParaRPr b="0" lang="en-US" sz="17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" name="AutoShape 188"/>
                <p:cNvSpPr/>
                <p:nvPr/>
              </p:nvSpPr>
              <p:spPr>
                <a:xfrm rot="10800000">
                  <a:off x="2158560" y="4015080"/>
                  <a:ext cx="4395960" cy="1171440"/>
                </a:xfrm>
                <a:custGeom>
                  <a:avLst/>
                  <a:gdLst>
                    <a:gd name="textAreaLeft" fmla="*/ 1160280 w 4395960"/>
                    <a:gd name="textAreaRight" fmla="*/ 3235680 w 4395960"/>
                    <a:gd name="textAreaTop" fmla="*/ 309600 h 1171440"/>
                    <a:gd name="textAreaBottom" fmla="*/ 861840 h 117144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7810" y="21600"/>
                      </a:lnTo>
                      <a:lnTo>
                        <a:pt x="1379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74160" rIns="74160" tIns="8640" bIns="8640" anchor="t">
                  <a:noAutofit/>
                </a:bodyPr>
                <a:p>
                  <a:endParaRPr b="0" lang="en-US" sz="1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5600" y="278640"/>
            <a:ext cx="7840440" cy="11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5600" y="1634040"/>
            <a:ext cx="7840440" cy="405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tabLst>
                <a:tab algn="l" pos="0"/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80800"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896760"/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2068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71760" indent="-227160"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793880"/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4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2690640"/>
                <a:tab algn="l" pos="3587760"/>
                <a:tab algn="l" pos="4484520"/>
                <a:tab algn="l" pos="5381640"/>
                <a:tab algn="l" pos="6278400"/>
                <a:tab algn="l" pos="7175520"/>
                <a:tab algn="l" pos="8072280"/>
                <a:tab algn="l" pos="8969400"/>
                <a:tab algn="l" pos="9866160"/>
                <a:tab algn="l" pos="1076328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5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6" marL="2017800" indent="-223920">
              <a:spcBef>
                <a:spcPts val="476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11:31:49Z</dcterms:created>
  <dc:creator>suprint</dc:creator>
  <dc:description/>
  <dc:language>en-US</dc:language>
  <cp:lastModifiedBy>ugo-99</cp:lastModifiedBy>
  <dcterms:modified xsi:type="dcterms:W3CDTF">2015-08-26T10:37:06Z</dcterms:modified>
  <cp:revision>23</cp:revision>
  <dc:subject/>
  <dc:title>スライド 1</dc:title>
</cp:coreProperties>
</file>