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8423275" cy="65913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21200" y="262800"/>
            <a:ext cx="7581240" cy="11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21200" y="1542240"/>
            <a:ext cx="7581240" cy="18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21200" y="3538800"/>
            <a:ext cx="7581240" cy="18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21200" y="262800"/>
            <a:ext cx="7581240" cy="11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21200" y="1542240"/>
            <a:ext cx="3699360" cy="18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305960" y="1542240"/>
            <a:ext cx="3699360" cy="18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21200" y="3538800"/>
            <a:ext cx="3699360" cy="18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305960" y="3538800"/>
            <a:ext cx="3699360" cy="18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21200" y="262800"/>
            <a:ext cx="7581240" cy="11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21200" y="1542240"/>
            <a:ext cx="2440800" cy="18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984400" y="1542240"/>
            <a:ext cx="2440800" cy="18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547600" y="1542240"/>
            <a:ext cx="2440800" cy="18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21200" y="3538800"/>
            <a:ext cx="2440800" cy="18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2984400" y="3538800"/>
            <a:ext cx="2440800" cy="18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547600" y="3538800"/>
            <a:ext cx="2440800" cy="18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21200" y="262800"/>
            <a:ext cx="7581240" cy="11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21200" y="1542240"/>
            <a:ext cx="7581240" cy="382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21200" y="262800"/>
            <a:ext cx="7581240" cy="11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21200" y="1542240"/>
            <a:ext cx="7581240" cy="382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21200" y="262800"/>
            <a:ext cx="7581240" cy="11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21200" y="1542240"/>
            <a:ext cx="3699360" cy="382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305960" y="1542240"/>
            <a:ext cx="3699360" cy="382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21200" y="262800"/>
            <a:ext cx="7581240" cy="11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21200" y="262800"/>
            <a:ext cx="7581240" cy="51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21200" y="262800"/>
            <a:ext cx="7581240" cy="11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21200" y="1542240"/>
            <a:ext cx="3699360" cy="18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305960" y="1542240"/>
            <a:ext cx="3699360" cy="382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21200" y="3538800"/>
            <a:ext cx="3699360" cy="18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21200" y="262800"/>
            <a:ext cx="7581240" cy="11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21200" y="1542240"/>
            <a:ext cx="7581240" cy="382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21200" y="262800"/>
            <a:ext cx="7581240" cy="11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21200" y="1542240"/>
            <a:ext cx="3699360" cy="382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305960" y="1542240"/>
            <a:ext cx="3699360" cy="18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305960" y="3538800"/>
            <a:ext cx="3699360" cy="18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21200" y="262800"/>
            <a:ext cx="7581240" cy="11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21200" y="1542240"/>
            <a:ext cx="3699360" cy="18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305960" y="1542240"/>
            <a:ext cx="3699360" cy="18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21200" y="3538800"/>
            <a:ext cx="7581240" cy="18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21200" y="262800"/>
            <a:ext cx="7581240" cy="11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21200" y="1542240"/>
            <a:ext cx="7581240" cy="18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1200" y="3538800"/>
            <a:ext cx="7581240" cy="18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21200" y="262800"/>
            <a:ext cx="7581240" cy="11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21200" y="1542240"/>
            <a:ext cx="3699360" cy="18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305960" y="1542240"/>
            <a:ext cx="3699360" cy="18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21200" y="3538800"/>
            <a:ext cx="3699360" cy="18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305960" y="3538800"/>
            <a:ext cx="3699360" cy="18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1200" y="262800"/>
            <a:ext cx="7581240" cy="11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21200" y="1542240"/>
            <a:ext cx="2440800" cy="18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2984400" y="1542240"/>
            <a:ext cx="2440800" cy="18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547600" y="1542240"/>
            <a:ext cx="2440800" cy="18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21200" y="3538800"/>
            <a:ext cx="2440800" cy="18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2984400" y="3538800"/>
            <a:ext cx="2440800" cy="18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5547600" y="3538800"/>
            <a:ext cx="2440800" cy="18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21200" y="262800"/>
            <a:ext cx="7581240" cy="11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21200" y="1542240"/>
            <a:ext cx="7581240" cy="382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21200" y="262800"/>
            <a:ext cx="7581240" cy="11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21200" y="1542240"/>
            <a:ext cx="3699360" cy="382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305960" y="1542240"/>
            <a:ext cx="3699360" cy="382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1200" y="262800"/>
            <a:ext cx="7581240" cy="11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21200" y="262800"/>
            <a:ext cx="7581240" cy="51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21200" y="262800"/>
            <a:ext cx="7581240" cy="11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21200" y="1542240"/>
            <a:ext cx="3699360" cy="18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05960" y="1542240"/>
            <a:ext cx="3699360" cy="382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1200" y="3538800"/>
            <a:ext cx="3699360" cy="18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21200" y="262800"/>
            <a:ext cx="7581240" cy="11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21200" y="1542240"/>
            <a:ext cx="3699360" cy="382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305960" y="1542240"/>
            <a:ext cx="3699360" cy="18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305960" y="3538800"/>
            <a:ext cx="3699360" cy="18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21200" y="262800"/>
            <a:ext cx="7581240" cy="11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21200" y="1542240"/>
            <a:ext cx="3699360" cy="18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305960" y="1542240"/>
            <a:ext cx="3699360" cy="18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21200" y="3538800"/>
            <a:ext cx="7581240" cy="18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www.suprint.jp/studio/service/" TargetMode="External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6"/>
          <p:cNvGrpSpPr/>
          <p:nvPr/>
        </p:nvGrpSpPr>
        <p:grpSpPr>
          <a:xfrm>
            <a:off x="1079640" y="1079640"/>
            <a:ext cx="6261120" cy="4432320"/>
            <a:chOff x="1079640" y="1079640"/>
            <a:chExt cx="6261120" cy="4432320"/>
          </a:xfrm>
        </p:grpSpPr>
        <p:sp>
          <p:nvSpPr>
            <p:cNvPr id="1" name="Line 7"/>
            <p:cNvSpPr/>
            <p:nvPr/>
          </p:nvSpPr>
          <p:spPr>
            <a:xfrm>
              <a:off x="1079640" y="1332000"/>
              <a:ext cx="62611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Line 8"/>
            <p:cNvSpPr/>
            <p:nvPr/>
          </p:nvSpPr>
          <p:spPr>
            <a:xfrm>
              <a:off x="1079640" y="1440000"/>
              <a:ext cx="62611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9"/>
            <p:cNvSpPr/>
            <p:nvPr/>
          </p:nvSpPr>
          <p:spPr>
            <a:xfrm>
              <a:off x="1079640" y="5253120"/>
              <a:ext cx="62611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Line 10"/>
            <p:cNvSpPr/>
            <p:nvPr/>
          </p:nvSpPr>
          <p:spPr>
            <a:xfrm>
              <a:off x="1079640" y="5145120"/>
              <a:ext cx="62611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Line 11"/>
            <p:cNvSpPr/>
            <p:nvPr/>
          </p:nvSpPr>
          <p:spPr>
            <a:xfrm>
              <a:off x="1079640" y="3292560"/>
              <a:ext cx="62611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Line 12"/>
            <p:cNvSpPr/>
            <p:nvPr/>
          </p:nvSpPr>
          <p:spPr>
            <a:xfrm>
              <a:off x="1332000" y="1079640"/>
              <a:ext cx="0" cy="4432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13"/>
            <p:cNvSpPr/>
            <p:nvPr/>
          </p:nvSpPr>
          <p:spPr>
            <a:xfrm>
              <a:off x="1440000" y="1079640"/>
              <a:ext cx="0" cy="4432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Line 14"/>
            <p:cNvSpPr/>
            <p:nvPr/>
          </p:nvSpPr>
          <p:spPr>
            <a:xfrm>
              <a:off x="7088040" y="1079640"/>
              <a:ext cx="0" cy="4432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Line 15"/>
            <p:cNvSpPr/>
            <p:nvPr/>
          </p:nvSpPr>
          <p:spPr>
            <a:xfrm>
              <a:off x="6980400" y="1079640"/>
              <a:ext cx="0" cy="4432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Line 16"/>
            <p:cNvSpPr/>
            <p:nvPr/>
          </p:nvSpPr>
          <p:spPr>
            <a:xfrm>
              <a:off x="4210200" y="1079640"/>
              <a:ext cx="0" cy="4432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7"/>
            <p:cNvSpPr/>
            <p:nvPr/>
          </p:nvSpPr>
          <p:spPr>
            <a:xfrm>
              <a:off x="1332000" y="1332000"/>
              <a:ext cx="5757840" cy="39225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Rectangle 21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Oval 22"/>
          <p:cNvSpPr/>
          <p:nvPr/>
        </p:nvSpPr>
        <p:spPr>
          <a:xfrm>
            <a:off x="7124760" y="1079640"/>
            <a:ext cx="216000" cy="21564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Oval 23"/>
          <p:cNvSpPr/>
          <p:nvPr/>
        </p:nvSpPr>
        <p:spPr>
          <a:xfrm>
            <a:off x="7124760" y="5295960"/>
            <a:ext cx="216000" cy="21600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6"/>
          <p:cNvGrpSpPr/>
          <p:nvPr/>
        </p:nvGrpSpPr>
        <p:grpSpPr>
          <a:xfrm>
            <a:off x="1079640" y="1079640"/>
            <a:ext cx="6261120" cy="4432320"/>
            <a:chOff x="1079640" y="1079640"/>
            <a:chExt cx="6261120" cy="4432320"/>
          </a:xfrm>
        </p:grpSpPr>
        <p:sp>
          <p:nvSpPr>
            <p:cNvPr id="52" name="Line 7"/>
            <p:cNvSpPr/>
            <p:nvPr/>
          </p:nvSpPr>
          <p:spPr>
            <a:xfrm>
              <a:off x="1079640" y="1332000"/>
              <a:ext cx="62611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Line 8"/>
            <p:cNvSpPr/>
            <p:nvPr/>
          </p:nvSpPr>
          <p:spPr>
            <a:xfrm>
              <a:off x="1079640" y="1440000"/>
              <a:ext cx="62611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Line 9"/>
            <p:cNvSpPr/>
            <p:nvPr/>
          </p:nvSpPr>
          <p:spPr>
            <a:xfrm>
              <a:off x="1079640" y="5253120"/>
              <a:ext cx="62611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10"/>
            <p:cNvSpPr/>
            <p:nvPr/>
          </p:nvSpPr>
          <p:spPr>
            <a:xfrm>
              <a:off x="1079640" y="5145120"/>
              <a:ext cx="62611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1"/>
            <p:cNvSpPr/>
            <p:nvPr/>
          </p:nvSpPr>
          <p:spPr>
            <a:xfrm>
              <a:off x="1079640" y="3292560"/>
              <a:ext cx="62611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Line 12"/>
            <p:cNvSpPr/>
            <p:nvPr/>
          </p:nvSpPr>
          <p:spPr>
            <a:xfrm>
              <a:off x="1332000" y="1079640"/>
              <a:ext cx="0" cy="4432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3"/>
            <p:cNvSpPr/>
            <p:nvPr/>
          </p:nvSpPr>
          <p:spPr>
            <a:xfrm>
              <a:off x="1440000" y="1079640"/>
              <a:ext cx="0" cy="4432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Line 14"/>
            <p:cNvSpPr/>
            <p:nvPr/>
          </p:nvSpPr>
          <p:spPr>
            <a:xfrm>
              <a:off x="7088040" y="1079640"/>
              <a:ext cx="0" cy="4432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Line 15"/>
            <p:cNvSpPr/>
            <p:nvPr/>
          </p:nvSpPr>
          <p:spPr>
            <a:xfrm>
              <a:off x="6980400" y="1079640"/>
              <a:ext cx="0" cy="4432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16"/>
            <p:cNvSpPr/>
            <p:nvPr/>
          </p:nvSpPr>
          <p:spPr>
            <a:xfrm>
              <a:off x="4210200" y="1079640"/>
              <a:ext cx="0" cy="4432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7"/>
            <p:cNvSpPr/>
            <p:nvPr/>
          </p:nvSpPr>
          <p:spPr>
            <a:xfrm>
              <a:off x="1332000" y="1332000"/>
              <a:ext cx="5757840" cy="392256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Rectangle 21"/>
          <p:cNvSpPr/>
          <p:nvPr/>
        </p:nvSpPr>
        <p:spPr>
          <a:xfrm>
            <a:off x="1079640" y="1079640"/>
            <a:ext cx="190440" cy="190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22"/>
          <p:cNvSpPr/>
          <p:nvPr/>
        </p:nvSpPr>
        <p:spPr>
          <a:xfrm>
            <a:off x="7124760" y="1079640"/>
            <a:ext cx="216000" cy="21564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23"/>
          <p:cNvSpPr/>
          <p:nvPr/>
        </p:nvSpPr>
        <p:spPr>
          <a:xfrm>
            <a:off x="7124760" y="5295960"/>
            <a:ext cx="216000" cy="216000"/>
          </a:xfrm>
          <a:prstGeom prst="ellipse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Ｐ明朝"/>
                <a:ea typeface="ＭＳ Ｐ明朝"/>
              </a:rPr>
              <a:t>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グループ化 16"/>
          <p:cNvGrpSpPr/>
          <p:nvPr/>
        </p:nvGrpSpPr>
        <p:grpSpPr>
          <a:xfrm>
            <a:off x="54000" y="54000"/>
            <a:ext cx="7764480" cy="5091120"/>
            <a:chOff x="54000" y="54000"/>
            <a:chExt cx="7764480" cy="5091120"/>
          </a:xfrm>
        </p:grpSpPr>
        <p:pic>
          <p:nvPicPr>
            <p:cNvPr id="67" name="図 6" descr="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5256360" y="71280"/>
              <a:ext cx="2562120" cy="900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8" name="Group 39"/>
            <p:cNvGrpSpPr/>
            <p:nvPr/>
          </p:nvGrpSpPr>
          <p:grpSpPr>
            <a:xfrm>
              <a:off x="54000" y="54000"/>
              <a:ext cx="6926400" cy="5091120"/>
              <a:chOff x="54000" y="54000"/>
              <a:chExt cx="6926400" cy="5091120"/>
            </a:xfrm>
          </p:grpSpPr>
          <p:grpSp>
            <p:nvGrpSpPr>
              <p:cNvPr id="69" name="Group 27"/>
              <p:cNvGrpSpPr/>
              <p:nvPr/>
            </p:nvGrpSpPr>
            <p:grpSpPr>
              <a:xfrm>
                <a:off x="54000" y="54000"/>
                <a:ext cx="5065560" cy="900000"/>
                <a:chOff x="54000" y="54000"/>
                <a:chExt cx="5065560" cy="900000"/>
              </a:xfrm>
            </p:grpSpPr>
            <p:sp>
              <p:nvSpPr>
                <p:cNvPr id="70" name="Rectangle 65"/>
                <p:cNvSpPr/>
                <p:nvPr/>
              </p:nvSpPr>
              <p:spPr>
                <a:xfrm>
                  <a:off x="54000" y="54000"/>
                  <a:ext cx="1332000" cy="9000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36000" rIns="36000" tIns="36000" bIns="36000" anchor="t">
                  <a:noAutofit/>
                </a:bodyPr>
                <a:p>
                  <a:pPr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r>
                    <a:rPr b="1" lang="ja-JP" sz="1300" spc="-1" strike="noStrike">
                      <a:solidFill>
                        <a:srgbClr val="000000"/>
                      </a:solidFill>
                      <a:latin typeface="Arial"/>
                    </a:rPr>
                    <a:t>単カード　横</a:t>
                  </a: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103×154mm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Text Box 67"/>
                <p:cNvSpPr/>
                <p:nvPr/>
              </p:nvSpPr>
              <p:spPr>
                <a:xfrm>
                  <a:off x="1384200" y="54000"/>
                  <a:ext cx="3735360" cy="900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36000" rIns="36000" tIns="36000" bIns="36000" anchor="t">
                  <a:noAutofit/>
                </a:bodyPr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絵柄や文字等は、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仕上りより</a:t>
                  </a:r>
                  <a:r>
                    <a:rPr b="1" lang="en-US" sz="700" spc="-1" strike="noStrike">
                      <a:solidFill>
                        <a:srgbClr val="ff0000"/>
                      </a:solidFill>
                      <a:latin typeface="Arial"/>
                    </a:rPr>
                    <a:t>10mm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以上内側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に入れて作成ください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写真やロゴ等、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色で作成してください（カラーデータ不可）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片面印刷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となります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透過性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や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半透明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、</a:t>
                  </a:r>
                  <a:r>
                    <a:rPr b="1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パターン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など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変換が正常に出来ない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場合があります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用紙サイズの変更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や、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トンボの移動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、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変形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など</a:t>
                  </a:r>
                  <a:r>
                    <a:rPr b="0" lang="ja-JP" sz="700" spc="-1" strike="noStrike">
                      <a:solidFill>
                        <a:srgbClr val="ff0000"/>
                      </a:solidFill>
                      <a:latin typeface="Arial"/>
                    </a:rPr>
                    <a:t>なさらない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ようお願いします。　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marL="114480" indent="-114480">
                    <a:buClr>
                      <a:srgbClr val="000000"/>
                    </a:buClr>
                    <a:buFont typeface="Arial"/>
                    <a:buChar char="※"/>
                    <a:tabLst>
                      <a:tab algn="l" pos="696960"/>
                      <a:tab algn="l" pos="1393920"/>
                      <a:tab algn="l" pos="2090880"/>
                      <a:tab algn="l" pos="2787480"/>
                      <a:tab algn="l" pos="3484440"/>
                      <a:tab algn="l" pos="4181400"/>
                      <a:tab algn="l" pos="4878360"/>
                      <a:tab algn="l" pos="5575320"/>
                      <a:tab algn="l" pos="6272280"/>
                      <a:tab algn="l" pos="6969240"/>
                      <a:tab algn="l" pos="7666200"/>
                      <a:tab algn="l" pos="8362800"/>
                      <a:tab algn="l" pos="9059760"/>
                      <a:tab algn="l" pos="9756720"/>
                      <a:tab algn="l" pos="10453680"/>
                    </a:tabLst>
                  </a:pP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テンプレートを使用して</a:t>
                  </a:r>
                  <a:r>
                    <a:rPr b="0" lang="en-US" sz="700" spc="-1" strike="noStrike">
                      <a:solidFill>
                        <a:srgbClr val="000000"/>
                      </a:solidFill>
                      <a:latin typeface="Arial"/>
                    </a:rPr>
                    <a:t>PDF</a:t>
                  </a:r>
                  <a:r>
                    <a:rPr b="0" lang="ja-JP" sz="700" spc="-1" strike="noStrike">
                      <a:solidFill>
                        <a:srgbClr val="000000"/>
                      </a:solidFill>
                      <a:latin typeface="Arial"/>
                    </a:rPr>
                    <a:t>を作成する際は、説明部分を削除してください。また、テンプレートと同じサイズかどうか確認してください。</a:t>
                  </a:r>
                  <a:endParaRPr b="0" lang="en-US" sz="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72" name="Picture 30" descr="新Suprintロゴ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71280" y="557280"/>
                  <a:ext cx="543240" cy="342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73" name="Group 38"/>
              <p:cNvGrpSpPr/>
              <p:nvPr/>
            </p:nvGrpSpPr>
            <p:grpSpPr>
              <a:xfrm>
                <a:off x="61920" y="1314360"/>
                <a:ext cx="6918480" cy="3830760"/>
                <a:chOff x="61920" y="1314360"/>
                <a:chExt cx="6918480" cy="3830760"/>
              </a:xfrm>
            </p:grpSpPr>
            <p:sp>
              <p:nvSpPr>
                <p:cNvPr id="74" name="AutoShape 25"/>
                <p:cNvSpPr/>
                <p:nvPr/>
              </p:nvSpPr>
              <p:spPr>
                <a:xfrm>
                  <a:off x="1438200" y="1438200"/>
                  <a:ext cx="5542200" cy="3706920"/>
                </a:xfrm>
                <a:prstGeom prst="roundRect">
                  <a:avLst>
                    <a:gd name="adj" fmla="val 4838"/>
                  </a:avLst>
                </a:prstGeom>
                <a:noFill/>
                <a:ln w="3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5" name="Group 74"/>
                <p:cNvGrpSpPr/>
                <p:nvPr/>
              </p:nvGrpSpPr>
              <p:grpSpPr>
                <a:xfrm>
                  <a:off x="61920" y="1314360"/>
                  <a:ext cx="1368360" cy="544680"/>
                  <a:chOff x="61920" y="1314360"/>
                  <a:chExt cx="1368360" cy="544680"/>
                </a:xfrm>
              </p:grpSpPr>
              <p:sp>
                <p:nvSpPr>
                  <p:cNvPr id="76" name="Line 75"/>
                  <p:cNvSpPr/>
                  <p:nvPr/>
                </p:nvSpPr>
                <p:spPr>
                  <a:xfrm>
                    <a:off x="871560" y="1587600"/>
                    <a:ext cx="558720" cy="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Text Box 76"/>
                  <p:cNvSpPr/>
                  <p:nvPr/>
                </p:nvSpPr>
                <p:spPr>
                  <a:xfrm>
                    <a:off x="61920" y="1314360"/>
                    <a:ext cx="936360" cy="5446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この</a:t>
                    </a: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青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い線が仕上がり位置のイメージです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8" name="Group 37"/>
              <p:cNvGrpSpPr/>
              <p:nvPr/>
            </p:nvGrpSpPr>
            <p:grpSpPr>
              <a:xfrm>
                <a:off x="61920" y="1798560"/>
                <a:ext cx="6559560" cy="2987640"/>
                <a:chOff x="61920" y="1798560"/>
                <a:chExt cx="6559560" cy="2987640"/>
              </a:xfrm>
            </p:grpSpPr>
            <p:sp>
              <p:nvSpPr>
                <p:cNvPr id="79" name="Rectangle 24"/>
                <p:cNvSpPr/>
                <p:nvPr/>
              </p:nvSpPr>
              <p:spPr>
                <a:xfrm>
                  <a:off x="1798560" y="1798560"/>
                  <a:ext cx="4822920" cy="2987640"/>
                </a:xfrm>
                <a:prstGeom prst="rect">
                  <a:avLst/>
                </a:prstGeom>
                <a:noFill/>
                <a:ln w="3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Group 34"/>
                <p:cNvGrpSpPr/>
                <p:nvPr/>
              </p:nvGrpSpPr>
              <p:grpSpPr>
                <a:xfrm>
                  <a:off x="61920" y="1987560"/>
                  <a:ext cx="1727280" cy="684360"/>
                  <a:chOff x="61920" y="1987560"/>
                  <a:chExt cx="1727280" cy="684360"/>
                </a:xfrm>
              </p:grpSpPr>
              <p:sp>
                <p:nvSpPr>
                  <p:cNvPr id="81" name="Line 69"/>
                  <p:cNvSpPr/>
                  <p:nvPr/>
                </p:nvSpPr>
                <p:spPr>
                  <a:xfrm>
                    <a:off x="871560" y="2328840"/>
                    <a:ext cx="917640" cy="0"/>
                  </a:xfrm>
                  <a:prstGeom prst="line">
                    <a:avLst/>
                  </a:prstGeom>
                  <a:ln w="9360">
                    <a:solidFill>
                      <a:srgbClr val="00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Text Box 70"/>
                  <p:cNvSpPr/>
                  <p:nvPr/>
                </p:nvSpPr>
                <p:spPr>
                  <a:xfrm>
                    <a:off x="61920" y="1987560"/>
                    <a:ext cx="936720" cy="68436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18000" rIns="18000" tIns="18000" bIns="18000" anchor="t">
                    <a:noAutofit/>
                  </a:bodyPr>
                  <a:p>
                    <a:pPr algn="just">
                      <a:lnSpc>
                        <a:spcPct val="100000"/>
                      </a:lnSpc>
                      <a:tabLst>
                        <a:tab algn="l" pos="0"/>
                        <a:tab algn="l" pos="696960"/>
                        <a:tab algn="l" pos="1393920"/>
                        <a:tab algn="l" pos="2090880"/>
                        <a:tab algn="l" pos="2787480"/>
                        <a:tab algn="l" pos="3484440"/>
                        <a:tab algn="l" pos="4181400"/>
                        <a:tab algn="l" pos="4878360"/>
                        <a:tab algn="l" pos="5575320"/>
                        <a:tab algn="l" pos="6272280"/>
                        <a:tab algn="l" pos="6969240"/>
                        <a:tab algn="l" pos="7666200"/>
                        <a:tab algn="l" pos="8362800"/>
                        <a:tab algn="l" pos="9059760"/>
                        <a:tab algn="l" pos="9756720"/>
                        <a:tab algn="l" pos="10453680"/>
                      </a:tabLst>
                    </a:pP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この</a:t>
                    </a:r>
                    <a:r>
                      <a:rPr b="1" lang="ja-JP" sz="1000" spc="-1" strike="noStrike">
                        <a:solidFill>
                          <a:srgbClr val="ff0000"/>
                        </a:solidFill>
                        <a:latin typeface="Century"/>
                        <a:ea typeface="ＭＳ 明朝"/>
                      </a:rPr>
                      <a:t>水色</a:t>
                    </a:r>
                    <a:r>
                      <a:rPr b="0" lang="ja-JP" sz="1000" spc="-1" strike="noStrike">
                        <a:solidFill>
                          <a:srgbClr val="000000"/>
                        </a:solidFill>
                        <a:latin typeface="Century"/>
                        <a:ea typeface="ＭＳ 明朝"/>
                      </a:rPr>
                      <a:t>の線の内側に納まるように配置してください。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21200" y="262800"/>
            <a:ext cx="7581240" cy="110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21200" y="1542240"/>
            <a:ext cx="7581240" cy="382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2T01:24:05Z</dcterms:created>
  <dc:creator>User</dc:creator>
  <dc:description/>
  <dc:language>en-US</dc:language>
  <cp:lastModifiedBy>ugo-99</cp:lastModifiedBy>
  <dcterms:modified xsi:type="dcterms:W3CDTF">2015-08-26T08:19:15Z</dcterms:modified>
  <cp:revision>6</cp:revision>
  <dc:subject/>
  <dc:title>スライド 1</dc:title>
</cp:coreProperties>
</file>