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591300" cy="84232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29400" y="335880"/>
            <a:ext cx="5932080" cy="14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29400" y="1971000"/>
            <a:ext cx="593208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400" y="4522680"/>
            <a:ext cx="593208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29400" y="335880"/>
            <a:ext cx="5932080" cy="14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29400" y="1971000"/>
            <a:ext cx="289476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69240" y="1971000"/>
            <a:ext cx="289476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29400" y="4522680"/>
            <a:ext cx="289476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369240" y="4522680"/>
            <a:ext cx="289476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9400" y="335880"/>
            <a:ext cx="5932080" cy="14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29400" y="1971000"/>
            <a:ext cx="19098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34960" y="1971000"/>
            <a:ext cx="19098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340880" y="1971000"/>
            <a:ext cx="19098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329400" y="4522680"/>
            <a:ext cx="19098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2334960" y="4522680"/>
            <a:ext cx="19098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4340880" y="4522680"/>
            <a:ext cx="19098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9400" y="335880"/>
            <a:ext cx="5932080" cy="14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29400" y="1971000"/>
            <a:ext cx="5932080" cy="48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9400" y="335880"/>
            <a:ext cx="5932080" cy="14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9400" y="1971000"/>
            <a:ext cx="5932080" cy="48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9400" y="335880"/>
            <a:ext cx="5932080" cy="14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9400" y="1971000"/>
            <a:ext cx="2894760" cy="48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69240" y="1971000"/>
            <a:ext cx="2894760" cy="48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9400" y="335880"/>
            <a:ext cx="5932080" cy="14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29400" y="335880"/>
            <a:ext cx="5932080" cy="651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9400" y="335880"/>
            <a:ext cx="5932080" cy="14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9400" y="1971000"/>
            <a:ext cx="289476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69240" y="1971000"/>
            <a:ext cx="2894760" cy="48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29400" y="4522680"/>
            <a:ext cx="289476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29400" y="335880"/>
            <a:ext cx="5932080" cy="14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329400" y="1971000"/>
            <a:ext cx="5932080" cy="48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9400" y="335880"/>
            <a:ext cx="5932080" cy="14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9400" y="1971000"/>
            <a:ext cx="2894760" cy="48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369240" y="1971000"/>
            <a:ext cx="289476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369240" y="4522680"/>
            <a:ext cx="289476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9400" y="335880"/>
            <a:ext cx="5932080" cy="14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9400" y="1971000"/>
            <a:ext cx="289476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69240" y="1971000"/>
            <a:ext cx="289476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29400" y="4522680"/>
            <a:ext cx="593208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9400" y="335880"/>
            <a:ext cx="5932080" cy="14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9400" y="1971000"/>
            <a:ext cx="593208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9400" y="4522680"/>
            <a:ext cx="593208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9400" y="335880"/>
            <a:ext cx="5932080" cy="14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9400" y="1971000"/>
            <a:ext cx="289476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369240" y="1971000"/>
            <a:ext cx="289476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29400" y="4522680"/>
            <a:ext cx="289476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3369240" y="4522680"/>
            <a:ext cx="289476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9400" y="335880"/>
            <a:ext cx="5932080" cy="14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9400" y="1971000"/>
            <a:ext cx="19098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2334960" y="1971000"/>
            <a:ext cx="19098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340880" y="1971000"/>
            <a:ext cx="19098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29400" y="4522680"/>
            <a:ext cx="19098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2334960" y="4522680"/>
            <a:ext cx="19098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4340880" y="4522680"/>
            <a:ext cx="19098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9400" y="335880"/>
            <a:ext cx="5932080" cy="14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9400" y="1971000"/>
            <a:ext cx="5932080" cy="48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9400" y="335880"/>
            <a:ext cx="5932080" cy="14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29400" y="1971000"/>
            <a:ext cx="2894760" cy="48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369240" y="1971000"/>
            <a:ext cx="2894760" cy="48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9400" y="335880"/>
            <a:ext cx="5932080" cy="14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329400" y="335880"/>
            <a:ext cx="5932080" cy="651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29400" y="335880"/>
            <a:ext cx="5932080" cy="14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29400" y="1971000"/>
            <a:ext cx="289476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369240" y="1971000"/>
            <a:ext cx="2894760" cy="48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29400" y="4522680"/>
            <a:ext cx="289476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29400" y="335880"/>
            <a:ext cx="5932080" cy="14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29400" y="1971000"/>
            <a:ext cx="2894760" cy="48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369240" y="1971000"/>
            <a:ext cx="289476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369240" y="4522680"/>
            <a:ext cx="289476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29400" y="335880"/>
            <a:ext cx="5932080" cy="14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9400" y="1971000"/>
            <a:ext cx="289476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69240" y="1971000"/>
            <a:ext cx="289476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9400" y="4522680"/>
            <a:ext cx="593208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suprint.jp/studio/service/" TargetMode="External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4"/>
          <p:cNvGrpSpPr/>
          <p:nvPr/>
        </p:nvGrpSpPr>
        <p:grpSpPr>
          <a:xfrm>
            <a:off x="1079640" y="1079640"/>
            <a:ext cx="4432320" cy="6261120"/>
            <a:chOff x="1079640" y="1079640"/>
            <a:chExt cx="4432320" cy="6261120"/>
          </a:xfrm>
        </p:grpSpPr>
        <p:sp>
          <p:nvSpPr>
            <p:cNvPr id="1" name="Line 7"/>
            <p:cNvSpPr/>
            <p:nvPr/>
          </p:nvSpPr>
          <p:spPr>
            <a:xfrm>
              <a:off x="1079640" y="1332000"/>
              <a:ext cx="44323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8"/>
            <p:cNvSpPr/>
            <p:nvPr/>
          </p:nvSpPr>
          <p:spPr>
            <a:xfrm>
              <a:off x="1079640" y="1440000"/>
              <a:ext cx="44323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9"/>
            <p:cNvSpPr/>
            <p:nvPr/>
          </p:nvSpPr>
          <p:spPr>
            <a:xfrm>
              <a:off x="1079640" y="7088040"/>
              <a:ext cx="44323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10"/>
            <p:cNvSpPr/>
            <p:nvPr/>
          </p:nvSpPr>
          <p:spPr>
            <a:xfrm>
              <a:off x="1079640" y="6980400"/>
              <a:ext cx="44323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11"/>
            <p:cNvSpPr/>
            <p:nvPr/>
          </p:nvSpPr>
          <p:spPr>
            <a:xfrm>
              <a:off x="1079640" y="4210200"/>
              <a:ext cx="44323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12"/>
            <p:cNvSpPr/>
            <p:nvPr/>
          </p:nvSpPr>
          <p:spPr>
            <a:xfrm>
              <a:off x="1332000" y="1079640"/>
              <a:ext cx="0" cy="6261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13"/>
            <p:cNvSpPr/>
            <p:nvPr/>
          </p:nvSpPr>
          <p:spPr>
            <a:xfrm>
              <a:off x="1440000" y="1079640"/>
              <a:ext cx="0" cy="6261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14"/>
            <p:cNvSpPr/>
            <p:nvPr/>
          </p:nvSpPr>
          <p:spPr>
            <a:xfrm>
              <a:off x="5253120" y="1079640"/>
              <a:ext cx="0" cy="6261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15"/>
            <p:cNvSpPr/>
            <p:nvPr/>
          </p:nvSpPr>
          <p:spPr>
            <a:xfrm>
              <a:off x="5145120" y="1079640"/>
              <a:ext cx="0" cy="6261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16"/>
            <p:cNvSpPr/>
            <p:nvPr/>
          </p:nvSpPr>
          <p:spPr>
            <a:xfrm>
              <a:off x="3292560" y="1079640"/>
              <a:ext cx="0" cy="6261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7"/>
            <p:cNvSpPr/>
            <p:nvPr/>
          </p:nvSpPr>
          <p:spPr>
            <a:xfrm>
              <a:off x="1332000" y="1332000"/>
              <a:ext cx="3922560" cy="5757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Rectangle 21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Oval 22"/>
          <p:cNvSpPr/>
          <p:nvPr/>
        </p:nvSpPr>
        <p:spPr>
          <a:xfrm>
            <a:off x="5295960" y="1079640"/>
            <a:ext cx="216000" cy="2156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Oval 23"/>
          <p:cNvSpPr/>
          <p:nvPr/>
        </p:nvSpPr>
        <p:spPr>
          <a:xfrm>
            <a:off x="5295960" y="7124760"/>
            <a:ext cx="216000" cy="21600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4"/>
          <p:cNvGrpSpPr/>
          <p:nvPr/>
        </p:nvGrpSpPr>
        <p:grpSpPr>
          <a:xfrm>
            <a:off x="1079640" y="1079640"/>
            <a:ext cx="4432320" cy="6261120"/>
            <a:chOff x="1079640" y="1079640"/>
            <a:chExt cx="4432320" cy="6261120"/>
          </a:xfrm>
        </p:grpSpPr>
        <p:sp>
          <p:nvSpPr>
            <p:cNvPr id="52" name="Line 7"/>
            <p:cNvSpPr/>
            <p:nvPr/>
          </p:nvSpPr>
          <p:spPr>
            <a:xfrm>
              <a:off x="1079640" y="1332000"/>
              <a:ext cx="44323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8"/>
            <p:cNvSpPr/>
            <p:nvPr/>
          </p:nvSpPr>
          <p:spPr>
            <a:xfrm>
              <a:off x="1079640" y="1440000"/>
              <a:ext cx="44323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9"/>
            <p:cNvSpPr/>
            <p:nvPr/>
          </p:nvSpPr>
          <p:spPr>
            <a:xfrm>
              <a:off x="1079640" y="7088040"/>
              <a:ext cx="44323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10"/>
            <p:cNvSpPr/>
            <p:nvPr/>
          </p:nvSpPr>
          <p:spPr>
            <a:xfrm>
              <a:off x="1079640" y="6980400"/>
              <a:ext cx="44323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1"/>
            <p:cNvSpPr/>
            <p:nvPr/>
          </p:nvSpPr>
          <p:spPr>
            <a:xfrm>
              <a:off x="1079640" y="4210200"/>
              <a:ext cx="44323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12"/>
            <p:cNvSpPr/>
            <p:nvPr/>
          </p:nvSpPr>
          <p:spPr>
            <a:xfrm>
              <a:off x="1332000" y="1079640"/>
              <a:ext cx="0" cy="6261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3"/>
            <p:cNvSpPr/>
            <p:nvPr/>
          </p:nvSpPr>
          <p:spPr>
            <a:xfrm>
              <a:off x="1440000" y="1079640"/>
              <a:ext cx="0" cy="6261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14"/>
            <p:cNvSpPr/>
            <p:nvPr/>
          </p:nvSpPr>
          <p:spPr>
            <a:xfrm>
              <a:off x="5253120" y="1079640"/>
              <a:ext cx="0" cy="6261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15"/>
            <p:cNvSpPr/>
            <p:nvPr/>
          </p:nvSpPr>
          <p:spPr>
            <a:xfrm>
              <a:off x="5145120" y="1079640"/>
              <a:ext cx="0" cy="6261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16"/>
            <p:cNvSpPr/>
            <p:nvPr/>
          </p:nvSpPr>
          <p:spPr>
            <a:xfrm>
              <a:off x="3292560" y="1079640"/>
              <a:ext cx="0" cy="6261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7"/>
            <p:cNvSpPr/>
            <p:nvPr/>
          </p:nvSpPr>
          <p:spPr>
            <a:xfrm>
              <a:off x="1332000" y="1332000"/>
              <a:ext cx="3922560" cy="5757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Rectangle 21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22"/>
          <p:cNvSpPr/>
          <p:nvPr/>
        </p:nvSpPr>
        <p:spPr>
          <a:xfrm>
            <a:off x="5295960" y="1079640"/>
            <a:ext cx="216000" cy="2156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23"/>
          <p:cNvSpPr/>
          <p:nvPr/>
        </p:nvSpPr>
        <p:spPr>
          <a:xfrm>
            <a:off x="5295960" y="7124760"/>
            <a:ext cx="216000" cy="21600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グループ化 16"/>
          <p:cNvGrpSpPr/>
          <p:nvPr/>
        </p:nvGrpSpPr>
        <p:grpSpPr>
          <a:xfrm>
            <a:off x="54000" y="54000"/>
            <a:ext cx="5091120" cy="8300880"/>
            <a:chOff x="54000" y="54000"/>
            <a:chExt cx="5091120" cy="8300880"/>
          </a:xfrm>
        </p:grpSpPr>
        <p:pic>
          <p:nvPicPr>
            <p:cNvPr id="67" name="図 6" descr="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2009880" y="7454880"/>
              <a:ext cx="2562120" cy="900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" name="Group 38"/>
            <p:cNvGrpSpPr/>
            <p:nvPr/>
          </p:nvGrpSpPr>
          <p:grpSpPr>
            <a:xfrm>
              <a:off x="54000" y="54000"/>
              <a:ext cx="5091120" cy="6926400"/>
              <a:chOff x="54000" y="54000"/>
              <a:chExt cx="5091120" cy="6926400"/>
            </a:xfrm>
          </p:grpSpPr>
          <p:grpSp>
            <p:nvGrpSpPr>
              <p:cNvPr id="69" name="Group 26"/>
              <p:cNvGrpSpPr/>
              <p:nvPr/>
            </p:nvGrpSpPr>
            <p:grpSpPr>
              <a:xfrm>
                <a:off x="54000" y="54000"/>
                <a:ext cx="5065560" cy="900000"/>
                <a:chOff x="54000" y="54000"/>
                <a:chExt cx="5065560" cy="900000"/>
              </a:xfrm>
            </p:grpSpPr>
            <p:sp>
              <p:nvSpPr>
                <p:cNvPr id="70" name="Rectangle 65"/>
                <p:cNvSpPr/>
                <p:nvPr/>
              </p:nvSpPr>
              <p:spPr>
                <a:xfrm>
                  <a:off x="54000" y="54000"/>
                  <a:ext cx="1332000" cy="90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0" rIns="36000" tIns="36000" bIns="36000" anchor="t">
                  <a:noAutofit/>
                </a:bodyPr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1" lang="ja-JP" sz="1300" spc="-1" strike="noStrike">
                      <a:solidFill>
                        <a:srgbClr val="000000"/>
                      </a:solidFill>
                      <a:latin typeface="Arial"/>
                    </a:rPr>
                    <a:t>単カード　縦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103×154m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Text Box 67"/>
                <p:cNvSpPr/>
                <p:nvPr/>
              </p:nvSpPr>
              <p:spPr>
                <a:xfrm>
                  <a:off x="1384200" y="54000"/>
                  <a:ext cx="3735360" cy="900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t">
                  <a:noAutofit/>
                </a:bodyPr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絵柄や文字等は、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仕上りより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10mm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以上内側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に入れて作成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写真やロゴ等、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色で作成してください（カラーデータ不可）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片面印刷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となります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透過性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半透明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パターン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換が正常に出来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場合があります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用紙サイズの変更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トンボの移動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形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なさら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ようお願いします。　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テンプレートを使用して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PDF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作成する際は、説明部分を削除してください。また、テンプレートと同じサイズかどうか確認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72" name="Picture 29" descr="新Suprintロゴ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1280" y="557280"/>
                  <a:ext cx="543240" cy="342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73" name="Group 37"/>
              <p:cNvGrpSpPr/>
              <p:nvPr/>
            </p:nvGrpSpPr>
            <p:grpSpPr>
              <a:xfrm>
                <a:off x="61920" y="1314360"/>
                <a:ext cx="5083200" cy="5666040"/>
                <a:chOff x="61920" y="1314360"/>
                <a:chExt cx="5083200" cy="5666040"/>
              </a:xfrm>
            </p:grpSpPr>
            <p:sp>
              <p:nvSpPr>
                <p:cNvPr id="74" name="AutoShape 25"/>
                <p:cNvSpPr/>
                <p:nvPr/>
              </p:nvSpPr>
              <p:spPr>
                <a:xfrm>
                  <a:off x="1438200" y="1438200"/>
                  <a:ext cx="3706920" cy="5542200"/>
                </a:xfrm>
                <a:custGeom>
                  <a:avLst/>
                  <a:gdLst>
                    <a:gd name="textAreaLeft" fmla="*/ 52200 w 3706920"/>
                    <a:gd name="textAreaRight" fmla="*/ 3654720 w 3706920"/>
                    <a:gd name="textAreaTop" fmla="*/ 52200 h 5542200"/>
                    <a:gd name="textAreaBottom" fmla="*/ 5490000 h 5542200"/>
                  </a:gdLst>
                  <a:ahLst/>
                  <a:rect l="textAreaLeft" t="textAreaTop" r="textAreaRight" b="textAreaBottom"/>
                  <a:pathLst>
                    <a:path w="21600" h="32293">
                      <a:moveTo>
                        <a:pt x="1045" y="0"/>
                      </a:moveTo>
                      <a:arcTo wR="1045" hR="1045" stAng="16200000" swAng="-5400000"/>
                      <a:lnTo>
                        <a:pt x="0" y="31248"/>
                      </a:lnTo>
                      <a:arcTo wR="1045" hR="1045" stAng="10800000" swAng="-5400000"/>
                      <a:lnTo>
                        <a:pt x="20555" y="32293"/>
                      </a:lnTo>
                      <a:arcTo wR="1045" hR="1045" stAng="5400000" swAng="-5400000"/>
                      <a:lnTo>
                        <a:pt x="21600" y="1045"/>
                      </a:lnTo>
                      <a:arcTo wR="1045" hR="1045" stAng="0" swAng="-5400000"/>
                      <a:close/>
                    </a:path>
                  </a:pathLst>
                </a:custGeom>
                <a:noFill/>
                <a:ln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5" name="Group 74"/>
                <p:cNvGrpSpPr/>
                <p:nvPr/>
              </p:nvGrpSpPr>
              <p:grpSpPr>
                <a:xfrm>
                  <a:off x="61920" y="1314360"/>
                  <a:ext cx="1368360" cy="544680"/>
                  <a:chOff x="61920" y="1314360"/>
                  <a:chExt cx="1368360" cy="544680"/>
                </a:xfrm>
              </p:grpSpPr>
              <p:sp>
                <p:nvSpPr>
                  <p:cNvPr id="76" name="Line 75"/>
                  <p:cNvSpPr/>
                  <p:nvPr/>
                </p:nvSpPr>
                <p:spPr>
                  <a:xfrm>
                    <a:off x="871560" y="1587600"/>
                    <a:ext cx="558720" cy="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Text Box 76"/>
                  <p:cNvSpPr/>
                  <p:nvPr/>
                </p:nvSpPr>
                <p:spPr>
                  <a:xfrm>
                    <a:off x="61920" y="1314360"/>
                    <a:ext cx="936360" cy="544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青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い線が仕上がり位置のイメージで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8" name="Group 36"/>
              <p:cNvGrpSpPr/>
              <p:nvPr/>
            </p:nvGrpSpPr>
            <p:grpSpPr>
              <a:xfrm>
                <a:off x="61920" y="1798560"/>
                <a:ext cx="4724280" cy="4822920"/>
                <a:chOff x="61920" y="1798560"/>
                <a:chExt cx="4724280" cy="4822920"/>
              </a:xfrm>
            </p:grpSpPr>
            <p:sp>
              <p:nvSpPr>
                <p:cNvPr id="79" name="Rectangle 20"/>
                <p:cNvSpPr/>
                <p:nvPr/>
              </p:nvSpPr>
              <p:spPr>
                <a:xfrm>
                  <a:off x="1798560" y="1798560"/>
                  <a:ext cx="2987640" cy="4822920"/>
                </a:xfrm>
                <a:prstGeom prst="rect">
                  <a:avLst/>
                </a:prstGeom>
                <a:noFill/>
                <a:ln w="3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Group 33"/>
                <p:cNvGrpSpPr/>
                <p:nvPr/>
              </p:nvGrpSpPr>
              <p:grpSpPr>
                <a:xfrm>
                  <a:off x="61920" y="1987560"/>
                  <a:ext cx="1727280" cy="684360"/>
                  <a:chOff x="61920" y="1987560"/>
                  <a:chExt cx="1727280" cy="684360"/>
                </a:xfrm>
              </p:grpSpPr>
              <p:sp>
                <p:nvSpPr>
                  <p:cNvPr id="81" name="Line 69"/>
                  <p:cNvSpPr/>
                  <p:nvPr/>
                </p:nvSpPr>
                <p:spPr>
                  <a:xfrm>
                    <a:off x="871560" y="2328840"/>
                    <a:ext cx="917640" cy="0"/>
                  </a:xfrm>
                  <a:prstGeom prst="line">
                    <a:avLst/>
                  </a:prstGeom>
                  <a:ln w="9360">
                    <a:solidFill>
                      <a:srgbClr val="00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Text Box 70"/>
                  <p:cNvSpPr/>
                  <p:nvPr/>
                </p:nvSpPr>
                <p:spPr>
                  <a:xfrm>
                    <a:off x="61920" y="1987560"/>
                    <a:ext cx="936720" cy="68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水色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の線の内側に納まるように配置してください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9400" y="335880"/>
            <a:ext cx="5932080" cy="14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329400" y="1971000"/>
            <a:ext cx="5932080" cy="48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1:24:05Z</dcterms:created>
  <dc:creator>User</dc:creator>
  <dc:description/>
  <dc:language>en-US</dc:language>
  <cp:lastModifiedBy>ugo-99</cp:lastModifiedBy>
  <dcterms:modified xsi:type="dcterms:W3CDTF">2015-08-26T08:19:51Z</dcterms:modified>
  <cp:revision>5</cp:revision>
  <dc:subject/>
  <dc:title>スライド 1</dc:title>
</cp:coreProperties>
</file>