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423275" cy="1029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1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9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7"/>
          <p:cNvSpPr/>
          <p:nvPr/>
        </p:nvSpPr>
        <p:spPr>
          <a:xfrm>
            <a:off x="7124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8"/>
          <p:cNvSpPr/>
          <p:nvPr/>
        </p:nvSpPr>
        <p:spPr>
          <a:xfrm>
            <a:off x="7124760" y="900432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52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9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7"/>
          <p:cNvSpPr/>
          <p:nvPr/>
        </p:nvSpPr>
        <p:spPr>
          <a:xfrm>
            <a:off x="7124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8"/>
          <p:cNvSpPr/>
          <p:nvPr/>
        </p:nvSpPr>
        <p:spPr>
          <a:xfrm>
            <a:off x="7124760" y="900432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764480" cy="8799480"/>
            <a:chOff x="54000" y="54000"/>
            <a:chExt cx="7764480" cy="879948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256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12"/>
            <p:cNvGrpSpPr/>
            <p:nvPr/>
          </p:nvGrpSpPr>
          <p:grpSpPr>
            <a:xfrm>
              <a:off x="54000" y="54000"/>
              <a:ext cx="7035840" cy="8799480"/>
              <a:chOff x="54000" y="54000"/>
              <a:chExt cx="7035840" cy="8799480"/>
            </a:xfrm>
          </p:grpSpPr>
          <p:grpSp>
            <p:nvGrpSpPr>
              <p:cNvPr id="69" name="Group 7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7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Arial"/>
                    </a:rPr>
                    <a:t>二つ折カード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54×206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10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写真やロゴ等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色で作成してください（カラーデータ不可）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片面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とな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2" name="Picture 77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" name="Group 109"/>
              <p:cNvGrpSpPr/>
              <p:nvPr/>
            </p:nvGrpSpPr>
            <p:grpSpPr>
              <a:xfrm>
                <a:off x="61920" y="1798560"/>
                <a:ext cx="6559560" cy="6694560"/>
                <a:chOff x="61920" y="1798560"/>
                <a:chExt cx="6559560" cy="6694560"/>
              </a:xfrm>
            </p:grpSpPr>
            <p:grpSp>
              <p:nvGrpSpPr>
                <p:cNvPr id="74" name="Group 66"/>
                <p:cNvGrpSpPr/>
                <p:nvPr/>
              </p:nvGrpSpPr>
              <p:grpSpPr>
                <a:xfrm>
                  <a:off x="61920" y="1987560"/>
                  <a:ext cx="1727280" cy="684360"/>
                  <a:chOff x="61920" y="1987560"/>
                  <a:chExt cx="1727280" cy="684360"/>
                </a:xfrm>
              </p:grpSpPr>
              <p:sp>
                <p:nvSpPr>
                  <p:cNvPr id="75" name="Line 69"/>
                  <p:cNvSpPr/>
                  <p:nvPr/>
                </p:nvSpPr>
                <p:spPr>
                  <a:xfrm>
                    <a:off x="871560" y="2328840"/>
                    <a:ext cx="91764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納まるよう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08"/>
                <p:cNvGrpSpPr/>
                <p:nvPr/>
              </p:nvGrpSpPr>
              <p:grpSpPr>
                <a:xfrm>
                  <a:off x="1798560" y="1798560"/>
                  <a:ext cx="4822920" cy="6694560"/>
                  <a:chOff x="1798560" y="1798560"/>
                  <a:chExt cx="4822920" cy="6694560"/>
                </a:xfrm>
              </p:grpSpPr>
              <p:sp>
                <p:nvSpPr>
                  <p:cNvPr id="78" name="Rectangle 103"/>
                  <p:cNvSpPr/>
                  <p:nvPr/>
                </p:nvSpPr>
                <p:spPr>
                  <a:xfrm>
                    <a:off x="1798560" y="1798560"/>
                    <a:ext cx="4822920" cy="298764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Rectangle 104"/>
                  <p:cNvSpPr/>
                  <p:nvPr/>
                </p:nvSpPr>
                <p:spPr>
                  <a:xfrm>
                    <a:off x="1798560" y="5505480"/>
                    <a:ext cx="4822920" cy="298764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1069920"/>
                        <a:tab algn="l" pos="2139840"/>
                        <a:tab algn="l" pos="3209760"/>
                        <a:tab algn="l" pos="4280040"/>
                        <a:tab algn="l" pos="5349960"/>
                        <a:tab algn="l" pos="6419880"/>
                        <a:tab algn="l" pos="7489800"/>
                        <a:tab algn="l" pos="8559720"/>
                        <a:tab algn="l" pos="9629640"/>
                        <a:tab algn="l" pos="1069992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111"/>
              <p:cNvGrpSpPr/>
              <p:nvPr/>
            </p:nvGrpSpPr>
            <p:grpSpPr>
              <a:xfrm>
                <a:off x="61920" y="1314360"/>
                <a:ext cx="7027920" cy="7539120"/>
                <a:chOff x="61920" y="1314360"/>
                <a:chExt cx="7027920" cy="7539120"/>
              </a:xfrm>
            </p:grpSpPr>
            <p:grpSp>
              <p:nvGrpSpPr>
                <p:cNvPr id="81" name="Group 106"/>
                <p:cNvGrpSpPr/>
                <p:nvPr/>
              </p:nvGrpSpPr>
              <p:grpSpPr>
                <a:xfrm>
                  <a:off x="61920" y="1314360"/>
                  <a:ext cx="6918120" cy="7539120"/>
                  <a:chOff x="61920" y="1314360"/>
                  <a:chExt cx="6918120" cy="7539120"/>
                </a:xfrm>
              </p:grpSpPr>
              <p:grpSp>
                <p:nvGrpSpPr>
                  <p:cNvPr id="82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83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が仕上がり位置のイメージで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AutoShape 102"/>
                  <p:cNvSpPr/>
                  <p:nvPr/>
                </p:nvSpPr>
                <p:spPr>
                  <a:xfrm rot="5400000">
                    <a:off x="501480" y="2374920"/>
                    <a:ext cx="7413480" cy="5543280"/>
                  </a:xfrm>
                  <a:prstGeom prst="roundRect">
                    <a:avLst>
                      <a:gd name="adj" fmla="val 3093"/>
                    </a:avLst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1069920"/>
                        <a:tab algn="l" pos="2139840"/>
                        <a:tab algn="l" pos="3209760"/>
                        <a:tab algn="l" pos="4280040"/>
                        <a:tab algn="l" pos="5349960"/>
                        <a:tab algn="l" pos="6419880"/>
                        <a:tab algn="l" pos="7489800"/>
                        <a:tab algn="l" pos="8559720"/>
                        <a:tab algn="l" pos="9629640"/>
                        <a:tab algn="l" pos="1069992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Line 110"/>
                <p:cNvSpPr/>
                <p:nvPr/>
              </p:nvSpPr>
              <p:spPr>
                <a:xfrm>
                  <a:off x="1332000" y="5145120"/>
                  <a:ext cx="5757840" cy="0"/>
                </a:xfrm>
                <a:prstGeom prst="line">
                  <a:avLst/>
                </a:prstGeom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401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335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7164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>User</dc:creator>
  <dc:description/>
  <dc:language>en-US</dc:language>
  <cp:lastModifiedBy>ugo-99</cp:lastModifiedBy>
  <dcterms:modified xsi:type="dcterms:W3CDTF">2015-08-26T08:26:29Z</dcterms:modified>
  <cp:revision>12</cp:revision>
  <dc:subject/>
  <dc:title>スライド 1</dc:title>
</cp:coreProperties>
</file>