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4F53-9EE8-4350-931A-56635430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5241-5B8E-4E18-9926-EE7D5D1905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614920" y="4656960"/>
            <a:ext cx="54144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614920" y="4656960"/>
            <a:ext cx="54144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Oval 79"/>
          <p:cNvSpPr/>
          <p:nvPr/>
        </p:nvSpPr>
        <p:spPr>
          <a:xfrm>
            <a:off x="4863960" y="10857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80"/>
          <p:cNvSpPr/>
          <p:nvPr/>
        </p:nvSpPr>
        <p:spPr>
          <a:xfrm>
            <a:off x="4857840" y="3887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53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79"/>
          <p:cNvSpPr/>
          <p:nvPr/>
        </p:nvSpPr>
        <p:spPr>
          <a:xfrm>
            <a:off x="4863960" y="10857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0"/>
          <p:cNvSpPr/>
          <p:nvPr/>
        </p:nvSpPr>
        <p:spPr>
          <a:xfrm>
            <a:off x="4857840" y="3887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6051600" cy="5057640"/>
            <a:chOff x="54000" y="54000"/>
            <a:chExt cx="6051600" cy="5057640"/>
          </a:xfrm>
        </p:grpSpPr>
        <p:grpSp>
          <p:nvGrpSpPr>
            <p:cNvPr id="68" name="Group 50"/>
            <p:cNvGrpSpPr/>
            <p:nvPr/>
          </p:nvGrpSpPr>
          <p:grpSpPr>
            <a:xfrm>
              <a:off x="54000" y="54000"/>
              <a:ext cx="6051600" cy="3689280"/>
              <a:chOff x="54000" y="54000"/>
              <a:chExt cx="6051600" cy="3689280"/>
            </a:xfrm>
          </p:grpSpPr>
          <p:pic>
            <p:nvPicPr>
              <p:cNvPr id="69" name="Picture 7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132520" y="1044720"/>
                <a:ext cx="973080" cy="268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48"/>
              <p:cNvGrpSpPr/>
              <p:nvPr/>
            </p:nvGrpSpPr>
            <p:grpSpPr>
              <a:xfrm>
                <a:off x="54000" y="54000"/>
                <a:ext cx="5065560" cy="3689280"/>
                <a:chOff x="54000" y="54000"/>
                <a:chExt cx="5065560" cy="3689280"/>
              </a:xfrm>
            </p:grpSpPr>
            <p:grpSp>
              <p:nvGrpSpPr>
                <p:cNvPr id="71" name="グループ化 42"/>
                <p:cNvGrpSpPr/>
                <p:nvPr/>
              </p:nvGrpSpPr>
              <p:grpSpPr>
                <a:xfrm>
                  <a:off x="69840" y="1332000"/>
                  <a:ext cx="4646520" cy="2411280"/>
                  <a:chOff x="69840" y="1332000"/>
                  <a:chExt cx="4646520" cy="2411280"/>
                </a:xfrm>
              </p:grpSpPr>
              <p:grpSp>
                <p:nvGrpSpPr>
                  <p:cNvPr id="72" name="Group 77"/>
                  <p:cNvGrpSpPr/>
                  <p:nvPr/>
                </p:nvGrpSpPr>
                <p:grpSpPr>
                  <a:xfrm>
                    <a:off x="69840" y="1547640"/>
                    <a:ext cx="4538520" cy="2087640"/>
                    <a:chOff x="69840" y="1547640"/>
                    <a:chExt cx="4538520" cy="2087640"/>
                  </a:xfrm>
                </p:grpSpPr>
                <p:sp>
                  <p:nvSpPr>
                    <p:cNvPr id="73" name="Rectangle 48"/>
                    <p:cNvSpPr/>
                    <p:nvPr/>
                  </p:nvSpPr>
                  <p:spPr>
                    <a:xfrm>
                      <a:off x="1547640" y="1547640"/>
                      <a:ext cx="3060720" cy="2087640"/>
                    </a:xfrm>
                    <a:prstGeom prst="rect">
                      <a:avLst/>
                    </a:prstGeom>
                    <a:noFill/>
                    <a:ln w="648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4160" rIns="7416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4" name="Group 63"/>
                    <p:cNvGrpSpPr/>
                    <p:nvPr/>
                  </p:nvGrpSpPr>
                  <p:grpSpPr>
                    <a:xfrm>
                      <a:off x="69840" y="2017800"/>
                      <a:ext cx="1477800" cy="684000"/>
                      <a:chOff x="69840" y="2017800"/>
                      <a:chExt cx="1477800" cy="684000"/>
                    </a:xfrm>
                  </p:grpSpPr>
                  <p:sp>
                    <p:nvSpPr>
                      <p:cNvPr id="75" name="Line 64"/>
                      <p:cNvSpPr/>
                      <p:nvPr/>
                    </p:nvSpPr>
                    <p:spPr>
                      <a:xfrm>
                        <a:off x="880920" y="2360520"/>
                        <a:ext cx="666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3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" name="Text Box 65"/>
                      <p:cNvSpPr/>
                      <p:nvPr/>
                    </p:nvSpPr>
                    <p:spPr>
                      <a:xfrm>
                        <a:off x="69840" y="2017800"/>
                        <a:ext cx="936360" cy="6840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1" lang="ja-JP" sz="1000" spc="-1" strike="noStrike">
                            <a:solidFill>
                              <a:srgbClr val="ff0000"/>
                            </a:solidFill>
                            <a:latin typeface="Century"/>
                            <a:ea typeface="ＭＳ 明朝"/>
                          </a:rPr>
                          <a:t>切れては困る物</a:t>
                        </a: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はこの</a:t>
                        </a:r>
                        <a:r>
                          <a:rPr b="1" lang="ja-JP" sz="1000" spc="-1" strike="noStrike">
                            <a:solidFill>
                              <a:srgbClr val="ff0000"/>
                            </a:solidFill>
                            <a:latin typeface="Century"/>
                            <a:ea typeface="ＭＳ 明朝"/>
                          </a:rPr>
                          <a:t>水色</a:t>
                        </a: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の線の内側に配置。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" name="Group 66"/>
                  <p:cNvGrpSpPr/>
                  <p:nvPr/>
                </p:nvGrpSpPr>
                <p:grpSpPr>
                  <a:xfrm>
                    <a:off x="69840" y="2817720"/>
                    <a:ext cx="1260360" cy="539640"/>
                    <a:chOff x="69840" y="2817720"/>
                    <a:chExt cx="1260360" cy="539640"/>
                  </a:xfrm>
                </p:grpSpPr>
                <p:sp>
                  <p:nvSpPr>
                    <p:cNvPr id="78" name="Line 67"/>
                    <p:cNvSpPr/>
                    <p:nvPr/>
                  </p:nvSpPr>
                  <p:spPr>
                    <a:xfrm>
                      <a:off x="879480" y="3087720"/>
                      <a:ext cx="450720" cy="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 Box 68"/>
                    <p:cNvSpPr/>
                    <p:nvPr/>
                  </p:nvSpPr>
                  <p:spPr>
                    <a:xfrm>
                      <a:off x="69840" y="2817720"/>
                      <a:ext cx="936360" cy="53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フチ無印刷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まで伸ば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76"/>
                  <p:cNvGrpSpPr/>
                  <p:nvPr/>
                </p:nvGrpSpPr>
                <p:grpSpPr>
                  <a:xfrm>
                    <a:off x="69840" y="1332000"/>
                    <a:ext cx="4646520" cy="2411280"/>
                    <a:chOff x="69840" y="1332000"/>
                    <a:chExt cx="4646520" cy="2411280"/>
                  </a:xfrm>
                </p:grpSpPr>
                <p:sp>
                  <p:nvSpPr>
                    <p:cNvPr id="81" name="Rectangle 56"/>
                    <p:cNvSpPr/>
                    <p:nvPr/>
                  </p:nvSpPr>
                  <p:spPr>
                    <a:xfrm>
                      <a:off x="1440000" y="1440000"/>
                      <a:ext cx="3276360" cy="2303280"/>
                    </a:xfrm>
                    <a:prstGeom prst="rect">
                      <a:avLst/>
                    </a:prstGeom>
                    <a:noFill/>
                    <a:ln w="64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4160" rIns="7416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" name="Group 69"/>
                    <p:cNvGrpSpPr/>
                    <p:nvPr/>
                  </p:nvGrpSpPr>
                  <p:grpSpPr>
                    <a:xfrm>
                      <a:off x="69840" y="1332000"/>
                      <a:ext cx="1368360" cy="544320"/>
                      <a:chOff x="69840" y="1332000"/>
                      <a:chExt cx="1368360" cy="544320"/>
                    </a:xfrm>
                  </p:grpSpPr>
                  <p:sp>
                    <p:nvSpPr>
                      <p:cNvPr id="83" name="Line 70"/>
                      <p:cNvSpPr/>
                      <p:nvPr/>
                    </p:nvSpPr>
                    <p:spPr>
                      <a:xfrm>
                        <a:off x="879480" y="1604880"/>
                        <a:ext cx="55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3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" name="Text Box 71"/>
                      <p:cNvSpPr/>
                      <p:nvPr/>
                    </p:nvSpPr>
                    <p:spPr>
                      <a:xfrm>
                        <a:off x="69840" y="1332000"/>
                        <a:ext cx="936360" cy="544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仕上がり位置。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696960"/>
                            <a:tab algn="l" pos="1393920"/>
                            <a:tab algn="l" pos="2090880"/>
                            <a:tab algn="l" pos="2787480"/>
                            <a:tab algn="l" pos="3484440"/>
                            <a:tab algn="l" pos="4181400"/>
                            <a:tab algn="l" pos="4878360"/>
                            <a:tab algn="l" pos="5575320"/>
                            <a:tab algn="l" pos="6272280"/>
                            <a:tab algn="l" pos="6969240"/>
                            <a:tab algn="l" pos="7666200"/>
                            <a:tab algn="l" pos="8362800"/>
                            <a:tab algn="l" pos="9059760"/>
                            <a:tab algn="l" pos="9756720"/>
                            <a:tab algn="l" pos="10453680"/>
                          </a:tabLst>
                        </a:pP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この</a:t>
                        </a:r>
                        <a:r>
                          <a:rPr b="1" lang="ja-JP" sz="1000" spc="-1" strike="noStrike">
                            <a:solidFill>
                              <a:srgbClr val="ff0000"/>
                            </a:solidFill>
                            <a:latin typeface="Century"/>
                            <a:ea typeface="ＭＳ 明朝"/>
                          </a:rPr>
                          <a:t>青</a:t>
                        </a:r>
                        <a:r>
                          <a:rPr b="0" lang="ja-JP" sz="1000" spc="-1" strike="noStrike">
                            <a:solidFill>
                              <a:srgbClr val="000000"/>
                            </a:solidFill>
                            <a:latin typeface="Century"/>
                            <a:ea typeface="ＭＳ 明朝"/>
                          </a:rPr>
                          <a:t>い線でカットします。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5" name="Group 4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8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B8</a:t>
                    </a:r>
                    <a:r>
                      <a:rPr b="1" lang="ja-JP" sz="1600" spc="-1" strike="noStrike">
                        <a:solidFill>
                          <a:srgbClr val="000000"/>
                        </a:solidFill>
                        <a:latin typeface="Arial"/>
                      </a:rPr>
                      <a:t>サイズ　横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4×91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ご希望の場合、外側の黒い線まで背景や画像を伸ばして下さい。（右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切れては困る絵柄や文字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は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、仕上り（青い四角）より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～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Arial"/>
                      </a:rPr>
                      <a:t>3mm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以上内側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（水色の四角の中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に入れて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換が正常に出来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や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トンボの移動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変形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など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Arial"/>
                      </a:rPr>
                      <a:t>なさらない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よう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buClr>
                        <a:srgbClr val="000000"/>
                      </a:buClr>
                      <a:buFont typeface="Arial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テンプレートを使用して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を作成する際は、説明部分を削除してください。また、テンプレートと同じサイズかどうか確認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8" name="Picture 47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557280"/>
                    <a:ext cx="5432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89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187280" y="4248360"/>
              <a:ext cx="38149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01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620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33640" indent="-1620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5728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1:37Z</dcterms:modified>
  <cp:revision>28</cp:revision>
  <dc:subject/>
  <dc:title>スライド 1</dc:title>
</cp:coreProperties>
</file>