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0A96-F9A5-453F-94D6-DC7F0BE8C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3124-9C75-47B5-8392-A23B49C6E8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3997080" cy="5330520"/>
            <a:chOff x="1079640" y="1079640"/>
            <a:chExt cx="3997080" cy="533052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74184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045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153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0780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4821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349092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SzPct val="53000"/>
                <a:buFont typeface="ＭＳ 明朝"/>
                <a:buChar char="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07"/>
          <p:cNvSpPr/>
          <p:nvPr/>
        </p:nvSpPr>
        <p:spPr>
          <a:xfrm>
            <a:off x="4879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08"/>
          <p:cNvSpPr/>
          <p:nvPr/>
        </p:nvSpPr>
        <p:spPr>
          <a:xfrm>
            <a:off x="4878360" y="62118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3997080" cy="5330520"/>
            <a:chOff x="1079640" y="1079640"/>
            <a:chExt cx="3997080" cy="533052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74184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6045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615312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0780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4821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349092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SzPct val="53000"/>
                <a:buFont typeface="ＭＳ 明朝"/>
                <a:buChar char="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107"/>
          <p:cNvSpPr/>
          <p:nvPr/>
        </p:nvSpPr>
        <p:spPr>
          <a:xfrm>
            <a:off x="4879800" y="103824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8"/>
          <p:cNvSpPr/>
          <p:nvPr/>
        </p:nvSpPr>
        <p:spPr>
          <a:xfrm>
            <a:off x="4878360" y="62118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102360" cy="7326360"/>
            <a:chOff x="54000" y="54000"/>
            <a:chExt cx="6102360" cy="7326360"/>
          </a:xfrm>
        </p:grpSpPr>
        <p:grpSp>
          <p:nvGrpSpPr>
            <p:cNvPr id="67" name="Group 48"/>
            <p:cNvGrpSpPr/>
            <p:nvPr/>
          </p:nvGrpSpPr>
          <p:grpSpPr>
            <a:xfrm>
              <a:off x="54000" y="54000"/>
              <a:ext cx="6102360" cy="5994360"/>
              <a:chOff x="54000" y="54000"/>
              <a:chExt cx="6102360" cy="5994360"/>
            </a:xfrm>
          </p:grpSpPr>
          <p:grpSp>
            <p:nvGrpSpPr>
              <p:cNvPr id="68" name="Group 95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96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97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105"/>
              <p:cNvGrpSpPr/>
              <p:nvPr/>
            </p:nvGrpSpPr>
            <p:grpSpPr>
              <a:xfrm>
                <a:off x="61920" y="1314360"/>
                <a:ext cx="4654440" cy="4734000"/>
                <a:chOff x="61920" y="1314360"/>
                <a:chExt cx="4654440" cy="4734000"/>
              </a:xfrm>
            </p:grpSpPr>
            <p:sp>
              <p:nvSpPr>
                <p:cNvPr id="72" name="Rectangle 73"/>
                <p:cNvSpPr/>
                <p:nvPr/>
              </p:nvSpPr>
              <p:spPr>
                <a:xfrm>
                  <a:off x="1440000" y="1440000"/>
                  <a:ext cx="3276360" cy="4608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buClr>
                      <a:srgbClr val="000000"/>
                    </a:buClr>
                    <a:buSzPct val="53000"/>
                    <a:buFont typeface="ＭＳ 明朝"/>
                    <a:buChar char="※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100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101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102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6" name="Picture 103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5138640" y="144144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104"/>
              <p:cNvGrpSpPr/>
              <p:nvPr/>
            </p:nvGrpSpPr>
            <p:grpSpPr>
              <a:xfrm>
                <a:off x="61920" y="1547640"/>
                <a:ext cx="4546440" cy="4392720"/>
                <a:chOff x="61920" y="1547640"/>
                <a:chExt cx="4546440" cy="4392720"/>
              </a:xfrm>
            </p:grpSpPr>
            <p:sp>
              <p:nvSpPr>
                <p:cNvPr id="78" name="Rectangle 65"/>
                <p:cNvSpPr/>
                <p:nvPr/>
              </p:nvSpPr>
              <p:spPr>
                <a:xfrm>
                  <a:off x="1547640" y="1547640"/>
                  <a:ext cx="3060720" cy="439272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buClr>
                      <a:srgbClr val="000000"/>
                    </a:buClr>
                    <a:buSzPct val="53000"/>
                    <a:buFont typeface="ＭＳ 明朝"/>
                    <a:buChar char="※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92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80" name="Line 93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94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7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1×12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SzPct val="53000"/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179000" y="6516720"/>
              <a:ext cx="38149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5120" indent="-1951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45:35Z</dcterms:modified>
  <cp:revision>20</cp:revision>
  <dc:subject/>
  <dc:title>スライド 1</dc:title>
</cp:coreProperties>
</file>