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6156325" cy="7491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2019240" y="685440"/>
            <a:ext cx="28195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26AAE-3918-41E8-B9EC-4391D8E928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82B78-F15C-45AB-9DDF-16C14EE5FD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2019240" y="685800"/>
            <a:ext cx="281952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55400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7800" y="4022280"/>
            <a:ext cx="55400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46760" y="175284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07800" y="402228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146760" y="402228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178380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181240" y="1752840"/>
            <a:ext cx="178380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054680" y="1752840"/>
            <a:ext cx="178380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07800" y="4022280"/>
            <a:ext cx="178380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2181240" y="4022280"/>
            <a:ext cx="178380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4054680" y="4022280"/>
            <a:ext cx="178380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07800" y="1752840"/>
            <a:ext cx="55400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55400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27032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6760" y="1752840"/>
            <a:ext cx="27032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07800" y="298800"/>
            <a:ext cx="5540040" cy="57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146760" y="1752840"/>
            <a:ext cx="27032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07800" y="402228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307800" y="1752840"/>
            <a:ext cx="55400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27032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146760" y="175284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146760" y="402228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146760" y="175284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7800" y="4022280"/>
            <a:ext cx="55400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55400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07800" y="4022280"/>
            <a:ext cx="55400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146760" y="175284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07800" y="402228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3146760" y="402228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178380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2181240" y="1752840"/>
            <a:ext cx="178380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054680" y="1752840"/>
            <a:ext cx="178380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07800" y="4022280"/>
            <a:ext cx="178380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2181240" y="4022280"/>
            <a:ext cx="178380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4054680" y="4022280"/>
            <a:ext cx="178380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55400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27032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146760" y="1752840"/>
            <a:ext cx="27032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307800" y="298800"/>
            <a:ext cx="5540040" cy="57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146760" y="1752840"/>
            <a:ext cx="27032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7800" y="402228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27032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146760" y="175284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146760" y="402228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46760" y="175284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7800" y="4022280"/>
            <a:ext cx="55400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hyperlink" Target="http://www.suprint.jp/studio/design_inquiry/regist.php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7"/>
          <p:cNvGrpSpPr/>
          <p:nvPr/>
        </p:nvGrpSpPr>
        <p:grpSpPr>
          <a:xfrm>
            <a:off x="1079640" y="1079640"/>
            <a:ext cx="3997080" cy="5330520"/>
            <a:chOff x="1079640" y="1079640"/>
            <a:chExt cx="3997080" cy="5330520"/>
          </a:xfrm>
        </p:grpSpPr>
        <p:sp>
          <p:nvSpPr>
            <p:cNvPr id="1" name="Line 24"/>
            <p:cNvSpPr/>
            <p:nvPr/>
          </p:nvSpPr>
          <p:spPr>
            <a:xfrm>
              <a:off x="1079640" y="1330200"/>
              <a:ext cx="3997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25"/>
            <p:cNvSpPr/>
            <p:nvPr/>
          </p:nvSpPr>
          <p:spPr>
            <a:xfrm>
              <a:off x="1079640" y="1438200"/>
              <a:ext cx="3997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26"/>
            <p:cNvSpPr/>
            <p:nvPr/>
          </p:nvSpPr>
          <p:spPr>
            <a:xfrm>
              <a:off x="1079640" y="3741840"/>
              <a:ext cx="3997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7"/>
            <p:cNvSpPr/>
            <p:nvPr/>
          </p:nvSpPr>
          <p:spPr>
            <a:xfrm>
              <a:off x="1079640" y="6045120"/>
              <a:ext cx="3997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8"/>
            <p:cNvSpPr/>
            <p:nvPr/>
          </p:nvSpPr>
          <p:spPr>
            <a:xfrm>
              <a:off x="1079640" y="6153120"/>
              <a:ext cx="3997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9"/>
            <p:cNvSpPr/>
            <p:nvPr/>
          </p:nvSpPr>
          <p:spPr>
            <a:xfrm>
              <a:off x="1330200" y="1079640"/>
              <a:ext cx="0" cy="533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30"/>
            <p:cNvSpPr/>
            <p:nvPr/>
          </p:nvSpPr>
          <p:spPr>
            <a:xfrm>
              <a:off x="1438200" y="1079640"/>
              <a:ext cx="0" cy="533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31"/>
            <p:cNvSpPr/>
            <p:nvPr/>
          </p:nvSpPr>
          <p:spPr>
            <a:xfrm>
              <a:off x="3078000" y="1079640"/>
              <a:ext cx="0" cy="533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32"/>
            <p:cNvSpPr/>
            <p:nvPr/>
          </p:nvSpPr>
          <p:spPr>
            <a:xfrm>
              <a:off x="4713120" y="1079640"/>
              <a:ext cx="0" cy="533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33"/>
            <p:cNvSpPr/>
            <p:nvPr/>
          </p:nvSpPr>
          <p:spPr>
            <a:xfrm>
              <a:off x="4821120" y="1079640"/>
              <a:ext cx="0" cy="533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34"/>
            <p:cNvSpPr/>
            <p:nvPr/>
          </p:nvSpPr>
          <p:spPr>
            <a:xfrm>
              <a:off x="1330200" y="1330200"/>
              <a:ext cx="3490920" cy="4822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SzPct val="53000"/>
                <a:buFont typeface="ＭＳ 明朝"/>
                <a:buChar char="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Oval 107"/>
          <p:cNvSpPr/>
          <p:nvPr/>
        </p:nvSpPr>
        <p:spPr>
          <a:xfrm>
            <a:off x="4879800" y="103824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Oval 108"/>
          <p:cNvSpPr/>
          <p:nvPr/>
        </p:nvSpPr>
        <p:spPr>
          <a:xfrm>
            <a:off x="4878360" y="621180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47"/>
          <p:cNvGrpSpPr/>
          <p:nvPr/>
        </p:nvGrpSpPr>
        <p:grpSpPr>
          <a:xfrm>
            <a:off x="1079640" y="1079640"/>
            <a:ext cx="3997080" cy="5330520"/>
            <a:chOff x="1079640" y="1079640"/>
            <a:chExt cx="3997080" cy="5330520"/>
          </a:xfrm>
        </p:grpSpPr>
        <p:sp>
          <p:nvSpPr>
            <p:cNvPr id="52" name="Line 24"/>
            <p:cNvSpPr/>
            <p:nvPr/>
          </p:nvSpPr>
          <p:spPr>
            <a:xfrm>
              <a:off x="1079640" y="1330200"/>
              <a:ext cx="3997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25"/>
            <p:cNvSpPr/>
            <p:nvPr/>
          </p:nvSpPr>
          <p:spPr>
            <a:xfrm>
              <a:off x="1079640" y="1438200"/>
              <a:ext cx="3997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26"/>
            <p:cNvSpPr/>
            <p:nvPr/>
          </p:nvSpPr>
          <p:spPr>
            <a:xfrm>
              <a:off x="1079640" y="3741840"/>
              <a:ext cx="3997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27"/>
            <p:cNvSpPr/>
            <p:nvPr/>
          </p:nvSpPr>
          <p:spPr>
            <a:xfrm>
              <a:off x="1079640" y="6045120"/>
              <a:ext cx="3997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28"/>
            <p:cNvSpPr/>
            <p:nvPr/>
          </p:nvSpPr>
          <p:spPr>
            <a:xfrm>
              <a:off x="1079640" y="6153120"/>
              <a:ext cx="3997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29"/>
            <p:cNvSpPr/>
            <p:nvPr/>
          </p:nvSpPr>
          <p:spPr>
            <a:xfrm>
              <a:off x="1330200" y="1079640"/>
              <a:ext cx="0" cy="533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30"/>
            <p:cNvSpPr/>
            <p:nvPr/>
          </p:nvSpPr>
          <p:spPr>
            <a:xfrm>
              <a:off x="1438200" y="1079640"/>
              <a:ext cx="0" cy="533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31"/>
            <p:cNvSpPr/>
            <p:nvPr/>
          </p:nvSpPr>
          <p:spPr>
            <a:xfrm>
              <a:off x="3078000" y="1079640"/>
              <a:ext cx="0" cy="533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32"/>
            <p:cNvSpPr/>
            <p:nvPr/>
          </p:nvSpPr>
          <p:spPr>
            <a:xfrm>
              <a:off x="4713120" y="1079640"/>
              <a:ext cx="0" cy="533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33"/>
            <p:cNvSpPr/>
            <p:nvPr/>
          </p:nvSpPr>
          <p:spPr>
            <a:xfrm>
              <a:off x="4821120" y="1079640"/>
              <a:ext cx="0" cy="533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34"/>
            <p:cNvSpPr/>
            <p:nvPr/>
          </p:nvSpPr>
          <p:spPr>
            <a:xfrm>
              <a:off x="1330200" y="1330200"/>
              <a:ext cx="3490920" cy="4822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SzPct val="53000"/>
                <a:buFont typeface="ＭＳ 明朝"/>
                <a:buChar char="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Oval 107"/>
          <p:cNvSpPr/>
          <p:nvPr/>
        </p:nvSpPr>
        <p:spPr>
          <a:xfrm>
            <a:off x="4879800" y="103824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08"/>
          <p:cNvSpPr/>
          <p:nvPr/>
        </p:nvSpPr>
        <p:spPr>
          <a:xfrm>
            <a:off x="4878360" y="621180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グループ化 16"/>
          <p:cNvGrpSpPr/>
          <p:nvPr/>
        </p:nvGrpSpPr>
        <p:grpSpPr>
          <a:xfrm>
            <a:off x="54000" y="54000"/>
            <a:ext cx="6102360" cy="7326360"/>
            <a:chOff x="54000" y="54000"/>
            <a:chExt cx="6102360" cy="7326360"/>
          </a:xfrm>
        </p:grpSpPr>
        <p:grpSp>
          <p:nvGrpSpPr>
            <p:cNvPr id="67" name="Group 48"/>
            <p:cNvGrpSpPr/>
            <p:nvPr/>
          </p:nvGrpSpPr>
          <p:grpSpPr>
            <a:xfrm>
              <a:off x="54000" y="54000"/>
              <a:ext cx="6102360" cy="5994360"/>
              <a:chOff x="54000" y="54000"/>
              <a:chExt cx="6102360" cy="5994360"/>
            </a:xfrm>
          </p:grpSpPr>
          <p:grpSp>
            <p:nvGrpSpPr>
              <p:cNvPr id="68" name="Group 95"/>
              <p:cNvGrpSpPr/>
              <p:nvPr/>
            </p:nvGrpSpPr>
            <p:grpSpPr>
              <a:xfrm>
                <a:off x="61920" y="2800440"/>
                <a:ext cx="1260360" cy="539640"/>
                <a:chOff x="61920" y="2800440"/>
                <a:chExt cx="1260360" cy="539640"/>
              </a:xfrm>
            </p:grpSpPr>
            <p:sp>
              <p:nvSpPr>
                <p:cNvPr id="69" name="Line 96"/>
                <p:cNvSpPr/>
                <p:nvPr/>
              </p:nvSpPr>
              <p:spPr>
                <a:xfrm>
                  <a:off x="871560" y="3070440"/>
                  <a:ext cx="450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Text Box 97"/>
                <p:cNvSpPr/>
                <p:nvPr/>
              </p:nvSpPr>
              <p:spPr>
                <a:xfrm>
                  <a:off x="61920" y="2800440"/>
                  <a:ext cx="936360" cy="539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フチ無印刷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は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黒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い線まで伸ば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" name="Group 105"/>
              <p:cNvGrpSpPr/>
              <p:nvPr/>
            </p:nvGrpSpPr>
            <p:grpSpPr>
              <a:xfrm>
                <a:off x="61920" y="1314360"/>
                <a:ext cx="4654440" cy="4734000"/>
                <a:chOff x="61920" y="1314360"/>
                <a:chExt cx="4654440" cy="4734000"/>
              </a:xfrm>
            </p:grpSpPr>
            <p:sp>
              <p:nvSpPr>
                <p:cNvPr id="72" name="Rectangle 73"/>
                <p:cNvSpPr/>
                <p:nvPr/>
              </p:nvSpPr>
              <p:spPr>
                <a:xfrm>
                  <a:off x="1440000" y="1440000"/>
                  <a:ext cx="3276360" cy="4608360"/>
                </a:xfrm>
                <a:prstGeom prst="rect">
                  <a:avLst/>
                </a:prstGeom>
                <a:noFill/>
                <a:ln w="64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buClr>
                      <a:srgbClr val="000000"/>
                    </a:buClr>
                    <a:buSzPct val="53000"/>
                    <a:buFont typeface="ＭＳ 明朝"/>
                    <a:buChar char="※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3" name="Group 100"/>
                <p:cNvGrpSpPr/>
                <p:nvPr/>
              </p:nvGrpSpPr>
              <p:grpSpPr>
                <a:xfrm>
                  <a:off x="61920" y="1314360"/>
                  <a:ext cx="1368360" cy="544680"/>
                  <a:chOff x="61920" y="1314360"/>
                  <a:chExt cx="1368360" cy="544680"/>
                </a:xfrm>
              </p:grpSpPr>
              <p:sp>
                <p:nvSpPr>
                  <p:cNvPr id="74" name="Line 101"/>
                  <p:cNvSpPr/>
                  <p:nvPr/>
                </p:nvSpPr>
                <p:spPr>
                  <a:xfrm>
                    <a:off x="871560" y="158760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Text Box 102"/>
                  <p:cNvSpPr/>
                  <p:nvPr/>
                </p:nvSpPr>
                <p:spPr>
                  <a:xfrm>
                    <a:off x="61920" y="1314360"/>
                    <a:ext cx="936360" cy="54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仕上がり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でカットし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76" name="Picture 103" descr="ぬりたし説明"/>
              <p:cNvPicPr/>
              <p:nvPr/>
            </p:nvPicPr>
            <p:blipFill>
              <a:blip r:embed="rId2"/>
              <a:stretch/>
            </p:blipFill>
            <p:spPr>
              <a:xfrm>
                <a:off x="5138640" y="1441440"/>
                <a:ext cx="1017720" cy="2808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7" name="Group 104"/>
              <p:cNvGrpSpPr/>
              <p:nvPr/>
            </p:nvGrpSpPr>
            <p:grpSpPr>
              <a:xfrm>
                <a:off x="61920" y="1547640"/>
                <a:ext cx="4546440" cy="4392720"/>
                <a:chOff x="61920" y="1547640"/>
                <a:chExt cx="4546440" cy="4392720"/>
              </a:xfrm>
            </p:grpSpPr>
            <p:sp>
              <p:nvSpPr>
                <p:cNvPr id="78" name="Rectangle 65"/>
                <p:cNvSpPr/>
                <p:nvPr/>
              </p:nvSpPr>
              <p:spPr>
                <a:xfrm>
                  <a:off x="1547640" y="1547640"/>
                  <a:ext cx="3060720" cy="4392720"/>
                </a:xfrm>
                <a:prstGeom prst="rect">
                  <a:avLst/>
                </a:prstGeom>
                <a:noFill/>
                <a:ln w="64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buClr>
                      <a:srgbClr val="000000"/>
                    </a:buClr>
                    <a:buSzPct val="53000"/>
                    <a:buFont typeface="ＭＳ 明朝"/>
                    <a:buChar char="※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9" name="Group 92"/>
                <p:cNvGrpSpPr/>
                <p:nvPr/>
              </p:nvGrpSpPr>
              <p:grpSpPr>
                <a:xfrm>
                  <a:off x="61920" y="1987560"/>
                  <a:ext cx="1476360" cy="684360"/>
                  <a:chOff x="61920" y="1987560"/>
                  <a:chExt cx="1476360" cy="684360"/>
                </a:xfrm>
              </p:grpSpPr>
              <p:sp>
                <p:nvSpPr>
                  <p:cNvPr id="80" name="Line 93"/>
                  <p:cNvSpPr/>
                  <p:nvPr/>
                </p:nvSpPr>
                <p:spPr>
                  <a:xfrm>
                    <a:off x="871560" y="2328480"/>
                    <a:ext cx="66672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Text Box 94"/>
                  <p:cNvSpPr/>
                  <p:nvPr/>
                </p:nvSpPr>
                <p:spPr>
                  <a:xfrm>
                    <a:off x="61920" y="1987560"/>
                    <a:ext cx="936360" cy="68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切れては困る物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2" name="Group 43"/>
              <p:cNvGrpSpPr/>
              <p:nvPr/>
            </p:nvGrpSpPr>
            <p:grpSpPr>
              <a:xfrm>
                <a:off x="54000" y="54000"/>
                <a:ext cx="5065560" cy="900000"/>
                <a:chOff x="54000" y="54000"/>
                <a:chExt cx="5065560" cy="900000"/>
              </a:xfrm>
            </p:grpSpPr>
            <p:sp>
              <p:nvSpPr>
                <p:cNvPr id="83" name="Rectangle 65"/>
                <p:cNvSpPr/>
                <p:nvPr/>
              </p:nvSpPr>
              <p:spPr>
                <a:xfrm>
                  <a:off x="54000" y="54000"/>
                  <a:ext cx="133200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B7</a:t>
                  </a:r>
                  <a:r>
                    <a:rPr b="1" lang="ja-JP" sz="1600" spc="-1" strike="noStrike">
                      <a:solidFill>
                        <a:srgbClr val="000000"/>
                      </a:solidFill>
                      <a:latin typeface="Arial"/>
                    </a:rPr>
                    <a:t>サイズ　縦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91×128m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Text Box 67"/>
                <p:cNvSpPr/>
                <p:nvPr/>
              </p:nvSpPr>
              <p:spPr>
                <a:xfrm>
                  <a:off x="1384200" y="54000"/>
                  <a:ext cx="3735360" cy="900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noAutofit/>
                </a:bodyPr>
                <a:p>
                  <a:pPr marL="114480" indent="-114480">
                    <a:buClr>
                      <a:srgbClr val="000000"/>
                    </a:buClr>
                    <a:buSzPct val="53000"/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フチ無印刷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ご希望の場合、外側の黒い線まで背景や画像を伸ばして下さい。（右下図参照）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SzPct val="53000"/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切れては困る絵柄や文字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は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、仕上り（青い四角）より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～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3mm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以上内側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（水色の四角の中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に入れて作成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SzPct val="53000"/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換が正常に出来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SzPct val="53000"/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用紙サイズの変更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トンボの移動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形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なさら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SzPct val="53000"/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テンプレートを使用して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作成する際は、説明部分を削除してください。また、テンプレートと同じサイズかどうか確認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5" name="Picture 46" descr="新Suprintロゴ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1280" y="557280"/>
                  <a:ext cx="54324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86" name="図 1" descr="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1179000" y="6516720"/>
              <a:ext cx="3814920" cy="8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307800" y="1752840"/>
            <a:ext cx="55400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3240" indent="-244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195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65120" indent="-19512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754280" indent="-19548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754280" indent="-19548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754280" indent="-19548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ugo-99</cp:lastModifiedBy>
  <dcterms:modified xsi:type="dcterms:W3CDTF">2015-08-25T08:45:36Z</dcterms:modified>
  <cp:revision>20</cp:revision>
  <dc:subject/>
  <dc:title>スライド 1</dc:title>
</cp:coreProperties>
</file>