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491413" cy="9431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674208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4400" y="5064120"/>
            <a:ext cx="674208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74400" y="506412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29320" y="506412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654280" y="220680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933800" y="220680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74400" y="506412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654280" y="506412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933800" y="506412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74400" y="2206800"/>
            <a:ext cx="674208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674208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74400" y="376200"/>
            <a:ext cx="6742080" cy="73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4400" y="506412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74400" y="2206800"/>
            <a:ext cx="674208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29320" y="506412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74400" y="5064120"/>
            <a:ext cx="674208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674208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74400" y="5064120"/>
            <a:ext cx="674208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74400" y="506412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829320" y="506412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654280" y="220680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33800" y="220680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74400" y="506412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654280" y="506412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4933800" y="506412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674208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74400" y="376200"/>
            <a:ext cx="6742080" cy="73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4400" y="506412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29320" y="506412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74400" y="5064120"/>
            <a:ext cx="674208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079640" y="1079640"/>
            <a:ext cx="5330520" cy="7273800"/>
            <a:chOff x="1079640" y="1079640"/>
            <a:chExt cx="5330520" cy="727380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471312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79884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80964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374184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604512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615312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4822920" cy="676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Oval 90"/>
          <p:cNvSpPr/>
          <p:nvPr/>
        </p:nvSpPr>
        <p:spPr>
          <a:xfrm>
            <a:off x="6202440" y="103824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91"/>
          <p:cNvSpPr/>
          <p:nvPr/>
        </p:nvSpPr>
        <p:spPr>
          <a:xfrm>
            <a:off x="6200640" y="815328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14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7"/>
          <p:cNvGrpSpPr/>
          <p:nvPr/>
        </p:nvGrpSpPr>
        <p:grpSpPr>
          <a:xfrm>
            <a:off x="1079640" y="1079640"/>
            <a:ext cx="5330520" cy="7273800"/>
            <a:chOff x="1079640" y="1079640"/>
            <a:chExt cx="5330520" cy="7273800"/>
          </a:xfrm>
        </p:grpSpPr>
        <p:sp>
          <p:nvSpPr>
            <p:cNvPr id="52" name="Line 24"/>
            <p:cNvSpPr/>
            <p:nvPr/>
          </p:nvSpPr>
          <p:spPr>
            <a:xfrm>
              <a:off x="1079640" y="13302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5"/>
            <p:cNvSpPr/>
            <p:nvPr/>
          </p:nvSpPr>
          <p:spPr>
            <a:xfrm>
              <a:off x="1079640" y="14382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6"/>
            <p:cNvSpPr/>
            <p:nvPr/>
          </p:nvSpPr>
          <p:spPr>
            <a:xfrm>
              <a:off x="1079640" y="471312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7"/>
            <p:cNvSpPr/>
            <p:nvPr/>
          </p:nvSpPr>
          <p:spPr>
            <a:xfrm>
              <a:off x="1079640" y="79884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8"/>
            <p:cNvSpPr/>
            <p:nvPr/>
          </p:nvSpPr>
          <p:spPr>
            <a:xfrm>
              <a:off x="1079640" y="80964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9"/>
            <p:cNvSpPr/>
            <p:nvPr/>
          </p:nvSpPr>
          <p:spPr>
            <a:xfrm>
              <a:off x="133020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30"/>
            <p:cNvSpPr/>
            <p:nvPr/>
          </p:nvSpPr>
          <p:spPr>
            <a:xfrm>
              <a:off x="143820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1"/>
            <p:cNvSpPr/>
            <p:nvPr/>
          </p:nvSpPr>
          <p:spPr>
            <a:xfrm>
              <a:off x="374184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2"/>
            <p:cNvSpPr/>
            <p:nvPr/>
          </p:nvSpPr>
          <p:spPr>
            <a:xfrm>
              <a:off x="604512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3"/>
            <p:cNvSpPr/>
            <p:nvPr/>
          </p:nvSpPr>
          <p:spPr>
            <a:xfrm>
              <a:off x="615312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4"/>
            <p:cNvSpPr/>
            <p:nvPr/>
          </p:nvSpPr>
          <p:spPr>
            <a:xfrm>
              <a:off x="1330200" y="1330200"/>
              <a:ext cx="4822920" cy="676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Oval 90"/>
          <p:cNvSpPr/>
          <p:nvPr/>
        </p:nvSpPr>
        <p:spPr>
          <a:xfrm>
            <a:off x="6202440" y="1038240"/>
            <a:ext cx="24264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91"/>
          <p:cNvSpPr/>
          <p:nvPr/>
        </p:nvSpPr>
        <p:spPr>
          <a:xfrm>
            <a:off x="6200640" y="815328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7435800" cy="9271080"/>
            <a:chOff x="54000" y="54000"/>
            <a:chExt cx="7435800" cy="9271080"/>
          </a:xfrm>
        </p:grpSpPr>
        <p:grpSp>
          <p:nvGrpSpPr>
            <p:cNvPr id="67" name="Group 19"/>
            <p:cNvGrpSpPr/>
            <p:nvPr/>
          </p:nvGrpSpPr>
          <p:grpSpPr>
            <a:xfrm>
              <a:off x="54000" y="54000"/>
              <a:ext cx="7435800" cy="7937640"/>
              <a:chOff x="54000" y="54000"/>
              <a:chExt cx="7435800" cy="7937640"/>
            </a:xfrm>
          </p:grpSpPr>
          <p:grpSp>
            <p:nvGrpSpPr>
              <p:cNvPr id="68" name="Group 87"/>
              <p:cNvGrpSpPr/>
              <p:nvPr/>
            </p:nvGrpSpPr>
            <p:grpSpPr>
              <a:xfrm>
                <a:off x="61920" y="1547640"/>
                <a:ext cx="5878440" cy="6336000"/>
                <a:chOff x="61920" y="1547640"/>
                <a:chExt cx="5878440" cy="6336000"/>
              </a:xfrm>
            </p:grpSpPr>
            <p:sp>
              <p:nvSpPr>
                <p:cNvPr id="69" name="Rectangle 48"/>
                <p:cNvSpPr/>
                <p:nvPr/>
              </p:nvSpPr>
              <p:spPr>
                <a:xfrm>
                  <a:off x="1547640" y="1547640"/>
                  <a:ext cx="4392720" cy="633600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" name="Group 73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71" name="Line 74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Text Box 75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" name="Group 76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74" name="Line 77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Text Box 78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" name="Group 88"/>
              <p:cNvGrpSpPr/>
              <p:nvPr/>
            </p:nvGrpSpPr>
            <p:grpSpPr>
              <a:xfrm>
                <a:off x="61920" y="1314360"/>
                <a:ext cx="5986440" cy="6677280"/>
                <a:chOff x="61920" y="1314360"/>
                <a:chExt cx="5986440" cy="6677280"/>
              </a:xfrm>
            </p:grpSpPr>
            <p:sp>
              <p:nvSpPr>
                <p:cNvPr id="77" name="Rectangle 56"/>
                <p:cNvSpPr/>
                <p:nvPr/>
              </p:nvSpPr>
              <p:spPr>
                <a:xfrm>
                  <a:off x="1440000" y="1440000"/>
                  <a:ext cx="4608360" cy="655164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" name="Group 81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9" name="Line 82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Text Box 83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81" name="Picture 84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6472080" y="1476360"/>
                <a:ext cx="1017720" cy="2808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2" name="Group 34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3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B6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縦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28×182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5" name="Picture 37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6" name="図 1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1825560" y="8461440"/>
              <a:ext cx="381312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74400" y="2206800"/>
            <a:ext cx="674208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06:15:57Z</dcterms:created>
  <dc:creator>User</dc:creator>
  <dc:description/>
  <dc:language>en-US</dc:language>
  <cp:lastModifiedBy>ugo-99</cp:lastModifiedBy>
  <dcterms:modified xsi:type="dcterms:W3CDTF">2015-08-25T08:50:57Z</dcterms:modified>
  <cp:revision>4</cp:revision>
  <dc:subject/>
  <dc:title>スライド 1</dc:title>
</cp:coreProperties>
</file>