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7491413" cy="94313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74400" y="376200"/>
            <a:ext cx="674208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74400" y="2206800"/>
            <a:ext cx="674208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4400" y="5064120"/>
            <a:ext cx="674208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74400" y="376200"/>
            <a:ext cx="674208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74400" y="2206800"/>
            <a:ext cx="329004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29320" y="2206800"/>
            <a:ext cx="329004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374400" y="5064120"/>
            <a:ext cx="329004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829320" y="5064120"/>
            <a:ext cx="329004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74400" y="376200"/>
            <a:ext cx="674208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74400" y="2206800"/>
            <a:ext cx="21708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654280" y="2206800"/>
            <a:ext cx="21708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933800" y="2206800"/>
            <a:ext cx="21708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374400" y="5064120"/>
            <a:ext cx="21708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2654280" y="5064120"/>
            <a:ext cx="21708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4933800" y="5064120"/>
            <a:ext cx="21708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74400" y="376200"/>
            <a:ext cx="674208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74400" y="2206800"/>
            <a:ext cx="6742080" cy="54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74400" y="376200"/>
            <a:ext cx="674208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74400" y="2206800"/>
            <a:ext cx="6742080" cy="54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74400" y="376200"/>
            <a:ext cx="674208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74400" y="2206800"/>
            <a:ext cx="3290040" cy="54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829320" y="2206800"/>
            <a:ext cx="3290040" cy="54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74400" y="376200"/>
            <a:ext cx="674208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374400" y="376200"/>
            <a:ext cx="6742080" cy="73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74400" y="376200"/>
            <a:ext cx="674208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74400" y="2206800"/>
            <a:ext cx="329004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829320" y="2206800"/>
            <a:ext cx="3290040" cy="54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374400" y="5064120"/>
            <a:ext cx="329004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74400" y="376200"/>
            <a:ext cx="674208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374400" y="2206800"/>
            <a:ext cx="6742080" cy="54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74400" y="376200"/>
            <a:ext cx="674208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74400" y="2206800"/>
            <a:ext cx="3290040" cy="54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829320" y="2206800"/>
            <a:ext cx="329004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829320" y="5064120"/>
            <a:ext cx="329004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74400" y="376200"/>
            <a:ext cx="674208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74400" y="2206800"/>
            <a:ext cx="329004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829320" y="2206800"/>
            <a:ext cx="329004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74400" y="5064120"/>
            <a:ext cx="674208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74400" y="376200"/>
            <a:ext cx="674208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74400" y="2206800"/>
            <a:ext cx="674208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74400" y="5064120"/>
            <a:ext cx="674208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74400" y="376200"/>
            <a:ext cx="674208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74400" y="2206800"/>
            <a:ext cx="329004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829320" y="2206800"/>
            <a:ext cx="329004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374400" y="5064120"/>
            <a:ext cx="329004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3829320" y="5064120"/>
            <a:ext cx="329004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74400" y="376200"/>
            <a:ext cx="674208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74400" y="2206800"/>
            <a:ext cx="21708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2654280" y="2206800"/>
            <a:ext cx="21708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933800" y="2206800"/>
            <a:ext cx="21708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374400" y="5064120"/>
            <a:ext cx="21708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2654280" y="5064120"/>
            <a:ext cx="21708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4933800" y="5064120"/>
            <a:ext cx="21708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74400" y="376200"/>
            <a:ext cx="674208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74400" y="2206800"/>
            <a:ext cx="6742080" cy="54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74400" y="376200"/>
            <a:ext cx="674208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74400" y="2206800"/>
            <a:ext cx="3290040" cy="54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829320" y="2206800"/>
            <a:ext cx="3290040" cy="54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74400" y="376200"/>
            <a:ext cx="674208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374400" y="376200"/>
            <a:ext cx="6742080" cy="73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74400" y="376200"/>
            <a:ext cx="674208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74400" y="2206800"/>
            <a:ext cx="329004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829320" y="2206800"/>
            <a:ext cx="3290040" cy="54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74400" y="5064120"/>
            <a:ext cx="329004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74400" y="376200"/>
            <a:ext cx="674208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74400" y="2206800"/>
            <a:ext cx="3290040" cy="54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29320" y="2206800"/>
            <a:ext cx="329004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829320" y="5064120"/>
            <a:ext cx="329004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74400" y="376200"/>
            <a:ext cx="674208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74400" y="2206800"/>
            <a:ext cx="329004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829320" y="2206800"/>
            <a:ext cx="329004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74400" y="5064120"/>
            <a:ext cx="674208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hyperlink" Target="http://www.suprint.jp/studio/design_inquiry/regist.php" TargetMode="External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7"/>
          <p:cNvGrpSpPr/>
          <p:nvPr/>
        </p:nvGrpSpPr>
        <p:grpSpPr>
          <a:xfrm>
            <a:off x="1079640" y="1079640"/>
            <a:ext cx="5330520" cy="7273800"/>
            <a:chOff x="1079640" y="1079640"/>
            <a:chExt cx="5330520" cy="7273800"/>
          </a:xfrm>
        </p:grpSpPr>
        <p:sp>
          <p:nvSpPr>
            <p:cNvPr id="1" name="Line 24"/>
            <p:cNvSpPr/>
            <p:nvPr/>
          </p:nvSpPr>
          <p:spPr>
            <a:xfrm>
              <a:off x="1079640" y="1330200"/>
              <a:ext cx="53305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Line 25"/>
            <p:cNvSpPr/>
            <p:nvPr/>
          </p:nvSpPr>
          <p:spPr>
            <a:xfrm>
              <a:off x="1079640" y="1438200"/>
              <a:ext cx="53305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26"/>
            <p:cNvSpPr/>
            <p:nvPr/>
          </p:nvSpPr>
          <p:spPr>
            <a:xfrm>
              <a:off x="1079640" y="4713120"/>
              <a:ext cx="53305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Line 27"/>
            <p:cNvSpPr/>
            <p:nvPr/>
          </p:nvSpPr>
          <p:spPr>
            <a:xfrm>
              <a:off x="1079640" y="7988400"/>
              <a:ext cx="53305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Line 28"/>
            <p:cNvSpPr/>
            <p:nvPr/>
          </p:nvSpPr>
          <p:spPr>
            <a:xfrm>
              <a:off x="1079640" y="8096400"/>
              <a:ext cx="53305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Line 29"/>
            <p:cNvSpPr/>
            <p:nvPr/>
          </p:nvSpPr>
          <p:spPr>
            <a:xfrm>
              <a:off x="1330200" y="1079640"/>
              <a:ext cx="0" cy="7273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30"/>
            <p:cNvSpPr/>
            <p:nvPr/>
          </p:nvSpPr>
          <p:spPr>
            <a:xfrm>
              <a:off x="1438200" y="1079640"/>
              <a:ext cx="0" cy="7273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31"/>
            <p:cNvSpPr/>
            <p:nvPr/>
          </p:nvSpPr>
          <p:spPr>
            <a:xfrm>
              <a:off x="3741840" y="1079640"/>
              <a:ext cx="0" cy="7273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Line 32"/>
            <p:cNvSpPr/>
            <p:nvPr/>
          </p:nvSpPr>
          <p:spPr>
            <a:xfrm>
              <a:off x="6045120" y="1079640"/>
              <a:ext cx="0" cy="7273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Line 33"/>
            <p:cNvSpPr/>
            <p:nvPr/>
          </p:nvSpPr>
          <p:spPr>
            <a:xfrm>
              <a:off x="6153120" y="1079640"/>
              <a:ext cx="0" cy="7273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34"/>
            <p:cNvSpPr/>
            <p:nvPr/>
          </p:nvSpPr>
          <p:spPr>
            <a:xfrm>
              <a:off x="1330200" y="1330200"/>
              <a:ext cx="4822920" cy="6766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Oval 90"/>
          <p:cNvSpPr/>
          <p:nvPr/>
        </p:nvSpPr>
        <p:spPr>
          <a:xfrm>
            <a:off x="6202440" y="1038240"/>
            <a:ext cx="242640" cy="2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Oval 91"/>
          <p:cNvSpPr/>
          <p:nvPr/>
        </p:nvSpPr>
        <p:spPr>
          <a:xfrm>
            <a:off x="6200640" y="8153280"/>
            <a:ext cx="243000" cy="2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Text Box 14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7"/>
          <p:cNvGrpSpPr/>
          <p:nvPr/>
        </p:nvGrpSpPr>
        <p:grpSpPr>
          <a:xfrm>
            <a:off x="1079640" y="1079640"/>
            <a:ext cx="5330520" cy="7273800"/>
            <a:chOff x="1079640" y="1079640"/>
            <a:chExt cx="5330520" cy="7273800"/>
          </a:xfrm>
        </p:grpSpPr>
        <p:sp>
          <p:nvSpPr>
            <p:cNvPr id="52" name="Line 24"/>
            <p:cNvSpPr/>
            <p:nvPr/>
          </p:nvSpPr>
          <p:spPr>
            <a:xfrm>
              <a:off x="1079640" y="1330200"/>
              <a:ext cx="53305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Line 25"/>
            <p:cNvSpPr/>
            <p:nvPr/>
          </p:nvSpPr>
          <p:spPr>
            <a:xfrm>
              <a:off x="1079640" y="1438200"/>
              <a:ext cx="53305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Line 26"/>
            <p:cNvSpPr/>
            <p:nvPr/>
          </p:nvSpPr>
          <p:spPr>
            <a:xfrm>
              <a:off x="1079640" y="4713120"/>
              <a:ext cx="53305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27"/>
            <p:cNvSpPr/>
            <p:nvPr/>
          </p:nvSpPr>
          <p:spPr>
            <a:xfrm>
              <a:off x="1079640" y="7988400"/>
              <a:ext cx="53305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28"/>
            <p:cNvSpPr/>
            <p:nvPr/>
          </p:nvSpPr>
          <p:spPr>
            <a:xfrm>
              <a:off x="1079640" y="8096400"/>
              <a:ext cx="53305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Line 29"/>
            <p:cNvSpPr/>
            <p:nvPr/>
          </p:nvSpPr>
          <p:spPr>
            <a:xfrm>
              <a:off x="1330200" y="1079640"/>
              <a:ext cx="0" cy="7273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30"/>
            <p:cNvSpPr/>
            <p:nvPr/>
          </p:nvSpPr>
          <p:spPr>
            <a:xfrm>
              <a:off x="1438200" y="1079640"/>
              <a:ext cx="0" cy="7273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Line 31"/>
            <p:cNvSpPr/>
            <p:nvPr/>
          </p:nvSpPr>
          <p:spPr>
            <a:xfrm>
              <a:off x="3741840" y="1079640"/>
              <a:ext cx="0" cy="7273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32"/>
            <p:cNvSpPr/>
            <p:nvPr/>
          </p:nvSpPr>
          <p:spPr>
            <a:xfrm>
              <a:off x="6045120" y="1079640"/>
              <a:ext cx="0" cy="7273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33"/>
            <p:cNvSpPr/>
            <p:nvPr/>
          </p:nvSpPr>
          <p:spPr>
            <a:xfrm>
              <a:off x="6153120" y="1079640"/>
              <a:ext cx="0" cy="7273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34"/>
            <p:cNvSpPr/>
            <p:nvPr/>
          </p:nvSpPr>
          <p:spPr>
            <a:xfrm>
              <a:off x="1330200" y="1330200"/>
              <a:ext cx="4822920" cy="6766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Oval 90"/>
          <p:cNvSpPr/>
          <p:nvPr/>
        </p:nvSpPr>
        <p:spPr>
          <a:xfrm>
            <a:off x="6202440" y="1038240"/>
            <a:ext cx="242640" cy="2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91"/>
          <p:cNvSpPr/>
          <p:nvPr/>
        </p:nvSpPr>
        <p:spPr>
          <a:xfrm>
            <a:off x="6200640" y="8153280"/>
            <a:ext cx="243000" cy="2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4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グループ化 16"/>
          <p:cNvGrpSpPr/>
          <p:nvPr/>
        </p:nvGrpSpPr>
        <p:grpSpPr>
          <a:xfrm>
            <a:off x="54000" y="54000"/>
            <a:ext cx="7435800" cy="9271080"/>
            <a:chOff x="54000" y="54000"/>
            <a:chExt cx="7435800" cy="9271080"/>
          </a:xfrm>
        </p:grpSpPr>
        <p:grpSp>
          <p:nvGrpSpPr>
            <p:cNvPr id="67" name="Group 19"/>
            <p:cNvGrpSpPr/>
            <p:nvPr/>
          </p:nvGrpSpPr>
          <p:grpSpPr>
            <a:xfrm>
              <a:off x="54000" y="54000"/>
              <a:ext cx="7435800" cy="7937640"/>
              <a:chOff x="54000" y="54000"/>
              <a:chExt cx="7435800" cy="7937640"/>
            </a:xfrm>
          </p:grpSpPr>
          <p:grpSp>
            <p:nvGrpSpPr>
              <p:cNvPr id="68" name="Group 87"/>
              <p:cNvGrpSpPr/>
              <p:nvPr/>
            </p:nvGrpSpPr>
            <p:grpSpPr>
              <a:xfrm>
                <a:off x="61920" y="1547640"/>
                <a:ext cx="5878440" cy="6336000"/>
                <a:chOff x="61920" y="1547640"/>
                <a:chExt cx="5878440" cy="6336000"/>
              </a:xfrm>
            </p:grpSpPr>
            <p:sp>
              <p:nvSpPr>
                <p:cNvPr id="69" name="Rectangle 48"/>
                <p:cNvSpPr/>
                <p:nvPr/>
              </p:nvSpPr>
              <p:spPr>
                <a:xfrm>
                  <a:off x="1547640" y="1547640"/>
                  <a:ext cx="4392720" cy="6336000"/>
                </a:xfrm>
                <a:prstGeom prst="rect">
                  <a:avLst/>
                </a:prstGeom>
                <a:solidFill>
                  <a:srgbClr val="ffffff"/>
                </a:solidFill>
                <a:ln w="64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4160" rIns="74160" tIns="9000" bIns="9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0" name="Group 73"/>
                <p:cNvGrpSpPr/>
                <p:nvPr/>
              </p:nvGrpSpPr>
              <p:grpSpPr>
                <a:xfrm>
                  <a:off x="61920" y="1987560"/>
                  <a:ext cx="1476360" cy="684360"/>
                  <a:chOff x="61920" y="1987560"/>
                  <a:chExt cx="1476360" cy="684360"/>
                </a:xfrm>
              </p:grpSpPr>
              <p:sp>
                <p:nvSpPr>
                  <p:cNvPr id="71" name="Line 74"/>
                  <p:cNvSpPr/>
                  <p:nvPr/>
                </p:nvSpPr>
                <p:spPr>
                  <a:xfrm>
                    <a:off x="871560" y="2328480"/>
                    <a:ext cx="666720" cy="0"/>
                  </a:xfrm>
                  <a:prstGeom prst="line">
                    <a:avLst/>
                  </a:prstGeom>
                  <a:ln w="9360">
                    <a:solidFill>
                      <a:srgbClr val="00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Text Box 75"/>
                  <p:cNvSpPr/>
                  <p:nvPr/>
                </p:nvSpPr>
                <p:spPr>
                  <a:xfrm>
                    <a:off x="61920" y="1987560"/>
                    <a:ext cx="936360" cy="6843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切れては困る物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はこの</a:t>
                    </a: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水色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の線の内側に配置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3" name="Group 76"/>
              <p:cNvGrpSpPr/>
              <p:nvPr/>
            </p:nvGrpSpPr>
            <p:grpSpPr>
              <a:xfrm>
                <a:off x="61920" y="2800440"/>
                <a:ext cx="1260360" cy="539640"/>
                <a:chOff x="61920" y="2800440"/>
                <a:chExt cx="1260360" cy="539640"/>
              </a:xfrm>
            </p:grpSpPr>
            <p:sp>
              <p:nvSpPr>
                <p:cNvPr id="74" name="Line 77"/>
                <p:cNvSpPr/>
                <p:nvPr/>
              </p:nvSpPr>
              <p:spPr>
                <a:xfrm>
                  <a:off x="871560" y="3070440"/>
                  <a:ext cx="45072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Text Box 78"/>
                <p:cNvSpPr/>
                <p:nvPr/>
              </p:nvSpPr>
              <p:spPr>
                <a:xfrm>
                  <a:off x="61920" y="2800440"/>
                  <a:ext cx="936360" cy="539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ja-JP" sz="1000" spc="-1" strike="noStrike">
                      <a:solidFill>
                        <a:srgbClr val="ff0000"/>
                      </a:solidFill>
                      <a:latin typeface="Century"/>
                      <a:ea typeface="ＭＳ 明朝"/>
                    </a:rPr>
                    <a:t>フチ無印刷</a:t>
                  </a:r>
                  <a:r>
                    <a:rPr b="0" lang="ja-JP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は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この</a:t>
                  </a:r>
                  <a:r>
                    <a:rPr b="1" lang="ja-JP" sz="1000" spc="-1" strike="noStrike">
                      <a:solidFill>
                        <a:srgbClr val="ff0000"/>
                      </a:solidFill>
                      <a:latin typeface="Century"/>
                      <a:ea typeface="ＭＳ 明朝"/>
                    </a:rPr>
                    <a:t>黒</a:t>
                  </a:r>
                  <a:r>
                    <a:rPr b="0" lang="ja-JP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い線まで伸ばす。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6" name="Group 88"/>
              <p:cNvGrpSpPr/>
              <p:nvPr/>
            </p:nvGrpSpPr>
            <p:grpSpPr>
              <a:xfrm>
                <a:off x="61920" y="1314360"/>
                <a:ext cx="5986440" cy="6677280"/>
                <a:chOff x="61920" y="1314360"/>
                <a:chExt cx="5986440" cy="6677280"/>
              </a:xfrm>
            </p:grpSpPr>
            <p:sp>
              <p:nvSpPr>
                <p:cNvPr id="77" name="Rectangle 56"/>
                <p:cNvSpPr/>
                <p:nvPr/>
              </p:nvSpPr>
              <p:spPr>
                <a:xfrm>
                  <a:off x="1440000" y="1440000"/>
                  <a:ext cx="4608360" cy="6551640"/>
                </a:xfrm>
                <a:prstGeom prst="rect">
                  <a:avLst/>
                </a:prstGeom>
                <a:noFill/>
                <a:ln w="64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4160" rIns="74160" tIns="9000" bIns="9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8" name="Group 81"/>
                <p:cNvGrpSpPr/>
                <p:nvPr/>
              </p:nvGrpSpPr>
              <p:grpSpPr>
                <a:xfrm>
                  <a:off x="61920" y="1314360"/>
                  <a:ext cx="1368360" cy="544680"/>
                  <a:chOff x="61920" y="1314360"/>
                  <a:chExt cx="1368360" cy="544680"/>
                </a:xfrm>
              </p:grpSpPr>
              <p:sp>
                <p:nvSpPr>
                  <p:cNvPr id="79" name="Line 82"/>
                  <p:cNvSpPr/>
                  <p:nvPr/>
                </p:nvSpPr>
                <p:spPr>
                  <a:xfrm>
                    <a:off x="871560" y="1587600"/>
                    <a:ext cx="558720" cy="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Text Box 83"/>
                  <p:cNvSpPr/>
                  <p:nvPr/>
                </p:nvSpPr>
                <p:spPr>
                  <a:xfrm>
                    <a:off x="61920" y="1314360"/>
                    <a:ext cx="936360" cy="544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仕上がり位置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この</a:t>
                    </a: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青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い線でカットします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pic>
            <p:nvPicPr>
              <p:cNvPr id="81" name="Picture 84" descr="ぬりたし説明"/>
              <p:cNvPicPr/>
              <p:nvPr/>
            </p:nvPicPr>
            <p:blipFill>
              <a:blip r:embed="rId2"/>
              <a:stretch/>
            </p:blipFill>
            <p:spPr>
              <a:xfrm>
                <a:off x="6472080" y="1476360"/>
                <a:ext cx="1017720" cy="28083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82" name="Group 34"/>
              <p:cNvGrpSpPr/>
              <p:nvPr/>
            </p:nvGrpSpPr>
            <p:grpSpPr>
              <a:xfrm>
                <a:off x="54000" y="54000"/>
                <a:ext cx="5065560" cy="900000"/>
                <a:chOff x="54000" y="54000"/>
                <a:chExt cx="5065560" cy="900000"/>
              </a:xfrm>
            </p:grpSpPr>
            <p:sp>
              <p:nvSpPr>
                <p:cNvPr id="83" name="Rectangle 65"/>
                <p:cNvSpPr/>
                <p:nvPr/>
              </p:nvSpPr>
              <p:spPr>
                <a:xfrm>
                  <a:off x="54000" y="54000"/>
                  <a:ext cx="1332000" cy="9000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6000" rIns="36000" tIns="36000" bIns="36000" anchor="t">
                  <a:noAutofit/>
                </a:bodyPr>
                <a:p>
                  <a:pPr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B6</a:t>
                  </a:r>
                  <a:r>
                    <a:rPr b="1" lang="ja-JP" sz="1600" spc="-1" strike="noStrike">
                      <a:solidFill>
                        <a:srgbClr val="000000"/>
                      </a:solidFill>
                      <a:latin typeface="Arial"/>
                    </a:rPr>
                    <a:t>サイズ　縦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128×182mm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Text Box 67"/>
                <p:cNvSpPr/>
                <p:nvPr/>
              </p:nvSpPr>
              <p:spPr>
                <a:xfrm>
                  <a:off x="1384200" y="54000"/>
                  <a:ext cx="3735360" cy="900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36000" bIns="36000" anchor="t">
                  <a:noAutofit/>
                </a:bodyPr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フチ無印刷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をご希望の場合、外側の黒い線まで背景や画像を伸ばして下さい。（右下図参照）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切れては困る絵柄や文字等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は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、仕上り（青い四角）より</a:t>
                  </a:r>
                  <a:r>
                    <a:rPr b="1" lang="en-US" sz="700" spc="-1" strike="noStrike">
                      <a:solidFill>
                        <a:srgbClr val="ff0000"/>
                      </a:solidFill>
                      <a:latin typeface="Arial"/>
                    </a:rPr>
                    <a:t>2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～</a:t>
                  </a:r>
                  <a:r>
                    <a:rPr b="1" lang="en-US" sz="700" spc="-1" strike="noStrike">
                      <a:solidFill>
                        <a:srgbClr val="ff0000"/>
                      </a:solidFill>
                      <a:latin typeface="Arial"/>
                    </a:rPr>
                    <a:t>3mm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以上内側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（水色の四角の中）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に入れて作成してください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透過性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や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半透明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、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パターン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など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変換が正常に出来ない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場合があります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用紙サイズの変更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や、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トンボの移動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、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変形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など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なさらない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ようお願いします。　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テンプレートを使用して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Arial"/>
                    </a:rPr>
                    <a:t>PDF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を作成する際は、説明部分を削除してください。また、テンプレートと同じサイズかどうか確認してください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85" name="Picture 37" descr="新Suprintロゴ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71280" y="557280"/>
                  <a:ext cx="543240" cy="342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pic>
          <p:nvPicPr>
            <p:cNvPr id="86" name="図 1" descr="">
              <a:hlinkClick r:id="rId4"/>
            </p:cNvPr>
            <p:cNvPicPr/>
            <p:nvPr/>
          </p:nvPicPr>
          <p:blipFill>
            <a:blip r:embed="rId5"/>
            <a:stretch/>
          </p:blipFill>
          <p:spPr>
            <a:xfrm>
              <a:off x="1825560" y="8461440"/>
              <a:ext cx="3813120" cy="863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74400" y="376200"/>
            <a:ext cx="674208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374400" y="2206800"/>
            <a:ext cx="6742080" cy="54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5T06:15:57Z</dcterms:created>
  <dc:creator>User</dc:creator>
  <dc:description/>
  <dc:language>en-US</dc:language>
  <cp:lastModifiedBy>ugo-99</cp:lastModifiedBy>
  <dcterms:modified xsi:type="dcterms:W3CDTF">2015-08-25T08:50:57Z</dcterms:modified>
  <cp:revision>5</cp:revision>
  <dc:subject/>
  <dc:title>スライド 1</dc:title>
</cp:coreProperties>
</file>