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299-1317-4B08-A539-A4184723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AF7B-AF99-46AA-9EB3-834C2F951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20"/>
          <p:cNvSpPr/>
          <p:nvPr/>
        </p:nvSpPr>
        <p:spPr>
          <a:xfrm>
            <a:off x="10864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1"/>
          <p:cNvSpPr/>
          <p:nvPr/>
        </p:nvSpPr>
        <p:spPr>
          <a:xfrm>
            <a:off x="10863360" y="81532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2079440" cy="7937640"/>
            <a:chOff x="54000" y="54000"/>
            <a:chExt cx="12079440" cy="7937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12079440" cy="7937640"/>
              <a:chOff x="54000" y="54000"/>
              <a:chExt cx="12079440" cy="7937640"/>
            </a:xfrm>
          </p:grpSpPr>
          <p:grpSp>
            <p:nvGrpSpPr>
              <p:cNvPr id="68" name="Group 103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104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05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18"/>
              <p:cNvGrpSpPr/>
              <p:nvPr/>
            </p:nvGrpSpPr>
            <p:grpSpPr>
              <a:xfrm>
                <a:off x="61920" y="1314360"/>
                <a:ext cx="10628280" cy="6677280"/>
                <a:chOff x="61920" y="1314360"/>
                <a:chExt cx="10628280" cy="6677280"/>
              </a:xfrm>
            </p:grpSpPr>
            <p:sp>
              <p:nvSpPr>
                <p:cNvPr id="72" name="Rectangle 57"/>
                <p:cNvSpPr/>
                <p:nvPr/>
              </p:nvSpPr>
              <p:spPr>
                <a:xfrm>
                  <a:off x="1438200" y="1440000"/>
                  <a:ext cx="9252000" cy="65516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8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109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10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" name="Group 117"/>
              <p:cNvGrpSpPr/>
              <p:nvPr/>
            </p:nvGrpSpPr>
            <p:grpSpPr>
              <a:xfrm>
                <a:off x="61920" y="1547640"/>
                <a:ext cx="10522080" cy="6336000"/>
                <a:chOff x="61920" y="1547640"/>
                <a:chExt cx="10522080" cy="6336000"/>
              </a:xfrm>
            </p:grpSpPr>
            <p:sp>
              <p:nvSpPr>
                <p:cNvPr id="77" name="Rectangle 49"/>
                <p:cNvSpPr/>
                <p:nvPr/>
              </p:nvSpPr>
              <p:spPr>
                <a:xfrm>
                  <a:off x="1547640" y="1547640"/>
                  <a:ext cx="9036360" cy="6336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11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11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11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11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11113920" y="1403280"/>
                <a:ext cx="1019520" cy="281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5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7×1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55:12Z</dcterms:modified>
  <cp:revision>20</cp:revision>
  <dc:subject/>
  <dc:title>スライド 1</dc:title>
</cp:coreProperties>
</file>