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7B83-5C8E-4E8D-AC0A-914510541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B327-0A80-4882-8CDE-9F976F9DB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7273800" cy="9974160"/>
            <a:chOff x="1079640" y="1079640"/>
            <a:chExt cx="727380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71312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8096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676620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2"/>
          <p:cNvSpPr/>
          <p:nvPr/>
        </p:nvSpPr>
        <p:spPr>
          <a:xfrm>
            <a:off x="81453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3"/>
          <p:cNvSpPr/>
          <p:nvPr/>
        </p:nvSpPr>
        <p:spPr>
          <a:xfrm>
            <a:off x="8143920" y="10845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7273800" cy="9974160"/>
            <a:chOff x="1079640" y="1079640"/>
            <a:chExt cx="7273800" cy="9974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6062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06869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0796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471312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8096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676620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2"/>
          <p:cNvSpPr/>
          <p:nvPr/>
        </p:nvSpPr>
        <p:spPr>
          <a:xfrm>
            <a:off x="81453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3"/>
          <p:cNvSpPr/>
          <p:nvPr/>
        </p:nvSpPr>
        <p:spPr>
          <a:xfrm>
            <a:off x="8143920" y="10845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9379080" cy="10637640"/>
            <a:chOff x="54000" y="54000"/>
            <a:chExt cx="9379080" cy="10637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9379080" cy="10637640"/>
              <a:chOff x="54000" y="54000"/>
              <a:chExt cx="9379080" cy="10637640"/>
            </a:xfrm>
          </p:grpSpPr>
          <p:grpSp>
            <p:nvGrpSpPr>
              <p:cNvPr id="68" name="Group 78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79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80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88"/>
              <p:cNvGrpSpPr/>
              <p:nvPr/>
            </p:nvGrpSpPr>
            <p:grpSpPr>
              <a:xfrm>
                <a:off x="61920" y="1314360"/>
                <a:ext cx="7929720" cy="9377280"/>
                <a:chOff x="61920" y="1314360"/>
                <a:chExt cx="7929720" cy="9377280"/>
              </a:xfrm>
            </p:grpSpPr>
            <p:sp>
              <p:nvSpPr>
                <p:cNvPr id="72" name="Rectangle 51"/>
                <p:cNvSpPr/>
                <p:nvPr/>
              </p:nvSpPr>
              <p:spPr>
                <a:xfrm>
                  <a:off x="1440000" y="1440000"/>
                  <a:ext cx="6551640" cy="92516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83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84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85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87"/>
              <p:cNvGrpSpPr/>
              <p:nvPr/>
            </p:nvGrpSpPr>
            <p:grpSpPr>
              <a:xfrm>
                <a:off x="61920" y="1547640"/>
                <a:ext cx="7821720" cy="9036360"/>
                <a:chOff x="61920" y="1547640"/>
                <a:chExt cx="7821720" cy="903636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547640" y="1547640"/>
                  <a:ext cx="6336000" cy="90363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75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9" name="Line 76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7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8413920" y="1459080"/>
                <a:ext cx="1019160" cy="2811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82×25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360" y="71280"/>
              <a:ext cx="38149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0080" indent="-3841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30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57480" indent="-308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773440" indent="-3081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773440" indent="-3081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773440" indent="-3081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55:05Z</dcterms:modified>
  <cp:revision>20</cp:revision>
  <dc:subject/>
  <dc:title>スライド 1</dc:title>
</cp:coreProperties>
</file>