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1E7F-DF92-48F9-8B11-59E4A98B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8192-2E9E-44DB-8D54-A9832CB93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147351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14733720" y="10856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147351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14733720" y="10856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0" y="54000"/>
            <a:ext cx="14544720" cy="10637640"/>
            <a:chOff x="0" y="54000"/>
            <a:chExt cx="14544720" cy="106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0" y="54000"/>
              <a:ext cx="14544720" cy="10637640"/>
              <a:chOff x="0" y="54000"/>
              <a:chExt cx="14544720" cy="10637640"/>
            </a:xfrm>
          </p:grpSpPr>
          <p:grpSp>
            <p:nvGrpSpPr>
              <p:cNvPr id="68" name="Group 74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75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6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9"/>
              <p:cNvGrpSpPr/>
              <p:nvPr/>
            </p:nvGrpSpPr>
            <p:grpSpPr>
              <a:xfrm>
                <a:off x="61920" y="1314360"/>
                <a:ext cx="14482800" cy="9377280"/>
                <a:chOff x="61920" y="1314360"/>
                <a:chExt cx="14482800" cy="9377280"/>
              </a:xfrm>
            </p:grpSpPr>
            <p:sp>
              <p:nvSpPr>
                <p:cNvPr id="72" name="Rectangle 52"/>
                <p:cNvSpPr/>
                <p:nvPr/>
              </p:nvSpPr>
              <p:spPr>
                <a:xfrm>
                  <a:off x="1440000" y="1440000"/>
                  <a:ext cx="13104720" cy="92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79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80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1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547640"/>
                <a:ext cx="14374800" cy="9036360"/>
                <a:chOff x="61920" y="1547640"/>
                <a:chExt cx="14374800" cy="9036360"/>
              </a:xfrm>
            </p:grpSpPr>
            <p:sp>
              <p:nvSpPr>
                <p:cNvPr id="77" name="Rectangle 57"/>
                <p:cNvSpPr/>
                <p:nvPr/>
              </p:nvSpPr>
              <p:spPr>
                <a:xfrm>
                  <a:off x="1547640" y="1547640"/>
                  <a:ext cx="12889080" cy="9036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4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85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6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0" y="3762360"/>
                <a:ext cx="1200240" cy="331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64×25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71280"/>
              <a:ext cx="381456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9:02:27Z</dcterms:modified>
  <cp:revision>22</cp:revision>
  <dc:subject/>
  <dc:title>スライド 1</dc:title>
</cp:coreProperties>
</file>