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8A98-CB0D-49FF-BFF7-E1FD78275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4D79-C561-400C-BF36-88E5AE548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1"/>
          <p:cNvSpPr/>
          <p:nvPr/>
        </p:nvSpPr>
        <p:spPr>
          <a:xfrm>
            <a:off x="10863360" y="14689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1"/>
          <p:cNvSpPr/>
          <p:nvPr/>
        </p:nvSpPr>
        <p:spPr>
          <a:xfrm>
            <a:off x="10863360" y="14689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0" y="54000"/>
            <a:ext cx="10691640" cy="14490720"/>
            <a:chOff x="0" y="54000"/>
            <a:chExt cx="10691640" cy="14490720"/>
          </a:xfrm>
        </p:grpSpPr>
        <p:grpSp>
          <p:nvGrpSpPr>
            <p:cNvPr id="67" name="Group 47"/>
            <p:cNvGrpSpPr/>
            <p:nvPr/>
          </p:nvGrpSpPr>
          <p:grpSpPr>
            <a:xfrm>
              <a:off x="0" y="54000"/>
              <a:ext cx="10691640" cy="14490720"/>
              <a:chOff x="0" y="54000"/>
              <a:chExt cx="10691640" cy="14490720"/>
            </a:xfrm>
          </p:grpSpPr>
          <p:grpSp>
            <p:nvGrpSpPr>
              <p:cNvPr id="68" name="Group 73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74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75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88"/>
              <p:cNvGrpSpPr/>
              <p:nvPr/>
            </p:nvGrpSpPr>
            <p:grpSpPr>
              <a:xfrm>
                <a:off x="61920" y="1314360"/>
                <a:ext cx="10629720" cy="13230360"/>
                <a:chOff x="61920" y="1314360"/>
                <a:chExt cx="10629720" cy="13230360"/>
              </a:xfrm>
            </p:grpSpPr>
            <p:sp>
              <p:nvSpPr>
                <p:cNvPr id="72" name="Rectangle 51"/>
                <p:cNvSpPr/>
                <p:nvPr/>
              </p:nvSpPr>
              <p:spPr>
                <a:xfrm>
                  <a:off x="1440000" y="1440000"/>
                  <a:ext cx="9251640" cy="131047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78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79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0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87"/>
              <p:cNvGrpSpPr/>
              <p:nvPr/>
            </p:nvGrpSpPr>
            <p:grpSpPr>
              <a:xfrm>
                <a:off x="61920" y="1547640"/>
                <a:ext cx="10522080" cy="12889080"/>
                <a:chOff x="61920" y="1547640"/>
                <a:chExt cx="10522080" cy="128890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547640" y="1547640"/>
                  <a:ext cx="9036360" cy="12889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3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84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5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0" y="3762360"/>
                <a:ext cx="1200240" cy="3311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7×36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000" y="71280"/>
              <a:ext cx="381456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501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2" marL="2008080" indent="-4014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813040" indent="-4017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9:02:23Z</dcterms:modified>
  <cp:revision>20</cp:revision>
  <dc:subject/>
  <dc:title>スライド 1</dc:title>
</cp:coreProperties>
</file>