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5543550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2001960" y="685440"/>
            <a:ext cx="2854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EB30-BA46-48E2-B998-3F167D0E7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9D04-EA3A-4395-8B72-17965A3B37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001960" y="685800"/>
            <a:ext cx="285408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96416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65112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7720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196416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365112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77200" y="265680"/>
            <a:ext cx="49892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96416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65112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7720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196416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365112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7200" y="265680"/>
            <a:ext cx="49892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3386160" cy="4502160"/>
            <a:chOff x="1079640" y="1079640"/>
            <a:chExt cx="3386160" cy="450216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333072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5218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5326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277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4102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421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2878200" cy="399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95"/>
          <p:cNvSpPr/>
          <p:nvPr/>
        </p:nvSpPr>
        <p:spPr>
          <a:xfrm>
            <a:off x="4260960" y="101916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96"/>
          <p:cNvSpPr/>
          <p:nvPr/>
        </p:nvSpPr>
        <p:spPr>
          <a:xfrm>
            <a:off x="4259160" y="5367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8"/>
          <p:cNvGrpSpPr/>
          <p:nvPr/>
        </p:nvGrpSpPr>
        <p:grpSpPr>
          <a:xfrm>
            <a:off x="1079640" y="1079640"/>
            <a:ext cx="3386160" cy="4502160"/>
            <a:chOff x="1079640" y="1079640"/>
            <a:chExt cx="3386160" cy="450216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333072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5218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5326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277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4102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421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2878200" cy="399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95"/>
          <p:cNvSpPr/>
          <p:nvPr/>
        </p:nvSpPr>
        <p:spPr>
          <a:xfrm>
            <a:off x="4260960" y="101916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6"/>
          <p:cNvSpPr/>
          <p:nvPr/>
        </p:nvSpPr>
        <p:spPr>
          <a:xfrm>
            <a:off x="4259160" y="5367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5491080" cy="6532560"/>
            <a:chOff x="54000" y="54000"/>
            <a:chExt cx="5491080" cy="6532560"/>
          </a:xfrm>
        </p:grpSpPr>
        <p:grpSp>
          <p:nvGrpSpPr>
            <p:cNvPr id="67" name="Group 47"/>
            <p:cNvGrpSpPr/>
            <p:nvPr/>
          </p:nvGrpSpPr>
          <p:grpSpPr>
            <a:xfrm>
              <a:off x="54000" y="54000"/>
              <a:ext cx="5491080" cy="5165640"/>
              <a:chOff x="54000" y="54000"/>
              <a:chExt cx="5491080" cy="5165640"/>
            </a:xfrm>
          </p:grpSpPr>
          <p:grpSp>
            <p:nvGrpSpPr>
              <p:cNvPr id="68" name="Group 108"/>
              <p:cNvGrpSpPr/>
              <p:nvPr/>
            </p:nvGrpSpPr>
            <p:grpSpPr>
              <a:xfrm>
                <a:off x="61920" y="1547640"/>
                <a:ext cx="3933720" cy="3564000"/>
                <a:chOff x="61920" y="1547640"/>
                <a:chExt cx="3933720" cy="3564000"/>
              </a:xfrm>
            </p:grpSpPr>
            <p:sp>
              <p:nvSpPr>
                <p:cNvPr id="69" name="Rectangle 49"/>
                <p:cNvSpPr/>
                <p:nvPr/>
              </p:nvSpPr>
              <p:spPr>
                <a:xfrm>
                  <a:off x="1547640" y="1547640"/>
                  <a:ext cx="2448000" cy="356400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Group 97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1" name="Line 98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99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" name="Group 100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4" name="Line 101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102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Group 109"/>
              <p:cNvGrpSpPr/>
              <p:nvPr/>
            </p:nvGrpSpPr>
            <p:grpSpPr>
              <a:xfrm>
                <a:off x="61920" y="1314360"/>
                <a:ext cx="4041720" cy="3905280"/>
                <a:chOff x="61920" y="1314360"/>
                <a:chExt cx="4041720" cy="3905280"/>
              </a:xfrm>
            </p:grpSpPr>
            <p:sp>
              <p:nvSpPr>
                <p:cNvPr id="77" name="Rectangle 57"/>
                <p:cNvSpPr/>
                <p:nvPr/>
              </p:nvSpPr>
              <p:spPr>
                <a:xfrm>
                  <a:off x="1440000" y="1440000"/>
                  <a:ext cx="2663640" cy="377964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103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9" name="Line 104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105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1" name="Picture 106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4537080" y="1459080"/>
                <a:ext cx="1008000" cy="2779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43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7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74×10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6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860400" y="5724720"/>
              <a:ext cx="3813120" cy="86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71560" indent="-174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20760" indent="-174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568520" indent="-1731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568520" indent="-1731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568520" indent="-1731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2:34:56Z</dcterms:modified>
  <cp:revision>21</cp:revision>
  <dc:subject/>
  <dc:title>スライド 1</dc:title>
</cp:coreProperties>
</file>