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6659563" cy="5543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Img"/>
          </p:nvPr>
        </p:nvSpPr>
        <p:spPr>
          <a:xfrm>
            <a:off x="1370160" y="685440"/>
            <a:ext cx="4117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en-US" sz="200" spc="-1" strike="noStrike">
                <a:solidFill>
                  <a:srgbClr val="1f497d"/>
                </a:solidFill>
                <a:latin typeface="Arial"/>
              </a:rPr>
              <a:t>Click to move the slide</a:t>
            </a: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078A0-98F9-44C2-B32E-2C791D7A49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8299E-F5D1-49FB-A0D6-DC58FA75D2E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370160" y="685800"/>
            <a:ext cx="411768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33000" y="221040"/>
            <a:ext cx="5993640" cy="92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33000" y="1297080"/>
            <a:ext cx="5993640" cy="15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000" y="2976840"/>
            <a:ext cx="5993640" cy="15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33000" y="221040"/>
            <a:ext cx="5993640" cy="92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33000" y="1297080"/>
            <a:ext cx="2924640" cy="15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404160" y="1297080"/>
            <a:ext cx="2924640" cy="15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333000" y="2976840"/>
            <a:ext cx="2924640" cy="15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404160" y="2976840"/>
            <a:ext cx="2924640" cy="15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33000" y="221040"/>
            <a:ext cx="5993640" cy="92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33000" y="1297080"/>
            <a:ext cx="1929600" cy="15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59440" y="1297080"/>
            <a:ext cx="1929600" cy="15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385880" y="1297080"/>
            <a:ext cx="1929600" cy="15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333000" y="2976840"/>
            <a:ext cx="1929600" cy="15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2359440" y="2976840"/>
            <a:ext cx="1929600" cy="15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4385880" y="2976840"/>
            <a:ext cx="1929600" cy="15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33000" y="221040"/>
            <a:ext cx="5993640" cy="92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333000" y="1297080"/>
            <a:ext cx="5993640" cy="321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33000" y="221040"/>
            <a:ext cx="5993640" cy="92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33000" y="1297080"/>
            <a:ext cx="5993640" cy="321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33000" y="221040"/>
            <a:ext cx="5993640" cy="92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33000" y="1297080"/>
            <a:ext cx="2924640" cy="321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404160" y="1297080"/>
            <a:ext cx="2924640" cy="321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33000" y="221040"/>
            <a:ext cx="5993640" cy="92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333000" y="221040"/>
            <a:ext cx="5993640" cy="42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33000" y="221040"/>
            <a:ext cx="5993640" cy="92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33000" y="1297080"/>
            <a:ext cx="2924640" cy="15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404160" y="1297080"/>
            <a:ext cx="2924640" cy="321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333000" y="2976840"/>
            <a:ext cx="2924640" cy="15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33000" y="221040"/>
            <a:ext cx="5993640" cy="92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333000" y="1297080"/>
            <a:ext cx="5993640" cy="321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33000" y="221040"/>
            <a:ext cx="5993640" cy="92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33000" y="1297080"/>
            <a:ext cx="2924640" cy="321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404160" y="1297080"/>
            <a:ext cx="2924640" cy="15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3404160" y="2976840"/>
            <a:ext cx="2924640" cy="15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33000" y="221040"/>
            <a:ext cx="5993640" cy="92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33000" y="1297080"/>
            <a:ext cx="2924640" cy="15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404160" y="1297080"/>
            <a:ext cx="2924640" cy="15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333000" y="2976840"/>
            <a:ext cx="5993640" cy="15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33000" y="221040"/>
            <a:ext cx="5993640" cy="92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33000" y="1297080"/>
            <a:ext cx="5993640" cy="15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33000" y="2976840"/>
            <a:ext cx="5993640" cy="15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33000" y="221040"/>
            <a:ext cx="5993640" cy="92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33000" y="1297080"/>
            <a:ext cx="2924640" cy="15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404160" y="1297080"/>
            <a:ext cx="2924640" cy="15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333000" y="2976840"/>
            <a:ext cx="2924640" cy="15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3404160" y="2976840"/>
            <a:ext cx="2924640" cy="15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33000" y="221040"/>
            <a:ext cx="5993640" cy="92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33000" y="1297080"/>
            <a:ext cx="1929600" cy="15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2359440" y="1297080"/>
            <a:ext cx="1929600" cy="15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385880" y="1297080"/>
            <a:ext cx="1929600" cy="15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333000" y="2976840"/>
            <a:ext cx="1929600" cy="15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2359440" y="2976840"/>
            <a:ext cx="1929600" cy="15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4385880" y="2976840"/>
            <a:ext cx="1929600" cy="15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33000" y="221040"/>
            <a:ext cx="5993640" cy="92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33000" y="1297080"/>
            <a:ext cx="5993640" cy="321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33000" y="221040"/>
            <a:ext cx="5993640" cy="92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33000" y="1297080"/>
            <a:ext cx="2924640" cy="321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404160" y="1297080"/>
            <a:ext cx="2924640" cy="321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33000" y="221040"/>
            <a:ext cx="5993640" cy="92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333000" y="221040"/>
            <a:ext cx="5993640" cy="42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33000" y="221040"/>
            <a:ext cx="5993640" cy="92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33000" y="1297080"/>
            <a:ext cx="2924640" cy="15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404160" y="1297080"/>
            <a:ext cx="2924640" cy="321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33000" y="2976840"/>
            <a:ext cx="2924640" cy="15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33000" y="221040"/>
            <a:ext cx="5993640" cy="92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33000" y="1297080"/>
            <a:ext cx="2924640" cy="321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404160" y="1297080"/>
            <a:ext cx="2924640" cy="15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04160" y="2976840"/>
            <a:ext cx="2924640" cy="15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33000" y="221040"/>
            <a:ext cx="5993640" cy="92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33000" y="1297080"/>
            <a:ext cx="2924640" cy="15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404160" y="1297080"/>
            <a:ext cx="2924640" cy="15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33000" y="2976840"/>
            <a:ext cx="5993640" cy="15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hyperlink" Target="http://www.suprint.jp/studio/design_inquiry/regist.php" TargetMode="External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グループ化 42"/>
          <p:cNvGrpSpPr/>
          <p:nvPr/>
        </p:nvGrpSpPr>
        <p:grpSpPr>
          <a:xfrm>
            <a:off x="1079640" y="1079640"/>
            <a:ext cx="4502160" cy="3386160"/>
            <a:chOff x="1079640" y="1079640"/>
            <a:chExt cx="4502160" cy="3386160"/>
          </a:xfrm>
        </p:grpSpPr>
        <p:sp>
          <p:nvSpPr>
            <p:cNvPr id="1" name="Line 45"/>
            <p:cNvSpPr/>
            <p:nvPr/>
          </p:nvSpPr>
          <p:spPr>
            <a:xfrm>
              <a:off x="1079640" y="1332000"/>
              <a:ext cx="45021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Line 46"/>
            <p:cNvSpPr/>
            <p:nvPr/>
          </p:nvSpPr>
          <p:spPr>
            <a:xfrm>
              <a:off x="1079640" y="1438200"/>
              <a:ext cx="45021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47"/>
            <p:cNvSpPr/>
            <p:nvPr/>
          </p:nvSpPr>
          <p:spPr>
            <a:xfrm>
              <a:off x="1079640" y="2770200"/>
              <a:ext cx="45021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Line 48"/>
            <p:cNvSpPr/>
            <p:nvPr/>
          </p:nvSpPr>
          <p:spPr>
            <a:xfrm>
              <a:off x="1079640" y="4102560"/>
              <a:ext cx="45021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Line 49"/>
            <p:cNvSpPr/>
            <p:nvPr/>
          </p:nvSpPr>
          <p:spPr>
            <a:xfrm>
              <a:off x="1079640" y="4212000"/>
              <a:ext cx="45021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Line 50"/>
            <p:cNvSpPr/>
            <p:nvPr/>
          </p:nvSpPr>
          <p:spPr>
            <a:xfrm>
              <a:off x="1332000" y="1079640"/>
              <a:ext cx="0" cy="3386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51"/>
            <p:cNvSpPr/>
            <p:nvPr/>
          </p:nvSpPr>
          <p:spPr>
            <a:xfrm>
              <a:off x="1438200" y="1079640"/>
              <a:ext cx="0" cy="3386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Line 52"/>
            <p:cNvSpPr/>
            <p:nvPr/>
          </p:nvSpPr>
          <p:spPr>
            <a:xfrm>
              <a:off x="3330720" y="1079640"/>
              <a:ext cx="0" cy="3386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Line 53"/>
            <p:cNvSpPr/>
            <p:nvPr/>
          </p:nvSpPr>
          <p:spPr>
            <a:xfrm>
              <a:off x="5218560" y="1079640"/>
              <a:ext cx="0" cy="3386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Line 54"/>
            <p:cNvSpPr/>
            <p:nvPr/>
          </p:nvSpPr>
          <p:spPr>
            <a:xfrm>
              <a:off x="5328000" y="1079640"/>
              <a:ext cx="0" cy="3386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55"/>
            <p:cNvSpPr/>
            <p:nvPr/>
          </p:nvSpPr>
          <p:spPr>
            <a:xfrm>
              <a:off x="1332000" y="1332000"/>
              <a:ext cx="3996000" cy="28800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Oval 110"/>
          <p:cNvSpPr/>
          <p:nvPr/>
        </p:nvSpPr>
        <p:spPr>
          <a:xfrm>
            <a:off x="5391000" y="1031760"/>
            <a:ext cx="243000" cy="24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entury"/>
                <a:ea typeface="ＭＳ 明朝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Oval 111"/>
          <p:cNvSpPr/>
          <p:nvPr/>
        </p:nvSpPr>
        <p:spPr>
          <a:xfrm>
            <a:off x="5384880" y="4273560"/>
            <a:ext cx="242640" cy="24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entury"/>
                <a:ea typeface="ＭＳ 明朝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Text Box 16"/>
          <p:cNvSpPr/>
          <p:nvPr/>
        </p:nvSpPr>
        <p:spPr>
          <a:xfrm>
            <a:off x="1079640" y="1079640"/>
            <a:ext cx="190440" cy="190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グループ化 42"/>
          <p:cNvGrpSpPr/>
          <p:nvPr/>
        </p:nvGrpSpPr>
        <p:grpSpPr>
          <a:xfrm>
            <a:off x="1079640" y="1079640"/>
            <a:ext cx="4502160" cy="3386160"/>
            <a:chOff x="1079640" y="1079640"/>
            <a:chExt cx="4502160" cy="3386160"/>
          </a:xfrm>
        </p:grpSpPr>
        <p:sp>
          <p:nvSpPr>
            <p:cNvPr id="52" name="Line 45"/>
            <p:cNvSpPr/>
            <p:nvPr/>
          </p:nvSpPr>
          <p:spPr>
            <a:xfrm>
              <a:off x="1079640" y="1332000"/>
              <a:ext cx="45021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Line 46"/>
            <p:cNvSpPr/>
            <p:nvPr/>
          </p:nvSpPr>
          <p:spPr>
            <a:xfrm>
              <a:off x="1079640" y="1438200"/>
              <a:ext cx="45021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Line 47"/>
            <p:cNvSpPr/>
            <p:nvPr/>
          </p:nvSpPr>
          <p:spPr>
            <a:xfrm>
              <a:off x="1079640" y="2770200"/>
              <a:ext cx="45021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Line 48"/>
            <p:cNvSpPr/>
            <p:nvPr/>
          </p:nvSpPr>
          <p:spPr>
            <a:xfrm>
              <a:off x="1079640" y="4102560"/>
              <a:ext cx="45021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49"/>
            <p:cNvSpPr/>
            <p:nvPr/>
          </p:nvSpPr>
          <p:spPr>
            <a:xfrm>
              <a:off x="1079640" y="4212000"/>
              <a:ext cx="45021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Line 50"/>
            <p:cNvSpPr/>
            <p:nvPr/>
          </p:nvSpPr>
          <p:spPr>
            <a:xfrm>
              <a:off x="1332000" y="1079640"/>
              <a:ext cx="0" cy="3386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51"/>
            <p:cNvSpPr/>
            <p:nvPr/>
          </p:nvSpPr>
          <p:spPr>
            <a:xfrm>
              <a:off x="1438200" y="1079640"/>
              <a:ext cx="0" cy="3386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Line 52"/>
            <p:cNvSpPr/>
            <p:nvPr/>
          </p:nvSpPr>
          <p:spPr>
            <a:xfrm>
              <a:off x="3330720" y="1079640"/>
              <a:ext cx="0" cy="3386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Line 53"/>
            <p:cNvSpPr/>
            <p:nvPr/>
          </p:nvSpPr>
          <p:spPr>
            <a:xfrm>
              <a:off x="5218560" y="1079640"/>
              <a:ext cx="0" cy="3386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Line 54"/>
            <p:cNvSpPr/>
            <p:nvPr/>
          </p:nvSpPr>
          <p:spPr>
            <a:xfrm>
              <a:off x="5328000" y="1079640"/>
              <a:ext cx="0" cy="3386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55"/>
            <p:cNvSpPr/>
            <p:nvPr/>
          </p:nvSpPr>
          <p:spPr>
            <a:xfrm>
              <a:off x="1332000" y="1332000"/>
              <a:ext cx="3996000" cy="28800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Oval 110"/>
          <p:cNvSpPr/>
          <p:nvPr/>
        </p:nvSpPr>
        <p:spPr>
          <a:xfrm>
            <a:off x="5391000" y="1031760"/>
            <a:ext cx="243000" cy="24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entury"/>
                <a:ea typeface="ＭＳ 明朝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111"/>
          <p:cNvSpPr/>
          <p:nvPr/>
        </p:nvSpPr>
        <p:spPr>
          <a:xfrm>
            <a:off x="5384880" y="4273560"/>
            <a:ext cx="242640" cy="24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entury"/>
                <a:ea typeface="ＭＳ 明朝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6"/>
          <p:cNvSpPr/>
          <p:nvPr/>
        </p:nvSpPr>
        <p:spPr>
          <a:xfrm>
            <a:off x="1079640" y="1079640"/>
            <a:ext cx="190440" cy="190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グループ化 16"/>
          <p:cNvGrpSpPr/>
          <p:nvPr/>
        </p:nvGrpSpPr>
        <p:grpSpPr>
          <a:xfrm>
            <a:off x="54000" y="54000"/>
            <a:ext cx="6578640" cy="5381640"/>
            <a:chOff x="54000" y="54000"/>
            <a:chExt cx="6578640" cy="5381640"/>
          </a:xfrm>
        </p:grpSpPr>
        <p:grpSp>
          <p:nvGrpSpPr>
            <p:cNvPr id="67" name="Group 48"/>
            <p:cNvGrpSpPr/>
            <p:nvPr/>
          </p:nvGrpSpPr>
          <p:grpSpPr>
            <a:xfrm>
              <a:off x="54000" y="54000"/>
              <a:ext cx="6578640" cy="4110120"/>
              <a:chOff x="54000" y="54000"/>
              <a:chExt cx="6578640" cy="4110120"/>
            </a:xfrm>
          </p:grpSpPr>
          <p:grpSp>
            <p:nvGrpSpPr>
              <p:cNvPr id="68" name="Group 113"/>
              <p:cNvGrpSpPr/>
              <p:nvPr/>
            </p:nvGrpSpPr>
            <p:grpSpPr>
              <a:xfrm>
                <a:off x="69840" y="1544760"/>
                <a:ext cx="5038560" cy="2447640"/>
                <a:chOff x="69840" y="1544760"/>
                <a:chExt cx="5038560" cy="2447640"/>
              </a:xfrm>
            </p:grpSpPr>
            <p:sp>
              <p:nvSpPr>
                <p:cNvPr id="69" name="Rectangle 70"/>
                <p:cNvSpPr/>
                <p:nvPr/>
              </p:nvSpPr>
              <p:spPr>
                <a:xfrm>
                  <a:off x="1544760" y="1544760"/>
                  <a:ext cx="3563640" cy="2447640"/>
                </a:xfrm>
                <a:prstGeom prst="rect">
                  <a:avLst/>
                </a:prstGeom>
                <a:noFill/>
                <a:ln w="64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4160" rIns="74160" tIns="9000" bIns="9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0" name="Group 100"/>
                <p:cNvGrpSpPr/>
                <p:nvPr/>
              </p:nvGrpSpPr>
              <p:grpSpPr>
                <a:xfrm>
                  <a:off x="69840" y="2017800"/>
                  <a:ext cx="1476360" cy="684000"/>
                  <a:chOff x="69840" y="2017800"/>
                  <a:chExt cx="1476360" cy="684000"/>
                </a:xfrm>
              </p:grpSpPr>
              <p:sp>
                <p:nvSpPr>
                  <p:cNvPr id="71" name="Line 101"/>
                  <p:cNvSpPr/>
                  <p:nvPr/>
                </p:nvSpPr>
                <p:spPr>
                  <a:xfrm>
                    <a:off x="879480" y="2358720"/>
                    <a:ext cx="666720" cy="0"/>
                  </a:xfrm>
                  <a:prstGeom prst="line">
                    <a:avLst/>
                  </a:prstGeom>
                  <a:ln w="9360">
                    <a:solidFill>
                      <a:srgbClr val="00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Text Box 102"/>
                  <p:cNvSpPr/>
                  <p:nvPr/>
                </p:nvSpPr>
                <p:spPr>
                  <a:xfrm>
                    <a:off x="69840" y="2017800"/>
                    <a:ext cx="936360" cy="6840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1" lang="ja-JP" sz="1000" spc="-1" strike="noStrike">
                        <a:solidFill>
                          <a:srgbClr val="ff0000"/>
                        </a:solidFill>
                        <a:latin typeface="Century"/>
                        <a:ea typeface="ＭＳ 明朝"/>
                      </a:rPr>
                      <a:t>切れては困る物</a:t>
                    </a: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はこの</a:t>
                    </a:r>
                    <a:r>
                      <a:rPr b="1" lang="ja-JP" sz="1000" spc="-1" strike="noStrike">
                        <a:solidFill>
                          <a:srgbClr val="ff0000"/>
                        </a:solidFill>
                        <a:latin typeface="Century"/>
                        <a:ea typeface="ＭＳ 明朝"/>
                      </a:rPr>
                      <a:t>水色</a:t>
                    </a: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の線の内側に配置。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3" name="Group 103"/>
              <p:cNvGrpSpPr/>
              <p:nvPr/>
            </p:nvGrpSpPr>
            <p:grpSpPr>
              <a:xfrm>
                <a:off x="69840" y="2817720"/>
                <a:ext cx="1260360" cy="540000"/>
                <a:chOff x="69840" y="2817720"/>
                <a:chExt cx="1260360" cy="540000"/>
              </a:xfrm>
            </p:grpSpPr>
            <p:sp>
              <p:nvSpPr>
                <p:cNvPr id="74" name="Line 104"/>
                <p:cNvSpPr/>
                <p:nvPr/>
              </p:nvSpPr>
              <p:spPr>
                <a:xfrm>
                  <a:off x="879480" y="3087720"/>
                  <a:ext cx="45072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" name="Text Box 105"/>
                <p:cNvSpPr/>
                <p:nvPr/>
              </p:nvSpPr>
              <p:spPr>
                <a:xfrm>
                  <a:off x="69840" y="2817720"/>
                  <a:ext cx="936360" cy="5400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1" lang="ja-JP" sz="1000" spc="-1" strike="noStrike">
                      <a:solidFill>
                        <a:srgbClr val="ff0000"/>
                      </a:solidFill>
                      <a:latin typeface="Century"/>
                      <a:ea typeface="ＭＳ 明朝"/>
                    </a:rPr>
                    <a:t>フチ無印刷</a:t>
                  </a:r>
                  <a:r>
                    <a:rPr b="0" lang="ja-JP" sz="1000" spc="-1" strike="noStrike">
                      <a:solidFill>
                        <a:srgbClr val="000000"/>
                      </a:solidFill>
                      <a:latin typeface="Century"/>
                      <a:ea typeface="ＭＳ 明朝"/>
                    </a:rPr>
                    <a:t>は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ja-JP" sz="1000" spc="-1" strike="noStrike">
                      <a:solidFill>
                        <a:srgbClr val="000000"/>
                      </a:solidFill>
                      <a:latin typeface="Century"/>
                      <a:ea typeface="ＭＳ 明朝"/>
                    </a:rPr>
                    <a:t>この</a:t>
                  </a:r>
                  <a:r>
                    <a:rPr b="1" lang="ja-JP" sz="1000" spc="-1" strike="noStrike">
                      <a:solidFill>
                        <a:srgbClr val="ff0000"/>
                      </a:solidFill>
                      <a:latin typeface="Century"/>
                      <a:ea typeface="ＭＳ 明朝"/>
                    </a:rPr>
                    <a:t>黒</a:t>
                  </a:r>
                  <a:r>
                    <a:rPr b="0" lang="ja-JP" sz="1000" spc="-1" strike="noStrike">
                      <a:solidFill>
                        <a:srgbClr val="000000"/>
                      </a:solidFill>
                      <a:latin typeface="Century"/>
                      <a:ea typeface="ＭＳ 明朝"/>
                    </a:rPr>
                    <a:t>い線まで伸ばす。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6" name="Group 112"/>
              <p:cNvGrpSpPr/>
              <p:nvPr/>
            </p:nvGrpSpPr>
            <p:grpSpPr>
              <a:xfrm>
                <a:off x="69840" y="1332000"/>
                <a:ext cx="5149800" cy="2771640"/>
                <a:chOff x="69840" y="1332000"/>
                <a:chExt cx="5149800" cy="2771640"/>
              </a:xfrm>
            </p:grpSpPr>
            <p:sp>
              <p:nvSpPr>
                <p:cNvPr id="77" name="Rectangle 78"/>
                <p:cNvSpPr/>
                <p:nvPr/>
              </p:nvSpPr>
              <p:spPr>
                <a:xfrm>
                  <a:off x="1440000" y="1440000"/>
                  <a:ext cx="3779640" cy="2663640"/>
                </a:xfrm>
                <a:prstGeom prst="rect">
                  <a:avLst/>
                </a:prstGeom>
                <a:noFill/>
                <a:ln w="64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4160" rIns="74160" tIns="9000" bIns="9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8" name="Group 106"/>
                <p:cNvGrpSpPr/>
                <p:nvPr/>
              </p:nvGrpSpPr>
              <p:grpSpPr>
                <a:xfrm>
                  <a:off x="69840" y="1332000"/>
                  <a:ext cx="1368360" cy="544320"/>
                  <a:chOff x="69840" y="1332000"/>
                  <a:chExt cx="1368360" cy="544320"/>
                </a:xfrm>
              </p:grpSpPr>
              <p:sp>
                <p:nvSpPr>
                  <p:cNvPr id="79" name="Line 107"/>
                  <p:cNvSpPr/>
                  <p:nvPr/>
                </p:nvSpPr>
                <p:spPr>
                  <a:xfrm>
                    <a:off x="879480" y="1604880"/>
                    <a:ext cx="558720" cy="0"/>
                  </a:xfrm>
                  <a:prstGeom prst="line">
                    <a:avLst/>
                  </a:prstGeom>
                  <a:ln w="9360">
                    <a:solidFill>
                      <a:srgbClr val="0000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Text Box 108"/>
                  <p:cNvSpPr/>
                  <p:nvPr/>
                </p:nvSpPr>
                <p:spPr>
                  <a:xfrm>
                    <a:off x="69840" y="1332000"/>
                    <a:ext cx="936360" cy="5443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仕上がり位置。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この</a:t>
                    </a:r>
                    <a:r>
                      <a:rPr b="1" lang="ja-JP" sz="1000" spc="-1" strike="noStrike">
                        <a:solidFill>
                          <a:srgbClr val="ff0000"/>
                        </a:solidFill>
                        <a:latin typeface="Century"/>
                        <a:ea typeface="ＭＳ 明朝"/>
                      </a:rPr>
                      <a:t>青</a:t>
                    </a: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い線でカットします。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pic>
            <p:nvPicPr>
              <p:cNvPr id="81" name="Picture 109" descr="ぬりたし説明"/>
              <p:cNvPicPr/>
              <p:nvPr/>
            </p:nvPicPr>
            <p:blipFill>
              <a:blip r:embed="rId2"/>
              <a:stretch/>
            </p:blipFill>
            <p:spPr>
              <a:xfrm>
                <a:off x="5659560" y="1476360"/>
                <a:ext cx="973080" cy="26877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82" name="Group 44"/>
              <p:cNvGrpSpPr/>
              <p:nvPr/>
            </p:nvGrpSpPr>
            <p:grpSpPr>
              <a:xfrm>
                <a:off x="54000" y="54000"/>
                <a:ext cx="5065560" cy="900000"/>
                <a:chOff x="54000" y="54000"/>
                <a:chExt cx="5065560" cy="900000"/>
              </a:xfrm>
            </p:grpSpPr>
            <p:sp>
              <p:nvSpPr>
                <p:cNvPr id="83" name="Rectangle 65"/>
                <p:cNvSpPr/>
                <p:nvPr/>
              </p:nvSpPr>
              <p:spPr>
                <a:xfrm>
                  <a:off x="54000" y="54000"/>
                  <a:ext cx="1332000" cy="9000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36000" rIns="36000" tIns="36000" bIns="36000" anchor="t">
                  <a:noAutofit/>
                </a:bodyPr>
                <a:p>
                  <a:pPr>
                    <a:tabLst>
                      <a:tab algn="l" pos="0"/>
                      <a:tab algn="l" pos="1803240"/>
                      <a:tab algn="l" pos="3606840"/>
                      <a:tab algn="l" pos="5410080"/>
                      <a:tab algn="l" pos="7213680"/>
                      <a:tab algn="l" pos="9016920"/>
                      <a:tab algn="l" pos="1082052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A7</a:t>
                  </a:r>
                  <a:r>
                    <a:rPr b="1" lang="ja-JP" sz="1600" spc="-1" strike="noStrike">
                      <a:solidFill>
                        <a:srgbClr val="000000"/>
                      </a:solidFill>
                      <a:latin typeface="Arial"/>
                    </a:rPr>
                    <a:t>サイズ　横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1803240"/>
                      <a:tab algn="l" pos="3606840"/>
                      <a:tab algn="l" pos="5410080"/>
                      <a:tab algn="l" pos="7213680"/>
                      <a:tab algn="l" pos="9016920"/>
                      <a:tab algn="l" pos="1082052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105×74mm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" name="Text Box 67"/>
                <p:cNvSpPr/>
                <p:nvPr/>
              </p:nvSpPr>
              <p:spPr>
                <a:xfrm>
                  <a:off x="1384200" y="54000"/>
                  <a:ext cx="3735360" cy="9000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000" rIns="36000" tIns="36000" bIns="36000" anchor="t">
                  <a:noAutofit/>
                </a:bodyPr>
                <a:p>
                  <a:pPr marL="114480" indent="-114480">
                    <a:buClr>
                      <a:srgbClr val="000000"/>
                    </a:buClr>
                    <a:buFont typeface="Arial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1" lang="ja-JP" sz="700" spc="-1" strike="noStrike">
                      <a:solidFill>
                        <a:srgbClr val="ff0000"/>
                      </a:solidFill>
                      <a:latin typeface="Arial"/>
                    </a:rPr>
                    <a:t>フチ無印刷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をご希望の場合、外側の黒い線まで背景や画像を伸ばして下さい。（右下図参照）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14480" indent="-114480">
                    <a:buClr>
                      <a:srgbClr val="000000"/>
                    </a:buClr>
                    <a:buFont typeface="Arial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切れては困る絵柄や文字等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は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、仕上り（青い四角）より</a:t>
                  </a:r>
                  <a:r>
                    <a:rPr b="1" lang="en-US" sz="700" spc="-1" strike="noStrike">
                      <a:solidFill>
                        <a:srgbClr val="ff0000"/>
                      </a:solidFill>
                      <a:latin typeface="Arial"/>
                    </a:rPr>
                    <a:t>2</a:t>
                  </a:r>
                  <a:r>
                    <a:rPr b="1" lang="ja-JP" sz="700" spc="-1" strike="noStrike">
                      <a:solidFill>
                        <a:srgbClr val="ff0000"/>
                      </a:solidFill>
                      <a:latin typeface="Arial"/>
                    </a:rPr>
                    <a:t>～</a:t>
                  </a:r>
                  <a:r>
                    <a:rPr b="1" lang="en-US" sz="700" spc="-1" strike="noStrike">
                      <a:solidFill>
                        <a:srgbClr val="ff0000"/>
                      </a:solidFill>
                      <a:latin typeface="Arial"/>
                    </a:rPr>
                    <a:t>3mm</a:t>
                  </a:r>
                  <a:r>
                    <a:rPr b="1" lang="ja-JP" sz="700" spc="-1" strike="noStrike">
                      <a:solidFill>
                        <a:srgbClr val="ff0000"/>
                      </a:solidFill>
                      <a:latin typeface="Arial"/>
                    </a:rPr>
                    <a:t>以上内側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（水色の四角の中）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に入れて作成してください。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14480" indent="-114480">
                    <a:buClr>
                      <a:srgbClr val="000000"/>
                    </a:buClr>
                    <a:buFont typeface="Arial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1" lang="ja-JP" sz="700" spc="-1" strike="noStrike">
                      <a:solidFill>
                        <a:srgbClr val="ff0000"/>
                      </a:solidFill>
                      <a:latin typeface="Arial"/>
                    </a:rPr>
                    <a:t>透過性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や</a:t>
                  </a:r>
                  <a:r>
                    <a:rPr b="1" lang="ja-JP" sz="700" spc="-1" strike="noStrike">
                      <a:solidFill>
                        <a:srgbClr val="ff0000"/>
                      </a:solidFill>
                      <a:latin typeface="Arial"/>
                    </a:rPr>
                    <a:t>半透明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、</a:t>
                  </a:r>
                  <a:r>
                    <a:rPr b="1" lang="ja-JP" sz="700" spc="-1" strike="noStrike">
                      <a:solidFill>
                        <a:srgbClr val="ff0000"/>
                      </a:solidFill>
                      <a:latin typeface="Arial"/>
                    </a:rPr>
                    <a:t>パターン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など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変換が正常に出来ない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場合があります。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14480" indent="-114480">
                    <a:buClr>
                      <a:srgbClr val="000000"/>
                    </a:buClr>
                    <a:buFont typeface="Arial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用紙サイズの変更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や、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トンボの移動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、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変形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など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なさらない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ようお願いします。　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14480" indent="-114480">
                    <a:buClr>
                      <a:srgbClr val="000000"/>
                    </a:buClr>
                    <a:buFont typeface="Arial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テンプレートを使用して</a:t>
                  </a:r>
                  <a:r>
                    <a:rPr b="0" lang="en-US" sz="700" spc="-1" strike="noStrike">
                      <a:solidFill>
                        <a:srgbClr val="000000"/>
                      </a:solidFill>
                      <a:latin typeface="Arial"/>
                    </a:rPr>
                    <a:t>PDF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を作成する際は、説明部分を削除してください。また、テンプレートと同じサイズかどうか確認してください。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85" name="Picture 47" descr="新Suprintロゴ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71280" y="557280"/>
                  <a:ext cx="543240" cy="3427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pic>
          <p:nvPicPr>
            <p:cNvPr id="86" name="図 1" descr="">
              <a:hlinkClick r:id="rId4"/>
            </p:cNvPr>
            <p:cNvPicPr/>
            <p:nvPr/>
          </p:nvPicPr>
          <p:blipFill>
            <a:blip r:embed="rId5"/>
            <a:stretch/>
          </p:blipFill>
          <p:spPr>
            <a:xfrm>
              <a:off x="1422360" y="4572000"/>
              <a:ext cx="3813120" cy="863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33000" y="221040"/>
            <a:ext cx="5993640" cy="92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en-US" sz="2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333000" y="1297080"/>
            <a:ext cx="5993640" cy="321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21744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871560" indent="-174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220760" indent="-174600"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1568520" indent="-173160">
              <a:spcBef>
                <a:spcPts val="374"/>
              </a:spcBef>
              <a:buClr>
                <a:srgbClr val="000000"/>
              </a:buClr>
              <a:buFont typeface="Arial"/>
              <a:buChar char="»"/>
              <a:tabLst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5" marL="1568520" indent="-173160">
              <a:spcBef>
                <a:spcPts val="3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6" marL="1568520" indent="-173160">
              <a:spcBef>
                <a:spcPts val="3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>suprint</dc:creator>
  <dc:description/>
  <dc:language>en-US</dc:language>
  <cp:lastModifiedBy>ugo-99</cp:lastModifiedBy>
  <dcterms:modified xsi:type="dcterms:W3CDTF">2015-08-26T01:02:05Z</dcterms:modified>
  <cp:revision>22</cp:revision>
  <dc:subject/>
  <dc:title>スライド 1</dc:title>
</cp:coreProperties>
</file>