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084C-DF5C-4A8E-B841-7DB056EE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BDF0-6C48-4407-9468-129390AE8A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4502160" cy="6049800"/>
            <a:chOff x="1079640" y="1079640"/>
            <a:chExt cx="4502160" cy="6049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102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6764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6872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3307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5326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399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1"/>
          <p:cNvSpPr/>
          <p:nvPr/>
        </p:nvSpPr>
        <p:spPr>
          <a:xfrm>
            <a:off x="539280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2"/>
          <p:cNvSpPr/>
          <p:nvPr/>
        </p:nvSpPr>
        <p:spPr>
          <a:xfrm>
            <a:off x="5391000" y="695808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4502160" cy="6049800"/>
            <a:chOff x="1079640" y="1079640"/>
            <a:chExt cx="4502160" cy="604980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4102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6764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6872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33307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5326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399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1"/>
          <p:cNvSpPr/>
          <p:nvPr/>
        </p:nvSpPr>
        <p:spPr>
          <a:xfrm>
            <a:off x="539280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2"/>
          <p:cNvSpPr/>
          <p:nvPr/>
        </p:nvSpPr>
        <p:spPr>
          <a:xfrm>
            <a:off x="5391000" y="695808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607080" cy="8080200"/>
            <a:chOff x="54000" y="54000"/>
            <a:chExt cx="6607080" cy="808020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6607080" cy="6715080"/>
              <a:chOff x="54000" y="54000"/>
              <a:chExt cx="6607080" cy="6715080"/>
            </a:xfrm>
          </p:grpSpPr>
          <p:grpSp>
            <p:nvGrpSpPr>
              <p:cNvPr id="68" name="Group 89"/>
              <p:cNvGrpSpPr/>
              <p:nvPr/>
            </p:nvGrpSpPr>
            <p:grpSpPr>
              <a:xfrm>
                <a:off x="61920" y="1547640"/>
                <a:ext cx="5049720" cy="5113440"/>
                <a:chOff x="61920" y="1547640"/>
                <a:chExt cx="5049720" cy="5113440"/>
              </a:xfrm>
            </p:grpSpPr>
            <p:sp>
              <p:nvSpPr>
                <p:cNvPr id="69" name="Rectangle 50"/>
                <p:cNvSpPr/>
                <p:nvPr/>
              </p:nvSpPr>
              <p:spPr>
                <a:xfrm>
                  <a:off x="1547640" y="1547640"/>
                  <a:ext cx="3564000" cy="5113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7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78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9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80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81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82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90"/>
              <p:cNvGrpSpPr/>
              <p:nvPr/>
            </p:nvGrpSpPr>
            <p:grpSpPr>
              <a:xfrm>
                <a:off x="61920" y="1314360"/>
                <a:ext cx="5157720" cy="5454720"/>
                <a:chOff x="61920" y="1314360"/>
                <a:chExt cx="5157720" cy="5454720"/>
              </a:xfrm>
            </p:grpSpPr>
            <p:sp>
              <p:nvSpPr>
                <p:cNvPr id="77" name="Rectangle 58"/>
                <p:cNvSpPr/>
                <p:nvPr/>
              </p:nvSpPr>
              <p:spPr>
                <a:xfrm>
                  <a:off x="1440000" y="1440000"/>
                  <a:ext cx="3779640" cy="5329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5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86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7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8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5653080" y="144000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6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5×14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439640" y="7272360"/>
              <a:ext cx="3813120" cy="86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667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12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127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43:29Z</dcterms:modified>
  <cp:revision>19</cp:revision>
  <dc:subject/>
  <dc:title>スライド 1</dc:title>
</cp:coreProperties>
</file>