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13571538" cy="10439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Img"/>
          </p:nvPr>
        </p:nvSpPr>
        <p:spPr>
          <a:xfrm>
            <a:off x="1200240" y="685440"/>
            <a:ext cx="44575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6600" spc="-1" strike="noStrike">
                <a:solidFill>
                  <a:srgbClr val="1f497d"/>
                </a:solidFill>
                <a:latin typeface="Arial"/>
              </a:rPr>
              <a:t>Click to move the slide</a:t>
            </a:r>
            <a:endParaRPr b="0" lang="en-US" sz="6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177BF-B17B-4883-B668-B3B47A8D41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13042-5E39-4738-90E4-105428F04ED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200240" y="685800"/>
            <a:ext cx="445752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122144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78600" y="5605560"/>
            <a:ext cx="122144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78600" y="56055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937560" y="56055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808160" y="24429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8938080" y="24429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78600" y="56055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4808160" y="56055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8938080" y="56055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678600" y="2442960"/>
            <a:ext cx="1221444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1221444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678600" y="416520"/>
            <a:ext cx="12214440" cy="80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78600" y="56055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78600" y="2442960"/>
            <a:ext cx="1221444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937560" y="56055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78600" y="5605560"/>
            <a:ext cx="122144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122144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678600" y="5605560"/>
            <a:ext cx="122144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78600" y="56055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937560" y="56055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08160" y="24429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8938080" y="24429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678600" y="56055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4808160" y="56055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8938080" y="56055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1221444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678600" y="416520"/>
            <a:ext cx="12214440" cy="80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78600" y="56055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937560" y="56055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78600" y="5605560"/>
            <a:ext cx="122144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hyperlink" Target="http://www.suprint.jp/studio/design_inquiry/regist.php" TargetMode="External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7"/>
          <p:cNvGrpSpPr/>
          <p:nvPr/>
        </p:nvGrpSpPr>
        <p:grpSpPr>
          <a:xfrm>
            <a:off x="1079640" y="1079640"/>
            <a:ext cx="11414160" cy="8281800"/>
            <a:chOff x="1079640" y="1079640"/>
            <a:chExt cx="11414160" cy="8281800"/>
          </a:xfrm>
        </p:grpSpPr>
        <p:sp>
          <p:nvSpPr>
            <p:cNvPr id="1" name="Line 22"/>
            <p:cNvSpPr/>
            <p:nvPr/>
          </p:nvSpPr>
          <p:spPr>
            <a:xfrm>
              <a:off x="1079640" y="1330200"/>
              <a:ext cx="114141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Line 23"/>
            <p:cNvSpPr/>
            <p:nvPr/>
          </p:nvSpPr>
          <p:spPr>
            <a:xfrm>
              <a:off x="1079640" y="1438200"/>
              <a:ext cx="114141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24"/>
            <p:cNvSpPr/>
            <p:nvPr/>
          </p:nvSpPr>
          <p:spPr>
            <a:xfrm>
              <a:off x="1079640" y="5218200"/>
              <a:ext cx="114141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Line 25"/>
            <p:cNvSpPr/>
            <p:nvPr/>
          </p:nvSpPr>
          <p:spPr>
            <a:xfrm>
              <a:off x="1079640" y="8996400"/>
              <a:ext cx="114141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Line 26"/>
            <p:cNvSpPr/>
            <p:nvPr/>
          </p:nvSpPr>
          <p:spPr>
            <a:xfrm>
              <a:off x="1079640" y="9104400"/>
              <a:ext cx="114141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Line 27"/>
            <p:cNvSpPr/>
            <p:nvPr/>
          </p:nvSpPr>
          <p:spPr>
            <a:xfrm>
              <a:off x="1330200" y="1079640"/>
              <a:ext cx="0" cy="828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28"/>
            <p:cNvSpPr/>
            <p:nvPr/>
          </p:nvSpPr>
          <p:spPr>
            <a:xfrm>
              <a:off x="1438200" y="1079640"/>
              <a:ext cx="0" cy="828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Line 29"/>
            <p:cNvSpPr/>
            <p:nvPr/>
          </p:nvSpPr>
          <p:spPr>
            <a:xfrm>
              <a:off x="6783480" y="1079640"/>
              <a:ext cx="0" cy="828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Line 30"/>
            <p:cNvSpPr/>
            <p:nvPr/>
          </p:nvSpPr>
          <p:spPr>
            <a:xfrm>
              <a:off x="12126960" y="1079640"/>
              <a:ext cx="0" cy="828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Line 31"/>
            <p:cNvSpPr/>
            <p:nvPr/>
          </p:nvSpPr>
          <p:spPr>
            <a:xfrm>
              <a:off x="12234960" y="1079640"/>
              <a:ext cx="0" cy="828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32"/>
            <p:cNvSpPr/>
            <p:nvPr/>
          </p:nvSpPr>
          <p:spPr>
            <a:xfrm>
              <a:off x="1330200" y="1330200"/>
              <a:ext cx="10906200" cy="77742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Oval 62"/>
          <p:cNvSpPr/>
          <p:nvPr/>
        </p:nvSpPr>
        <p:spPr>
          <a:xfrm>
            <a:off x="12277800" y="1025640"/>
            <a:ext cx="242640" cy="242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entury"/>
                <a:ea typeface="ＭＳ 明朝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Oval 63"/>
          <p:cNvSpPr/>
          <p:nvPr/>
        </p:nvSpPr>
        <p:spPr>
          <a:xfrm>
            <a:off x="12276000" y="9128160"/>
            <a:ext cx="243000" cy="24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entury"/>
                <a:ea typeface="ＭＳ 明朝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Text Box 21"/>
          <p:cNvSpPr/>
          <p:nvPr/>
        </p:nvSpPr>
        <p:spPr>
          <a:xfrm>
            <a:off x="1079640" y="1079640"/>
            <a:ext cx="190440" cy="190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47"/>
          <p:cNvGrpSpPr/>
          <p:nvPr/>
        </p:nvGrpSpPr>
        <p:grpSpPr>
          <a:xfrm>
            <a:off x="1079640" y="1079640"/>
            <a:ext cx="11414160" cy="8281800"/>
            <a:chOff x="1079640" y="1079640"/>
            <a:chExt cx="11414160" cy="8281800"/>
          </a:xfrm>
        </p:grpSpPr>
        <p:sp>
          <p:nvSpPr>
            <p:cNvPr id="52" name="Line 22"/>
            <p:cNvSpPr/>
            <p:nvPr/>
          </p:nvSpPr>
          <p:spPr>
            <a:xfrm>
              <a:off x="1079640" y="1330200"/>
              <a:ext cx="114141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Line 23"/>
            <p:cNvSpPr/>
            <p:nvPr/>
          </p:nvSpPr>
          <p:spPr>
            <a:xfrm>
              <a:off x="1079640" y="1438200"/>
              <a:ext cx="114141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Line 24"/>
            <p:cNvSpPr/>
            <p:nvPr/>
          </p:nvSpPr>
          <p:spPr>
            <a:xfrm>
              <a:off x="1079640" y="5218200"/>
              <a:ext cx="114141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Line 25"/>
            <p:cNvSpPr/>
            <p:nvPr/>
          </p:nvSpPr>
          <p:spPr>
            <a:xfrm>
              <a:off x="1079640" y="8996400"/>
              <a:ext cx="114141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26"/>
            <p:cNvSpPr/>
            <p:nvPr/>
          </p:nvSpPr>
          <p:spPr>
            <a:xfrm>
              <a:off x="1079640" y="9104400"/>
              <a:ext cx="114141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Line 27"/>
            <p:cNvSpPr/>
            <p:nvPr/>
          </p:nvSpPr>
          <p:spPr>
            <a:xfrm>
              <a:off x="1330200" y="1079640"/>
              <a:ext cx="0" cy="828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28"/>
            <p:cNvSpPr/>
            <p:nvPr/>
          </p:nvSpPr>
          <p:spPr>
            <a:xfrm>
              <a:off x="1438200" y="1079640"/>
              <a:ext cx="0" cy="828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Line 29"/>
            <p:cNvSpPr/>
            <p:nvPr/>
          </p:nvSpPr>
          <p:spPr>
            <a:xfrm>
              <a:off x="6783480" y="1079640"/>
              <a:ext cx="0" cy="828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Line 30"/>
            <p:cNvSpPr/>
            <p:nvPr/>
          </p:nvSpPr>
          <p:spPr>
            <a:xfrm>
              <a:off x="12126960" y="1079640"/>
              <a:ext cx="0" cy="828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Line 31"/>
            <p:cNvSpPr/>
            <p:nvPr/>
          </p:nvSpPr>
          <p:spPr>
            <a:xfrm>
              <a:off x="12234960" y="1079640"/>
              <a:ext cx="0" cy="828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32"/>
            <p:cNvSpPr/>
            <p:nvPr/>
          </p:nvSpPr>
          <p:spPr>
            <a:xfrm>
              <a:off x="1330200" y="1330200"/>
              <a:ext cx="10906200" cy="77742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Oval 62"/>
          <p:cNvSpPr/>
          <p:nvPr/>
        </p:nvSpPr>
        <p:spPr>
          <a:xfrm>
            <a:off x="12277800" y="1025640"/>
            <a:ext cx="242640" cy="242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entury"/>
                <a:ea typeface="ＭＳ 明朝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63"/>
          <p:cNvSpPr/>
          <p:nvPr/>
        </p:nvSpPr>
        <p:spPr>
          <a:xfrm>
            <a:off x="12276000" y="9128160"/>
            <a:ext cx="243000" cy="24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entury"/>
                <a:ea typeface="ＭＳ 明朝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1"/>
          <p:cNvSpPr/>
          <p:nvPr/>
        </p:nvSpPr>
        <p:spPr>
          <a:xfrm>
            <a:off x="1079640" y="1079640"/>
            <a:ext cx="190440" cy="190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グループ化 16"/>
          <p:cNvGrpSpPr/>
          <p:nvPr/>
        </p:nvGrpSpPr>
        <p:grpSpPr>
          <a:xfrm>
            <a:off x="54000" y="54000"/>
            <a:ext cx="12077640" cy="8947080"/>
            <a:chOff x="54000" y="54000"/>
            <a:chExt cx="12077640" cy="8947080"/>
          </a:xfrm>
        </p:grpSpPr>
        <p:grpSp>
          <p:nvGrpSpPr>
            <p:cNvPr id="67" name="Group 46"/>
            <p:cNvGrpSpPr/>
            <p:nvPr/>
          </p:nvGrpSpPr>
          <p:grpSpPr>
            <a:xfrm>
              <a:off x="54000" y="54000"/>
              <a:ext cx="12077640" cy="8947080"/>
              <a:chOff x="54000" y="54000"/>
              <a:chExt cx="12077640" cy="8947080"/>
            </a:xfrm>
          </p:grpSpPr>
          <p:grpSp>
            <p:nvGrpSpPr>
              <p:cNvPr id="68" name="Group 64"/>
              <p:cNvGrpSpPr/>
              <p:nvPr/>
            </p:nvGrpSpPr>
            <p:grpSpPr>
              <a:xfrm>
                <a:off x="71280" y="2925720"/>
                <a:ext cx="1260720" cy="539640"/>
                <a:chOff x="71280" y="2925720"/>
                <a:chExt cx="1260720" cy="539640"/>
              </a:xfrm>
            </p:grpSpPr>
            <p:sp>
              <p:nvSpPr>
                <p:cNvPr id="69" name="Line 65"/>
                <p:cNvSpPr/>
                <p:nvPr/>
              </p:nvSpPr>
              <p:spPr>
                <a:xfrm>
                  <a:off x="881280" y="3195720"/>
                  <a:ext cx="45072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Text Box 66"/>
                <p:cNvSpPr/>
                <p:nvPr/>
              </p:nvSpPr>
              <p:spPr>
                <a:xfrm>
                  <a:off x="71280" y="2925720"/>
                  <a:ext cx="936720" cy="539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1803240"/>
                      <a:tab algn="l" pos="3606840"/>
                      <a:tab algn="l" pos="5410080"/>
                      <a:tab algn="l" pos="7213680"/>
                      <a:tab algn="l" pos="9016920"/>
                      <a:tab algn="l" pos="10820520"/>
                    </a:tabLst>
                  </a:pPr>
                  <a:r>
                    <a:rPr b="1" lang="ja-JP" sz="1000" spc="-1" strike="noStrike">
                      <a:solidFill>
                        <a:srgbClr val="ff0000"/>
                      </a:solidFill>
                      <a:latin typeface="Century"/>
                      <a:ea typeface="ＭＳ 明朝"/>
                    </a:rPr>
                    <a:t>フチ無印刷</a:t>
                  </a:r>
                  <a:r>
                    <a:rPr b="0" lang="ja-JP" sz="1000" spc="-1" strike="noStrike">
                      <a:solidFill>
                        <a:srgbClr val="000000"/>
                      </a:solidFill>
                      <a:latin typeface="Century"/>
                      <a:ea typeface="ＭＳ 明朝"/>
                    </a:rPr>
                    <a:t>は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1803240"/>
                      <a:tab algn="l" pos="3606840"/>
                      <a:tab algn="l" pos="5410080"/>
                      <a:tab algn="l" pos="7213680"/>
                      <a:tab algn="l" pos="9016920"/>
                      <a:tab algn="l" pos="10820520"/>
                    </a:tabLst>
                  </a:pPr>
                  <a:r>
                    <a:rPr b="0" lang="ja-JP" sz="1000" spc="-1" strike="noStrike">
                      <a:solidFill>
                        <a:srgbClr val="000000"/>
                      </a:solidFill>
                      <a:latin typeface="Century"/>
                      <a:ea typeface="ＭＳ 明朝"/>
                    </a:rPr>
                    <a:t>この</a:t>
                  </a:r>
                  <a:r>
                    <a:rPr b="1" lang="ja-JP" sz="1000" spc="-1" strike="noStrike">
                      <a:solidFill>
                        <a:srgbClr val="ff0000"/>
                      </a:solidFill>
                      <a:latin typeface="Century"/>
                      <a:ea typeface="ＭＳ 明朝"/>
                    </a:rPr>
                    <a:t>黒</a:t>
                  </a:r>
                  <a:r>
                    <a:rPr b="0" lang="ja-JP" sz="1000" spc="-1" strike="noStrike">
                      <a:solidFill>
                        <a:srgbClr val="000000"/>
                      </a:solidFill>
                      <a:latin typeface="Century"/>
                      <a:ea typeface="ＭＳ 明朝"/>
                    </a:rPr>
                    <a:t>い線まで伸ばす。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71" name="Picture 67" descr="ぬりたし説明"/>
              <p:cNvPicPr/>
              <p:nvPr/>
            </p:nvPicPr>
            <p:blipFill>
              <a:blip r:embed="rId2"/>
              <a:stretch/>
            </p:blipFill>
            <p:spPr>
              <a:xfrm>
                <a:off x="71280" y="3611520"/>
                <a:ext cx="1160640" cy="32004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72" name="Group 81"/>
              <p:cNvGrpSpPr/>
              <p:nvPr/>
            </p:nvGrpSpPr>
            <p:grpSpPr>
              <a:xfrm>
                <a:off x="71280" y="1547640"/>
                <a:ext cx="11952360" cy="7345440"/>
                <a:chOff x="71280" y="1547640"/>
                <a:chExt cx="11952360" cy="7345440"/>
              </a:xfrm>
            </p:grpSpPr>
            <p:sp>
              <p:nvSpPr>
                <p:cNvPr id="73" name="Rectangle 47"/>
                <p:cNvSpPr/>
                <p:nvPr/>
              </p:nvSpPr>
              <p:spPr>
                <a:xfrm>
                  <a:off x="1547640" y="1547640"/>
                  <a:ext cx="10476000" cy="7345440"/>
                </a:xfrm>
                <a:prstGeom prst="rect">
                  <a:avLst/>
                </a:prstGeom>
                <a:noFill/>
                <a:ln w="64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4160" rIns="74160" tIns="9000" bIns="9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4" name="Group 68"/>
                <p:cNvGrpSpPr/>
                <p:nvPr/>
              </p:nvGrpSpPr>
              <p:grpSpPr>
                <a:xfrm>
                  <a:off x="71280" y="2112840"/>
                  <a:ext cx="1476360" cy="684360"/>
                  <a:chOff x="71280" y="2112840"/>
                  <a:chExt cx="1476360" cy="684360"/>
                </a:xfrm>
              </p:grpSpPr>
              <p:sp>
                <p:nvSpPr>
                  <p:cNvPr id="75" name="Line 69"/>
                  <p:cNvSpPr/>
                  <p:nvPr/>
                </p:nvSpPr>
                <p:spPr>
                  <a:xfrm>
                    <a:off x="880920" y="2453760"/>
                    <a:ext cx="666720" cy="0"/>
                  </a:xfrm>
                  <a:prstGeom prst="line">
                    <a:avLst/>
                  </a:prstGeom>
                  <a:ln w="9360">
                    <a:solidFill>
                      <a:srgbClr val="00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Text Box 70"/>
                  <p:cNvSpPr/>
                  <p:nvPr/>
                </p:nvSpPr>
                <p:spPr>
                  <a:xfrm>
                    <a:off x="71280" y="2112840"/>
                    <a:ext cx="936360" cy="6843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1803240"/>
                        <a:tab algn="l" pos="3606840"/>
                        <a:tab algn="l" pos="5410080"/>
                        <a:tab algn="l" pos="7213680"/>
                        <a:tab algn="l" pos="9016920"/>
                        <a:tab algn="l" pos="10820520"/>
                      </a:tabLst>
                    </a:pPr>
                    <a:r>
                      <a:rPr b="1" lang="ja-JP" sz="1000" spc="-1" strike="noStrike">
                        <a:solidFill>
                          <a:srgbClr val="ff0000"/>
                        </a:solidFill>
                        <a:latin typeface="Century"/>
                        <a:ea typeface="ＭＳ 明朝"/>
                      </a:rPr>
                      <a:t>切れては困る物</a:t>
                    </a: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はこの</a:t>
                    </a:r>
                    <a:r>
                      <a:rPr b="1" lang="ja-JP" sz="1000" spc="-1" strike="noStrike">
                        <a:solidFill>
                          <a:srgbClr val="ff0000"/>
                        </a:solidFill>
                        <a:latin typeface="Century"/>
                        <a:ea typeface="ＭＳ 明朝"/>
                      </a:rPr>
                      <a:t>水色</a:t>
                    </a: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の線の内側に配置。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7" name="Group 80"/>
              <p:cNvGrpSpPr/>
              <p:nvPr/>
            </p:nvGrpSpPr>
            <p:grpSpPr>
              <a:xfrm>
                <a:off x="71280" y="1440000"/>
                <a:ext cx="12060360" cy="7561080"/>
                <a:chOff x="71280" y="1440000"/>
                <a:chExt cx="12060360" cy="7561080"/>
              </a:xfrm>
            </p:grpSpPr>
            <p:sp>
              <p:nvSpPr>
                <p:cNvPr id="78" name="Rectangle 55"/>
                <p:cNvSpPr/>
                <p:nvPr/>
              </p:nvSpPr>
              <p:spPr>
                <a:xfrm>
                  <a:off x="1440000" y="1440000"/>
                  <a:ext cx="10691640" cy="7561080"/>
                </a:xfrm>
                <a:prstGeom prst="rect">
                  <a:avLst/>
                </a:prstGeom>
                <a:noFill/>
                <a:ln w="64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4160" rIns="74160" tIns="9000" bIns="9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9" name="Group 71"/>
                <p:cNvGrpSpPr/>
                <p:nvPr/>
              </p:nvGrpSpPr>
              <p:grpSpPr>
                <a:xfrm>
                  <a:off x="71280" y="1440000"/>
                  <a:ext cx="1368720" cy="544320"/>
                  <a:chOff x="71280" y="1440000"/>
                  <a:chExt cx="1368720" cy="544320"/>
                </a:xfrm>
              </p:grpSpPr>
              <p:sp>
                <p:nvSpPr>
                  <p:cNvPr id="80" name="Line 72"/>
                  <p:cNvSpPr/>
                  <p:nvPr/>
                </p:nvSpPr>
                <p:spPr>
                  <a:xfrm>
                    <a:off x="881280" y="1712880"/>
                    <a:ext cx="558720" cy="0"/>
                  </a:xfrm>
                  <a:prstGeom prst="line">
                    <a:avLst/>
                  </a:prstGeom>
                  <a:ln w="9360">
                    <a:solidFill>
                      <a:srgbClr val="0000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Text Box 73"/>
                  <p:cNvSpPr/>
                  <p:nvPr/>
                </p:nvSpPr>
                <p:spPr>
                  <a:xfrm>
                    <a:off x="71280" y="1440000"/>
                    <a:ext cx="936720" cy="5443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1803240"/>
                        <a:tab algn="l" pos="3606840"/>
                        <a:tab algn="l" pos="5410080"/>
                        <a:tab algn="l" pos="7213680"/>
                        <a:tab algn="l" pos="9016920"/>
                        <a:tab algn="l" pos="10820520"/>
                      </a:tabLst>
                    </a:pP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仕上がり位置。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1803240"/>
                        <a:tab algn="l" pos="3606840"/>
                        <a:tab algn="l" pos="5410080"/>
                        <a:tab algn="l" pos="7213680"/>
                        <a:tab algn="l" pos="9016920"/>
                        <a:tab algn="l" pos="10820520"/>
                      </a:tabLst>
                    </a:pP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この</a:t>
                    </a:r>
                    <a:r>
                      <a:rPr b="1" lang="ja-JP" sz="1000" spc="-1" strike="noStrike">
                        <a:solidFill>
                          <a:srgbClr val="ff0000"/>
                        </a:solidFill>
                        <a:latin typeface="Century"/>
                        <a:ea typeface="ＭＳ 明朝"/>
                      </a:rPr>
                      <a:t>青</a:t>
                    </a: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い線でカットします。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2" name="Group 42"/>
              <p:cNvGrpSpPr/>
              <p:nvPr/>
            </p:nvGrpSpPr>
            <p:grpSpPr>
              <a:xfrm>
                <a:off x="54000" y="54000"/>
                <a:ext cx="5065560" cy="900000"/>
                <a:chOff x="54000" y="54000"/>
                <a:chExt cx="5065560" cy="900000"/>
              </a:xfrm>
            </p:grpSpPr>
            <p:sp>
              <p:nvSpPr>
                <p:cNvPr id="83" name="Rectangle 65"/>
                <p:cNvSpPr/>
                <p:nvPr/>
              </p:nvSpPr>
              <p:spPr>
                <a:xfrm>
                  <a:off x="54000" y="54000"/>
                  <a:ext cx="1332000" cy="9000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36000" rIns="36000" tIns="36000" bIns="36000" anchor="t">
                  <a:noAutofit/>
                </a:bodyPr>
                <a:p>
                  <a:pPr>
                    <a:tabLst>
                      <a:tab algn="l" pos="0"/>
                      <a:tab algn="l" pos="1803240"/>
                      <a:tab algn="l" pos="3606840"/>
                      <a:tab algn="l" pos="5410080"/>
                      <a:tab algn="l" pos="7213680"/>
                      <a:tab algn="l" pos="9016920"/>
                      <a:tab algn="l" pos="1082052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A4</a:t>
                  </a:r>
                  <a:r>
                    <a:rPr b="1" lang="ja-JP" sz="1600" spc="-1" strike="noStrike">
                      <a:solidFill>
                        <a:srgbClr val="000000"/>
                      </a:solidFill>
                      <a:latin typeface="Arial"/>
                    </a:rPr>
                    <a:t>サイズ　横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1803240"/>
                      <a:tab algn="l" pos="3606840"/>
                      <a:tab algn="l" pos="5410080"/>
                      <a:tab algn="l" pos="7213680"/>
                      <a:tab algn="l" pos="9016920"/>
                      <a:tab algn="l" pos="1082052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297×210mm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" name="Text Box 67"/>
                <p:cNvSpPr/>
                <p:nvPr/>
              </p:nvSpPr>
              <p:spPr>
                <a:xfrm>
                  <a:off x="1384200" y="54000"/>
                  <a:ext cx="3735360" cy="9000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000" rIns="36000" tIns="36000" bIns="36000" anchor="t">
                  <a:noAutofit/>
                </a:bodyPr>
                <a:p>
                  <a:pPr marL="114480" indent="-114480">
                    <a:buClr>
                      <a:srgbClr val="000000"/>
                    </a:buClr>
                    <a:buFont typeface="Arial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1" lang="ja-JP" sz="700" spc="-1" strike="noStrike">
                      <a:solidFill>
                        <a:srgbClr val="ff0000"/>
                      </a:solidFill>
                      <a:latin typeface="Arial"/>
                    </a:rPr>
                    <a:t>フチ無印刷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をご希望の場合、外側の黒い線まで背景や画像を伸ばして下さい。（左下図参照）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14480" indent="-114480">
                    <a:buClr>
                      <a:srgbClr val="000000"/>
                    </a:buClr>
                    <a:buFont typeface="Arial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切れては困る絵柄や文字等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は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、仕上り（青い四角）より</a:t>
                  </a:r>
                  <a:r>
                    <a:rPr b="1" lang="en-US" sz="700" spc="-1" strike="noStrike">
                      <a:solidFill>
                        <a:srgbClr val="ff0000"/>
                      </a:solidFill>
                      <a:latin typeface="Arial"/>
                    </a:rPr>
                    <a:t>2</a:t>
                  </a:r>
                  <a:r>
                    <a:rPr b="1" lang="ja-JP" sz="700" spc="-1" strike="noStrike">
                      <a:solidFill>
                        <a:srgbClr val="ff0000"/>
                      </a:solidFill>
                      <a:latin typeface="Arial"/>
                    </a:rPr>
                    <a:t>～</a:t>
                  </a:r>
                  <a:r>
                    <a:rPr b="1" lang="en-US" sz="700" spc="-1" strike="noStrike">
                      <a:solidFill>
                        <a:srgbClr val="ff0000"/>
                      </a:solidFill>
                      <a:latin typeface="Arial"/>
                    </a:rPr>
                    <a:t>3mm</a:t>
                  </a:r>
                  <a:r>
                    <a:rPr b="1" lang="ja-JP" sz="700" spc="-1" strike="noStrike">
                      <a:solidFill>
                        <a:srgbClr val="ff0000"/>
                      </a:solidFill>
                      <a:latin typeface="Arial"/>
                    </a:rPr>
                    <a:t>以上内側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（水色の四角の中）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に入れて作成してください。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14480" indent="-114480">
                    <a:buClr>
                      <a:srgbClr val="000000"/>
                    </a:buClr>
                    <a:buFont typeface="Arial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1" lang="ja-JP" sz="700" spc="-1" strike="noStrike">
                      <a:solidFill>
                        <a:srgbClr val="ff0000"/>
                      </a:solidFill>
                      <a:latin typeface="Arial"/>
                    </a:rPr>
                    <a:t>透過性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や</a:t>
                  </a:r>
                  <a:r>
                    <a:rPr b="1" lang="ja-JP" sz="700" spc="-1" strike="noStrike">
                      <a:solidFill>
                        <a:srgbClr val="ff0000"/>
                      </a:solidFill>
                      <a:latin typeface="Arial"/>
                    </a:rPr>
                    <a:t>半透明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、</a:t>
                  </a:r>
                  <a:r>
                    <a:rPr b="1" lang="ja-JP" sz="700" spc="-1" strike="noStrike">
                      <a:solidFill>
                        <a:srgbClr val="ff0000"/>
                      </a:solidFill>
                      <a:latin typeface="Arial"/>
                    </a:rPr>
                    <a:t>パターン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など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変換が正常に出来ない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場合があります。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14480" indent="-114480">
                    <a:buClr>
                      <a:srgbClr val="000000"/>
                    </a:buClr>
                    <a:buFont typeface="Arial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用紙サイズの変更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や、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トンボの移動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、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変形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など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なさらない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ようお願いします。　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14480" indent="-114480">
                    <a:buClr>
                      <a:srgbClr val="000000"/>
                    </a:buClr>
                    <a:buFont typeface="Arial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テンプレートを使用して</a:t>
                  </a:r>
                  <a:r>
                    <a:rPr b="0" lang="en-US" sz="700" spc="-1" strike="noStrike">
                      <a:solidFill>
                        <a:srgbClr val="000000"/>
                      </a:solidFill>
                      <a:latin typeface="Arial"/>
                    </a:rPr>
                    <a:t>PDF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を作成する際は、説明部分を削除してください。また、テンプレートと同じサイズかどうか確認してください。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85" name="Picture 45" descr="新Suprintロゴ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71280" y="557280"/>
                  <a:ext cx="543240" cy="3427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pic>
          <p:nvPicPr>
            <p:cNvPr id="86" name="図 1" descr="">
              <a:hlinkClick r:id="rId4"/>
            </p:cNvPr>
            <p:cNvPicPr/>
            <p:nvPr/>
          </p:nvPicPr>
          <p:blipFill>
            <a:blip r:embed="rId5"/>
            <a:stretch/>
          </p:blipFill>
          <p:spPr>
            <a:xfrm>
              <a:off x="5328000" y="72000"/>
              <a:ext cx="3639960" cy="828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66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6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78600" y="2442960"/>
            <a:ext cx="1221444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0">
              <a:spcBef>
                <a:spcPts val="11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1114560" indent="-42876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2" marL="17146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2401920" indent="-34308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3087720" indent="-34308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3087720" indent="-34308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3087720" indent="-34308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>suprint</dc:creator>
  <dc:description/>
  <dc:language>en-US</dc:language>
  <cp:lastModifiedBy>ugo-99</cp:lastModifiedBy>
  <dcterms:modified xsi:type="dcterms:W3CDTF">2015-08-25T02:51:38Z</dcterms:modified>
  <cp:revision>17</cp:revision>
  <dc:subject/>
  <dc:title>スライド 1</dc:title>
</cp:coreProperties>
</file>