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88F0-4867-48E4-BBEE-115B39EEE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F64D-860C-4DF0-B101-038C32A733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5843240" cy="11414160"/>
            <a:chOff x="1079640" y="1079640"/>
            <a:chExt cx="15843240" cy="1141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78348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2126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2234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89964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65546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666224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5330600" cy="1090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67"/>
          <p:cNvSpPr/>
          <p:nvPr/>
        </p:nvSpPr>
        <p:spPr>
          <a:xfrm>
            <a:off x="167054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6703640" y="12258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15843240" cy="11414160"/>
            <a:chOff x="1079640" y="1079640"/>
            <a:chExt cx="15843240" cy="11414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678348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2126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2234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89964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65546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666224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15330600" cy="1090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67"/>
          <p:cNvSpPr/>
          <p:nvPr/>
        </p:nvSpPr>
        <p:spPr>
          <a:xfrm>
            <a:off x="167054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8"/>
          <p:cNvSpPr/>
          <p:nvPr/>
        </p:nvSpPr>
        <p:spPr>
          <a:xfrm>
            <a:off x="16703640" y="12258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6506720" cy="12077640"/>
            <a:chOff x="54000" y="54000"/>
            <a:chExt cx="16506720" cy="12077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16506720" cy="12077640"/>
              <a:chOff x="54000" y="54000"/>
              <a:chExt cx="16506720" cy="12077640"/>
            </a:xfrm>
          </p:grpSpPr>
          <p:grpSp>
            <p:nvGrpSpPr>
              <p:cNvPr id="68" name="Group 69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69" name="Line 70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71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" name="Picture 7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2" name="Group 86"/>
              <p:cNvGrpSpPr/>
              <p:nvPr/>
            </p:nvGrpSpPr>
            <p:grpSpPr>
              <a:xfrm>
                <a:off x="71280" y="1547640"/>
                <a:ext cx="16381440" cy="10476000"/>
                <a:chOff x="71280" y="1547640"/>
                <a:chExt cx="16381440" cy="10476000"/>
              </a:xfrm>
            </p:grpSpPr>
            <p:sp>
              <p:nvSpPr>
                <p:cNvPr id="73" name="Rectangle 52"/>
                <p:cNvSpPr/>
                <p:nvPr/>
              </p:nvSpPr>
              <p:spPr>
                <a:xfrm>
                  <a:off x="1547640" y="1547640"/>
                  <a:ext cx="14905080" cy="10476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Group 73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75" name="Line 74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75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Group 85"/>
              <p:cNvGrpSpPr/>
              <p:nvPr/>
            </p:nvGrpSpPr>
            <p:grpSpPr>
              <a:xfrm>
                <a:off x="71280" y="1440000"/>
                <a:ext cx="16489440" cy="10691640"/>
                <a:chOff x="71280" y="1440000"/>
                <a:chExt cx="16489440" cy="10691640"/>
              </a:xfrm>
            </p:grpSpPr>
            <p:sp>
              <p:nvSpPr>
                <p:cNvPr id="78" name="Rectangle 60"/>
                <p:cNvSpPr/>
                <p:nvPr/>
              </p:nvSpPr>
              <p:spPr>
                <a:xfrm>
                  <a:off x="1440000" y="1440000"/>
                  <a:ext cx="15120720" cy="10691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6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80" name="Line 77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8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20×29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7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28000" y="72000"/>
              <a:ext cx="3639960" cy="8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55:12Z</dcterms:modified>
  <cp:revision>20</cp:revision>
  <dc:subject/>
  <dc:title>スライド 1</dc:title>
</cp:coreProperties>
</file>