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561-4A2E-410C-9938-BCD3F122C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289-748C-4F61-B00C-E8FB069F8C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11414160" cy="15843240"/>
            <a:chOff x="1079640" y="1079640"/>
            <a:chExt cx="11414160" cy="1584324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65546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666224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2"/>
            <p:cNvSpPr/>
            <p:nvPr/>
          </p:nvSpPr>
          <p:spPr>
            <a:xfrm>
              <a:off x="12126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3"/>
            <p:cNvSpPr/>
            <p:nvPr/>
          </p:nvSpPr>
          <p:spPr>
            <a:xfrm>
              <a:off x="12234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1330200" y="1330200"/>
              <a:ext cx="10904760" cy="15330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Object 88"/>
            <p:cNvGraphicFramePr/>
            <p:nvPr/>
          </p:nvGraphicFramePr>
          <p:xfrm>
            <a:off x="2263680" y="5981760"/>
            <a:ext cx="9043920" cy="60404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" name="Object 8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63680" y="5981760"/>
                      <a:ext cx="9043920" cy="60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Oval 73"/>
          <p:cNvSpPr/>
          <p:nvPr/>
        </p:nvSpPr>
        <p:spPr>
          <a:xfrm>
            <a:off x="1225872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74"/>
          <p:cNvSpPr/>
          <p:nvPr/>
        </p:nvSpPr>
        <p:spPr>
          <a:xfrm>
            <a:off x="12256920" y="167054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079640" y="1079640"/>
            <a:ext cx="11414160" cy="15843240"/>
            <a:chOff x="1079640" y="1079640"/>
            <a:chExt cx="11414160" cy="15843240"/>
          </a:xfrm>
        </p:grpSpPr>
        <p:sp>
          <p:nvSpPr>
            <p:cNvPr id="53" name="Line 24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1079640" y="165546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1079640" y="1666224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9"/>
            <p:cNvSpPr/>
            <p:nvPr/>
          </p:nvSpPr>
          <p:spPr>
            <a:xfrm>
              <a:off x="1330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>
              <a:off x="1438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2126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2234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0904760" cy="15330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" name="Object 88"/>
            <p:cNvGraphicFramePr/>
            <p:nvPr/>
          </p:nvGraphicFramePr>
          <p:xfrm>
            <a:off x="2263680" y="5981760"/>
            <a:ext cx="9043920" cy="60404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4" name="Object 8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63680" y="5981760"/>
                      <a:ext cx="9043920" cy="60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Oval 73"/>
          <p:cNvSpPr/>
          <p:nvPr/>
        </p:nvSpPr>
        <p:spPr>
          <a:xfrm>
            <a:off x="1225872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4"/>
          <p:cNvSpPr/>
          <p:nvPr/>
        </p:nvSpPr>
        <p:spPr>
          <a:xfrm>
            <a:off x="12256920" y="167054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グループ化 16"/>
          <p:cNvGrpSpPr/>
          <p:nvPr/>
        </p:nvGrpSpPr>
        <p:grpSpPr>
          <a:xfrm>
            <a:off x="54000" y="54000"/>
            <a:ext cx="12077640" cy="16506720"/>
            <a:chOff x="54000" y="54000"/>
            <a:chExt cx="12077640" cy="16506720"/>
          </a:xfrm>
        </p:grpSpPr>
        <p:pic>
          <p:nvPicPr>
            <p:cNvPr id="69" name="図 17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48"/>
            <p:cNvGrpSpPr/>
            <p:nvPr/>
          </p:nvGrpSpPr>
          <p:grpSpPr>
            <a:xfrm>
              <a:off x="54000" y="54000"/>
              <a:ext cx="12077640" cy="16506720"/>
              <a:chOff x="54000" y="54000"/>
              <a:chExt cx="12077640" cy="16506720"/>
            </a:xfrm>
          </p:grpSpPr>
          <p:grpSp>
            <p:nvGrpSpPr>
              <p:cNvPr id="71" name="Group 66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72" name="Line 67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Text Box 68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" name="Picture 72" descr="ぬりたし説明"/>
              <p:cNvPicPr/>
              <p:nvPr/>
            </p:nvPicPr>
            <p:blipFill>
              <a:blip r:embed="rId6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 131"/>
              <p:cNvGrpSpPr/>
              <p:nvPr/>
            </p:nvGrpSpPr>
            <p:grpSpPr>
              <a:xfrm>
                <a:off x="71280" y="1547640"/>
                <a:ext cx="11952360" cy="14905080"/>
                <a:chOff x="71280" y="1547640"/>
                <a:chExt cx="11952360" cy="14905080"/>
              </a:xfrm>
            </p:grpSpPr>
            <p:sp>
              <p:nvSpPr>
                <p:cNvPr id="76" name="Rectangle 48"/>
                <p:cNvSpPr/>
                <p:nvPr/>
              </p:nvSpPr>
              <p:spPr>
                <a:xfrm>
                  <a:off x="1547640" y="1547640"/>
                  <a:ext cx="10476000" cy="149050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6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8" name="Line 6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6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130"/>
              <p:cNvGrpSpPr/>
              <p:nvPr/>
            </p:nvGrpSpPr>
            <p:grpSpPr>
              <a:xfrm>
                <a:off x="71280" y="1440000"/>
                <a:ext cx="12060360" cy="15120720"/>
                <a:chOff x="71280" y="1440000"/>
                <a:chExt cx="12060360" cy="15120720"/>
              </a:xfrm>
            </p:grpSpPr>
            <p:sp>
              <p:nvSpPr>
                <p:cNvPr id="81" name="Rectangle 56"/>
                <p:cNvSpPr/>
                <p:nvPr/>
              </p:nvSpPr>
              <p:spPr>
                <a:xfrm>
                  <a:off x="1440000" y="1440000"/>
                  <a:ext cx="10691640" cy="151207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69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83" name="Line 70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Text Box 71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4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97×42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" name="Picture 47" descr="新Suprintロゴ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634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lvl="2" marL="2254320" indent="-451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3157560" indent="-4507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4059360" indent="-4510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3:51Z</dcterms:modified>
  <cp:revision>18</cp:revision>
  <dc:subject/>
  <dc:title>スライド 1</dc:title>
</cp:coreProperties>
</file>