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52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54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0026720" cy="13338000"/>
            <a:chOff x="54000" y="54000"/>
            <a:chExt cx="10026720" cy="13338000"/>
          </a:xfrm>
        </p:grpSpPr>
        <p:pic>
          <p:nvPicPr>
            <p:cNvPr id="67" name="図 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1836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13"/>
            <p:cNvGrpSpPr/>
            <p:nvPr/>
          </p:nvGrpSpPr>
          <p:grpSpPr>
            <a:xfrm>
              <a:off x="54000" y="54000"/>
              <a:ext cx="10026720" cy="13338000"/>
              <a:chOff x="54000" y="54000"/>
              <a:chExt cx="10026720" cy="13338000"/>
            </a:xfrm>
          </p:grpSpPr>
          <p:grpSp>
            <p:nvGrpSpPr>
              <p:cNvPr id="69" name="Group 97"/>
              <p:cNvGrpSpPr/>
              <p:nvPr/>
            </p:nvGrpSpPr>
            <p:grpSpPr>
              <a:xfrm>
                <a:off x="61920" y="1798560"/>
                <a:ext cx="9653760" cy="11228400"/>
                <a:chOff x="61920" y="1798560"/>
                <a:chExt cx="9653760" cy="11228400"/>
              </a:xfrm>
            </p:grpSpPr>
            <p:sp>
              <p:nvSpPr>
                <p:cNvPr id="70" name="Rectangle 72"/>
                <p:cNvSpPr/>
                <p:nvPr/>
              </p:nvSpPr>
              <p:spPr>
                <a:xfrm>
                  <a:off x="1798560" y="1798560"/>
                  <a:ext cx="7917120" cy="1122840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1504800"/>
                      <a:tab algn="l" pos="3009960"/>
                      <a:tab algn="l" pos="4514760"/>
                      <a:tab algn="l" pos="6019920"/>
                      <a:tab algn="l" pos="7524720"/>
                      <a:tab algn="l" pos="9029880"/>
                      <a:tab algn="l" pos="1053468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87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内側に作成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4" name="Picture 10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8200" y="1438200"/>
                <a:ext cx="8637840" cy="1174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" name="Group 98"/>
              <p:cNvGrpSpPr/>
              <p:nvPr/>
            </p:nvGrpSpPr>
            <p:grpSpPr>
              <a:xfrm>
                <a:off x="61920" y="1314360"/>
                <a:ext cx="10018800" cy="12077640"/>
                <a:chOff x="61920" y="1314360"/>
                <a:chExt cx="10018800" cy="12077640"/>
              </a:xfrm>
            </p:grpSpPr>
            <p:sp>
              <p:nvSpPr>
                <p:cNvPr id="76" name="Rectangle 52"/>
                <p:cNvSpPr/>
                <p:nvPr/>
              </p:nvSpPr>
              <p:spPr>
                <a:xfrm>
                  <a:off x="1440000" y="1441440"/>
                  <a:ext cx="8640720" cy="11950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8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で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106"/>
              <p:cNvGrpSpPr/>
              <p:nvPr/>
            </p:nvGrpSpPr>
            <p:grpSpPr>
              <a:xfrm>
                <a:off x="54000" y="54000"/>
                <a:ext cx="6137280" cy="900000"/>
                <a:chOff x="54000" y="54000"/>
                <a:chExt cx="6137280" cy="900000"/>
              </a:xfrm>
            </p:grpSpPr>
            <p:sp>
              <p:nvSpPr>
                <p:cNvPr id="81" name="Text Box 67"/>
                <p:cNvSpPr/>
                <p:nvPr/>
              </p:nvSpPr>
              <p:spPr>
                <a:xfrm>
                  <a:off x="151272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と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ベロ（フタ）部分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は印刷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水色の線の内側に作成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貼り合わせ部分（下図の灰色の点線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かかるベタや、広い面積で色をつけた場合など、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色の濃淡で作成してください。色の掛け合わせは使用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正常に変換ができ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説明用の枠などは削除してください。（削除の仕方は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でご確認いただけます。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を作成する際は、テンプレートと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が作成されている事をご確認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109"/>
                <p:cNvGrpSpPr/>
                <p:nvPr/>
              </p:nvGrpSpPr>
              <p:grpSpPr>
                <a:xfrm>
                  <a:off x="54000" y="54000"/>
                  <a:ext cx="1332000" cy="900000"/>
                  <a:chOff x="54000" y="54000"/>
                  <a:chExt cx="1332000" cy="900000"/>
                </a:xfrm>
              </p:grpSpPr>
              <p:sp>
                <p:nvSpPr>
                  <p:cNvPr id="83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lnSpc>
                        <a:spcPts val="1397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角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封筒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ts val="1199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200" spc="-1" strike="noStrike">
                        <a:solidFill>
                          <a:srgbClr val="000000"/>
                        </a:solidFill>
                        <a:latin typeface="Arial"/>
                      </a:rPr>
                      <a:t>サイド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ts val="1199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40×332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4" name="Picture 111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0" y="556920"/>
                    <a:ext cx="542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A19-205</cp:lastModifiedBy>
  <dcterms:modified xsi:type="dcterms:W3CDTF">2021-08-30T20:54:09Z</dcterms:modified>
  <cp:revision>18</cp:revision>
  <dc:subject/>
  <dc:title>スライド 1</dc:title>
</cp:coreProperties>
</file>